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BA7-2A85-4DAB-B0D4-1A2036A4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1AB-0BC7-4A6D-80D6-7DE3157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33B-553C-47B7-B4BA-8F124CD3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F67-6CF1-4D41-AB93-F52B3C7F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1D6-E0B6-44AD-813D-39C4431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6CD-64B4-463C-A3F4-8CE4B58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1C8-335A-4FAA-830F-551097EB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7D-95DD-4913-82BB-E767B3B6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09C-DC8E-4BD0-BDEB-A0C5D0EA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FC1-B9EC-4904-B129-70ED70F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264-3B36-4BA2-879A-D19988C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AF5-BA3B-40BC-B507-FC256B5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1B11-5B19-4709-994C-F1BF48C3B92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31320" y="1440"/>
            <a:ext cx="1777680" cy="23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5120" y="3885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resentação baseada no livro “Análise gerencial de custos: aplicação em empresas modernas”, de Antonio Cezar B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Empresa Mode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o Ambiente Competi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440" y="3428640"/>
            <a:ext cx="4267080" cy="26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a Econ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erta &gt; Proc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6640" y="2895480"/>
          <a:ext cx="419256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2895480"/>
                    <a:ext cx="419256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05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ção acir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ços ditados pelo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tividade e Qualid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05520" y="3429000"/>
          <a:ext cx="46051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429000"/>
                    <a:ext cx="46051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resas Moderna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6781680" cy="318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horia Contínua e Eliminação de Desperdí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es de Produção Peque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xos Est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o Contínuo de Mater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543800" y="2895480"/>
          <a:ext cx="189540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895480"/>
                    <a:ext cx="18954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balho x Desperd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817640"/>
            <a:ext cx="89154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Efetivo - valor real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Adicional - valor empresarial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 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perdício - sem valor adi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balho x Desperd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2517840"/>
          <a:ext cx="533376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7840"/>
                    <a:ext cx="533376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4711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perdícios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(7 Perd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647960" cy="38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produ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tos defeituo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teria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4120" y="2971800"/>
          <a:ext cx="45720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4572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4T21:02:30Z</dcterms:created>
  <dc:creator>Adrian C. Ferreira</dc:creator>
  <dc:description/>
  <dc:language>en-US</dc:language>
  <cp:lastModifiedBy>Cezar</cp:lastModifiedBy>
  <dcterms:modified xsi:type="dcterms:W3CDTF">2009-03-13T13:21:45Z</dcterms:modified>
  <cp:revision>53</cp:revision>
  <dc:subject/>
  <dc:title>No Slide Title</dc:title>
</cp:coreProperties>
</file>