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CEC6-E2C6-4F72-9B24-9369B3608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81A4-43E3-4583-A53D-9DD72873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72C4-0D67-4D98-84DD-373E1C5C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947D-0FD8-4DD3-BF7E-80B013B9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09D4-5B0C-4FDD-A375-F10EB434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D014-70AE-43FD-B466-CC846EB9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3870-52C8-4E3E-86E8-83D7FF0A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7F14-9FF1-48BF-9F76-FF59101B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E779-2346-42DC-9A1F-10233971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A7EC-554E-4E70-B4ED-3079EA60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8F53-28BD-4BF6-923E-14189A8A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50FB-87A1-4E23-98E0-FEDCD34D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CC71-26CF-4E25-802B-3A30FA93A26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31320" y="1440"/>
            <a:ext cx="1777680" cy="237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5120" y="3885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presentação baseada no livro “Análise gerencial de custos: aplicação em empresas modernas”, de Antonio Cezar Bor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or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868400" y="3352680"/>
            <a:ext cx="1536840" cy="617760"/>
            <a:chOff x="1868400" y="3352680"/>
            <a:chExt cx="1536840" cy="617760"/>
          </a:xfrm>
        </p:grpSpPr>
        <p:sp>
          <p:nvSpPr>
            <p:cNvPr id="89" name=""/>
            <p:cNvSpPr/>
            <p:nvPr/>
          </p:nvSpPr>
          <p:spPr>
            <a:xfrm>
              <a:off x="2004480" y="3394080"/>
              <a:ext cx="14007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Ganh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68400" y="33526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868400" y="5257800"/>
            <a:ext cx="4223160" cy="617400"/>
            <a:chOff x="1868400" y="5257800"/>
            <a:chExt cx="4223160" cy="617400"/>
          </a:xfrm>
        </p:grpSpPr>
        <p:sp>
          <p:nvSpPr>
            <p:cNvPr id="92" name=""/>
            <p:cNvSpPr/>
            <p:nvPr/>
          </p:nvSpPr>
          <p:spPr>
            <a:xfrm>
              <a:off x="2002680" y="5298840"/>
              <a:ext cx="4088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espesa Operacion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868400" y="52578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868400" y="4267080"/>
            <a:ext cx="2100600" cy="617760"/>
            <a:chOff x="1868400" y="4267080"/>
            <a:chExt cx="2100600" cy="617760"/>
          </a:xfrm>
        </p:grpSpPr>
        <p:sp>
          <p:nvSpPr>
            <p:cNvPr id="95" name=""/>
            <p:cNvSpPr/>
            <p:nvPr/>
          </p:nvSpPr>
          <p:spPr>
            <a:xfrm>
              <a:off x="2004480" y="4308480"/>
              <a:ext cx="1964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nventári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68400" y="42670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095880" y="4191120"/>
            <a:ext cx="2973240" cy="617400"/>
            <a:chOff x="6095880" y="4191120"/>
            <a:chExt cx="2973240" cy="617400"/>
          </a:xfrm>
        </p:grpSpPr>
        <p:sp>
          <p:nvSpPr>
            <p:cNvPr id="98" name=""/>
            <p:cNvSpPr/>
            <p:nvPr/>
          </p:nvSpPr>
          <p:spPr>
            <a:xfrm>
              <a:off x="6095880" y="4565520"/>
              <a:ext cx="1143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871040" y="4232160"/>
              <a:ext cx="1198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Lucr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34240" y="419112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763560" y="3352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560" y="4267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35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880" y="2362320"/>
            <a:ext cx="10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O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590400"/>
            <a:ext cx="602136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2819160"/>
            <a:ext cx="891540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 gerente quer aumentar o lucro da empr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ão há possibilidade de aumentar as ven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ão há possibilidade de redução da despesa oper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ntário excessivamente alto (3 meses) sem necessid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21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2680" y="837720"/>
            <a:ext cx="5789520" cy="10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2742840"/>
            <a:ext cx="8915400" cy="338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pender por 2 meses as compras e a produ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ão há redução da despesa operacional, pois sairia mais caro pagar indenizações e recontratar (e treinar) novos funcioná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5792760" cy="10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3048120"/>
            <a:ext cx="8915400" cy="307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das e serviços ao consumidor não foram prejudicados, não houve investimento e o inventário de material em processo e produtos acabados diminui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2320" y="590400"/>
            <a:ext cx="556092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pen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410080" y="3048120"/>
            <a:ext cx="419112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 os custos fixos são agregados ao estoque, o lucro contábil do período vai decrescer consideravel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82680" y="2590920"/>
            <a:ext cx="4798440" cy="3431520"/>
            <a:chOff x="382680" y="2590920"/>
            <a:chExt cx="4798440" cy="3431520"/>
          </a:xfrm>
        </p:grpSpPr>
        <p:graphicFrame>
          <p:nvGraphicFramePr>
            <p:cNvPr id="114" name=""/>
            <p:cNvGraphicFramePr/>
            <p:nvPr/>
          </p:nvGraphicFramePr>
          <p:xfrm>
            <a:off x="561600" y="2590920"/>
            <a:ext cx="4322160" cy="3431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1600" y="2590920"/>
                      <a:ext cx="4322160" cy="343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6" name=""/>
            <p:cNvSpPr/>
            <p:nvPr/>
          </p:nvSpPr>
          <p:spPr>
            <a:xfrm>
              <a:off x="427320" y="2906640"/>
              <a:ext cx="4753800" cy="2706120"/>
            </a:xfrm>
            <a:prstGeom prst="line">
              <a:avLst/>
            </a:prstGeom>
            <a:ln w="7632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82680" y="2770560"/>
              <a:ext cx="4753800" cy="2886840"/>
            </a:xfrm>
            <a:prstGeom prst="line">
              <a:avLst/>
            </a:prstGeom>
            <a:ln w="7632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9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 flipH="1">
            <a:off x="304920" y="609480"/>
            <a:ext cx="7315200" cy="2971800"/>
          </a:xfrm>
          <a:custGeom>
            <a:avLst/>
            <a:gdLst>
              <a:gd name="textAreaLeft" fmla="*/ 270720 w 7315200"/>
              <a:gd name="textAreaRight" fmla="*/ 7044480 w 7315200"/>
              <a:gd name="textAreaTop" fmla="*/ 109800 h 2971800"/>
              <a:gd name="textAreaBottom" fmla="*/ 2373480 h 29718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effe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4880" y="838080"/>
            <a:ext cx="662472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ga-me como me mede e lhe direi como me comportarei. Se me medir de maneira ilógica... não se queixe de comportamento ilógic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4495680"/>
            <a:ext cx="1685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oldrat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035840" y="2738520"/>
          <a:ext cx="2463840" cy="35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5840" y="2738520"/>
                    <a:ext cx="2463840" cy="35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7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7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404640"/>
            <a:ext cx="781992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 Passos para a Focalização de Probl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2320" y="2057400"/>
            <a:ext cx="91422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Identificar as restriçõ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do sis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Decidir como explorar a(s) restrição(õ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Subordinar tudo à decisão anter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Elevar a(s) restrição(ões) do sis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) Se, nos passos anteriores, uma restrição for quebrada, voltar ao passo 1, mas sem deixar a inércia tornar-se uma restrição do sis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9" dur="1" fill="hold"/>
                                  <p:tgtEl>
                                    <p:spTgt spid="12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5165640" y="3048120"/>
            <a:ext cx="2346480" cy="1384200"/>
            <a:chOff x="5165640" y="3048120"/>
            <a:chExt cx="2346480" cy="1384200"/>
          </a:xfrm>
        </p:grpSpPr>
        <p:grpSp>
          <p:nvGrpSpPr>
            <p:cNvPr id="126" name=""/>
            <p:cNvGrpSpPr/>
            <p:nvPr/>
          </p:nvGrpSpPr>
          <p:grpSpPr>
            <a:xfrm>
              <a:off x="5165640" y="3048120"/>
              <a:ext cx="2040120" cy="1384200"/>
              <a:chOff x="5165640" y="3048120"/>
              <a:chExt cx="2040120" cy="1384200"/>
            </a:xfrm>
          </p:grpSpPr>
          <p:sp>
            <p:nvSpPr>
              <p:cNvPr id="127" name=""/>
              <p:cNvSpPr/>
              <p:nvPr/>
            </p:nvSpPr>
            <p:spPr>
              <a:xfrm>
                <a:off x="5684760" y="3200400"/>
                <a:ext cx="1521000" cy="1012680"/>
              </a:xfrm>
              <a:prstGeom prst="rect">
                <a:avLst/>
              </a:prstGeom>
              <a:solidFill>
                <a:srgbClr val="e3ffff"/>
              </a:solidFill>
              <a:ln w="1260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32320" y="3224160"/>
                <a:ext cx="4755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bbe0e3"/>
                    </a:solidFill>
                    <a:latin typeface="Arial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165640" y="3048120"/>
                <a:ext cx="53352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5165640" y="3657600"/>
                <a:ext cx="457200" cy="77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223040" y="3733920"/>
              <a:ext cx="28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165640" y="4495680"/>
            <a:ext cx="2360520" cy="1470240"/>
            <a:chOff x="5165640" y="4495680"/>
            <a:chExt cx="2360520" cy="1470240"/>
          </a:xfrm>
        </p:grpSpPr>
        <p:grpSp>
          <p:nvGrpSpPr>
            <p:cNvPr id="133" name=""/>
            <p:cNvGrpSpPr/>
            <p:nvPr/>
          </p:nvGrpSpPr>
          <p:grpSpPr>
            <a:xfrm>
              <a:off x="5165640" y="4495680"/>
              <a:ext cx="2054160" cy="1470240"/>
              <a:chOff x="5165640" y="4495680"/>
              <a:chExt cx="2054160" cy="1470240"/>
            </a:xfrm>
          </p:grpSpPr>
          <p:sp>
            <p:nvSpPr>
              <p:cNvPr id="134" name=""/>
              <p:cNvSpPr/>
              <p:nvPr/>
            </p:nvSpPr>
            <p:spPr>
              <a:xfrm>
                <a:off x="5699160" y="4952880"/>
                <a:ext cx="1520640" cy="1013040"/>
              </a:xfrm>
              <a:prstGeom prst="rect">
                <a:avLst/>
              </a:prstGeom>
              <a:solidFill>
                <a:srgbClr val="e3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246360" y="4976640"/>
                <a:ext cx="4755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bbe0e3"/>
                    </a:solidFill>
                    <a:latin typeface="Arial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165640" y="4495680"/>
                <a:ext cx="45720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5165640" y="5410080"/>
                <a:ext cx="53352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7237440" y="5486400"/>
              <a:ext cx="28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336840" y="5334120"/>
            <a:ext cx="1787760" cy="1020600"/>
            <a:chOff x="3336840" y="5334120"/>
            <a:chExt cx="1787760" cy="1020600"/>
          </a:xfrm>
        </p:grpSpPr>
        <p:sp>
          <p:nvSpPr>
            <p:cNvPr id="140" name=""/>
            <p:cNvSpPr/>
            <p:nvPr/>
          </p:nvSpPr>
          <p:spPr>
            <a:xfrm>
              <a:off x="3605040" y="5334120"/>
              <a:ext cx="1519560" cy="1020600"/>
            </a:xfrm>
            <a:prstGeom prst="rect">
              <a:avLst/>
            </a:prstGeom>
            <a:solidFill>
              <a:srgbClr val="ffe3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98960" y="535464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0033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36840" y="5867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600200" y="5334120"/>
            <a:ext cx="1725480" cy="1020600"/>
            <a:chOff x="1600200" y="5334120"/>
            <a:chExt cx="1725480" cy="1020600"/>
          </a:xfrm>
        </p:grpSpPr>
        <p:sp>
          <p:nvSpPr>
            <p:cNvPr id="144" name=""/>
            <p:cNvSpPr/>
            <p:nvPr/>
          </p:nvSpPr>
          <p:spPr>
            <a:xfrm>
              <a:off x="1808280" y="5334120"/>
              <a:ext cx="1517400" cy="1020600"/>
            </a:xfrm>
            <a:prstGeom prst="rect">
              <a:avLst/>
            </a:prstGeom>
            <a:solidFill>
              <a:srgbClr val="e3ffe3"/>
            </a:solidFill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46120" y="535464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00200" y="586116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336840" y="3886200"/>
            <a:ext cx="1787760" cy="1020600"/>
            <a:chOff x="3336840" y="3886200"/>
            <a:chExt cx="1787760" cy="1020600"/>
          </a:xfrm>
        </p:grpSpPr>
        <p:sp>
          <p:nvSpPr>
            <p:cNvPr id="148" name=""/>
            <p:cNvSpPr/>
            <p:nvPr/>
          </p:nvSpPr>
          <p:spPr>
            <a:xfrm>
              <a:off x="3605040" y="3886200"/>
              <a:ext cx="1519560" cy="1020600"/>
            </a:xfrm>
            <a:prstGeom prst="rect">
              <a:avLst/>
            </a:prstGeom>
            <a:solidFill>
              <a:srgbClr val="feffe0"/>
            </a:soli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98600" y="3906720"/>
              <a:ext cx="47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66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36840" y="4419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600200" y="3886200"/>
            <a:ext cx="1725480" cy="1020600"/>
            <a:chOff x="1600200" y="3886200"/>
            <a:chExt cx="1725480" cy="1020600"/>
          </a:xfrm>
        </p:grpSpPr>
        <p:sp>
          <p:nvSpPr>
            <p:cNvPr id="152" name=""/>
            <p:cNvSpPr/>
            <p:nvPr/>
          </p:nvSpPr>
          <p:spPr>
            <a:xfrm>
              <a:off x="1808280" y="3886200"/>
              <a:ext cx="1517400" cy="1020600"/>
            </a:xfrm>
            <a:prstGeom prst="rect">
              <a:avLst/>
            </a:prstGeom>
            <a:solidFill>
              <a:srgbClr val="ffe3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46120" y="390672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0033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00200" y="441324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336840" y="2438280"/>
            <a:ext cx="1787760" cy="1020960"/>
            <a:chOff x="3336840" y="2438280"/>
            <a:chExt cx="1787760" cy="1020960"/>
          </a:xfrm>
        </p:grpSpPr>
        <p:sp>
          <p:nvSpPr>
            <p:cNvPr id="156" name=""/>
            <p:cNvSpPr/>
            <p:nvPr/>
          </p:nvSpPr>
          <p:spPr>
            <a:xfrm>
              <a:off x="3605040" y="2438280"/>
              <a:ext cx="1519560" cy="1020960"/>
            </a:xfrm>
            <a:prstGeom prst="rect">
              <a:avLst/>
            </a:prstGeom>
            <a:solidFill>
              <a:srgbClr val="feffe0"/>
            </a:soli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98600" y="2459160"/>
              <a:ext cx="47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66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36840" y="29718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600200" y="2438280"/>
            <a:ext cx="1725480" cy="1020960"/>
            <a:chOff x="1600200" y="2438280"/>
            <a:chExt cx="1725480" cy="1020960"/>
          </a:xfrm>
        </p:grpSpPr>
        <p:sp>
          <p:nvSpPr>
            <p:cNvPr id="160" name=""/>
            <p:cNvSpPr/>
            <p:nvPr/>
          </p:nvSpPr>
          <p:spPr>
            <a:xfrm>
              <a:off x="1808280" y="2438280"/>
              <a:ext cx="1517400" cy="1020960"/>
            </a:xfrm>
            <a:prstGeom prst="rect">
              <a:avLst/>
            </a:prstGeom>
            <a:solidFill>
              <a:srgbClr val="e3ffe3"/>
            </a:solidFill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46120" y="245916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00200" y="296532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7494480" y="2895480"/>
            <a:ext cx="1871640" cy="3357720"/>
            <a:chOff x="7494480" y="2895480"/>
            <a:chExt cx="1871640" cy="3357720"/>
          </a:xfrm>
        </p:grpSpPr>
        <p:sp>
          <p:nvSpPr>
            <p:cNvPr id="164" name=""/>
            <p:cNvSpPr/>
            <p:nvPr/>
          </p:nvSpPr>
          <p:spPr>
            <a:xfrm>
              <a:off x="7494480" y="2916360"/>
              <a:ext cx="1857600" cy="1584360"/>
            </a:xfrm>
            <a:prstGeom prst="roundRect">
              <a:avLst>
                <a:gd name="adj" fmla="val 18310"/>
              </a:avLst>
            </a:prstGeom>
            <a:solidFill>
              <a:srgbClr val="ffdca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213400" y="2895480"/>
              <a:ext cx="4863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08880" y="4668840"/>
              <a:ext cx="1857240" cy="1584360"/>
            </a:xfrm>
            <a:prstGeom prst="roundRect">
              <a:avLst>
                <a:gd name="adj" fmla="val 18310"/>
              </a:avLst>
            </a:prstGeom>
            <a:solidFill>
              <a:srgbClr val="ffdca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8160" y="4648320"/>
              <a:ext cx="536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2680" y="438120"/>
            <a:ext cx="57132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04920" y="2286000"/>
            <a:ext cx="1405440" cy="1282680"/>
            <a:chOff x="304920" y="2286000"/>
            <a:chExt cx="1405440" cy="1282680"/>
          </a:xfrm>
        </p:grpSpPr>
        <p:sp>
          <p:nvSpPr>
            <p:cNvPr id="170" name=""/>
            <p:cNvSpPr/>
            <p:nvPr/>
          </p:nvSpPr>
          <p:spPr>
            <a:xfrm>
              <a:off x="304920" y="2286000"/>
              <a:ext cx="1280880" cy="1282680"/>
            </a:xfrm>
            <a:prstGeom prst="ellipse">
              <a:avLst/>
            </a:prstGeom>
            <a:solidFill>
              <a:srgbClr val="fef1d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9720" y="2327400"/>
              <a:ext cx="7909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1200" y="2851200"/>
              <a:ext cx="137916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$200/u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04920" y="5181480"/>
            <a:ext cx="1405440" cy="1282680"/>
            <a:chOff x="304920" y="5181480"/>
            <a:chExt cx="1405440" cy="1282680"/>
          </a:xfrm>
        </p:grpSpPr>
        <p:sp>
          <p:nvSpPr>
            <p:cNvPr id="174" name=""/>
            <p:cNvSpPr/>
            <p:nvPr/>
          </p:nvSpPr>
          <p:spPr>
            <a:xfrm>
              <a:off x="304920" y="5181480"/>
              <a:ext cx="1280880" cy="1282680"/>
            </a:xfrm>
            <a:prstGeom prst="ellipse">
              <a:avLst/>
            </a:prstGeom>
            <a:solidFill>
              <a:srgbClr val="fef1d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9720" y="5222880"/>
              <a:ext cx="7909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1200" y="5746680"/>
              <a:ext cx="137916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$200/u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04920" y="3733920"/>
            <a:ext cx="1405440" cy="1282680"/>
            <a:chOff x="304920" y="3733920"/>
            <a:chExt cx="1405440" cy="1282680"/>
          </a:xfrm>
        </p:grpSpPr>
        <p:sp>
          <p:nvSpPr>
            <p:cNvPr id="178" name=""/>
            <p:cNvSpPr/>
            <p:nvPr/>
          </p:nvSpPr>
          <p:spPr>
            <a:xfrm>
              <a:off x="304920" y="3733920"/>
              <a:ext cx="1280880" cy="1282680"/>
            </a:xfrm>
            <a:prstGeom prst="ellipse">
              <a:avLst/>
            </a:prstGeom>
            <a:solidFill>
              <a:srgbClr val="fef1d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39720" y="3774960"/>
              <a:ext cx="7909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1200" y="4299120"/>
              <a:ext cx="137916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$200/u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735920" y="2906640"/>
            <a:ext cx="163548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 min/u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35920" y="5802480"/>
            <a:ext cx="163548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 min/u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35920" y="4354560"/>
            <a:ext cx="163548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 min/u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65080" y="2906640"/>
            <a:ext cx="172692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,5 min/u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64720" y="5802480"/>
            <a:ext cx="163548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 min/u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65080" y="4354560"/>
            <a:ext cx="172692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 min/u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22840" y="3747960"/>
            <a:ext cx="163548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 min/u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79160" y="3422520"/>
            <a:ext cx="16628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$ 850/u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52000" y="3924360"/>
            <a:ext cx="201024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0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/mê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2840" y="5500800"/>
            <a:ext cx="145080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 min/u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16880" y="5175360"/>
            <a:ext cx="18745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$ 1000/u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42720" y="5676840"/>
            <a:ext cx="201024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5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/mê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1523880"/>
            <a:ext cx="7315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dade dos postos: 100000 min/mê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4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4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95000" y="2203560"/>
            <a:ext cx="8915400" cy="392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 é o lucro máximo que esta empresa consegue obter mensalm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: Despesa operacional = $ 2.800.000 / mê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6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- Utilização dos Recur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4440" y="2133720"/>
            <a:ext cx="6190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ação dos recursos (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33520" y="2895480"/>
            <a:ext cx="7472160" cy="3540960"/>
            <a:chOff x="533520" y="2895480"/>
            <a:chExt cx="7472160" cy="3540960"/>
          </a:xfrm>
        </p:grpSpPr>
        <p:graphicFrame>
          <p:nvGraphicFramePr>
            <p:cNvPr id="199" name=""/>
            <p:cNvGraphicFramePr/>
            <p:nvPr/>
          </p:nvGraphicFramePr>
          <p:xfrm>
            <a:off x="533520" y="2895480"/>
            <a:ext cx="6632280" cy="26812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895480"/>
                      <a:ext cx="6632280" cy="268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1" name=""/>
            <p:cNvSpPr/>
            <p:nvPr/>
          </p:nvSpPr>
          <p:spPr>
            <a:xfrm>
              <a:off x="614160" y="5494320"/>
              <a:ext cx="739152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BS: capacidades A, B, C = 100.000 minut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pacidade D = 90.000 minut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 flipH="1">
            <a:off x="7254720" y="4237200"/>
            <a:ext cx="1027440" cy="0"/>
          </a:xfrm>
          <a:prstGeom prst="line">
            <a:avLst/>
          </a:prstGeom>
          <a:ln w="38160">
            <a:solidFill>
              <a:srgbClr val="037c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4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4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eoria das Restriçõ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676520" y="48765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- Rentabilidade dos Produ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1337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99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strição do sistema: Operação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90680" y="2819520"/>
            <a:ext cx="7675560" cy="609480"/>
            <a:chOff x="490680" y="2819520"/>
            <a:chExt cx="7675560" cy="609480"/>
          </a:xfrm>
        </p:grpSpPr>
        <p:sp>
          <p:nvSpPr>
            <p:cNvPr id="206" name=""/>
            <p:cNvSpPr/>
            <p:nvPr/>
          </p:nvSpPr>
          <p:spPr>
            <a:xfrm>
              <a:off x="490680" y="2819520"/>
              <a:ext cx="15840" cy="60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90680" y="2819520"/>
              <a:ext cx="47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2360" y="2860560"/>
              <a:ext cx="158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2360" y="2860560"/>
              <a:ext cx="158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8200" y="2819520"/>
              <a:ext cx="2936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8200" y="2860560"/>
              <a:ext cx="29368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75080" y="2819520"/>
              <a:ext cx="49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75080" y="2860560"/>
              <a:ext cx="493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24400" y="2819520"/>
              <a:ext cx="228420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24400" y="2860560"/>
              <a:ext cx="22842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08600" y="2819520"/>
              <a:ext cx="49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08600" y="2860560"/>
              <a:ext cx="493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57920" y="2819520"/>
              <a:ext cx="225900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57920" y="2860560"/>
              <a:ext cx="22590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150400" y="2819520"/>
              <a:ext cx="15840" cy="60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116920" y="2819520"/>
              <a:ext cx="49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116920" y="2860560"/>
              <a:ext cx="158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116920" y="2860560"/>
              <a:ext cx="158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0680" y="2879640"/>
              <a:ext cx="15840" cy="48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2360" y="2879640"/>
              <a:ext cx="15840" cy="48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116920" y="2879640"/>
              <a:ext cx="15840" cy="48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150400" y="2879640"/>
              <a:ext cx="15840" cy="48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8200" y="2879640"/>
              <a:ext cx="2936880" cy="474840"/>
            </a:xfrm>
            <a:prstGeom prst="rect">
              <a:avLst/>
            </a:prstGeom>
            <a:solidFill>
              <a:srgbClr val="e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8200" y="3354480"/>
              <a:ext cx="29368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75080" y="2879640"/>
              <a:ext cx="2333520" cy="48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69840" y="2894040"/>
              <a:ext cx="1944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10000"/>
                  </a:solidFill>
                  <a:latin typeface="Arial"/>
                </a:rPr>
                <a:t>Produto 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08600" y="2879640"/>
              <a:ext cx="2308320" cy="488880"/>
            </a:xfrm>
            <a:prstGeom prst="rect">
              <a:avLst/>
            </a:prstGeom>
            <a:solidFill>
              <a:srgbClr val="e9f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69520" y="2894040"/>
              <a:ext cx="19897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10000"/>
                  </a:solidFill>
                  <a:latin typeface="Arial"/>
                </a:rPr>
                <a:t>Produto 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2360" y="3368520"/>
              <a:ext cx="1584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0680" y="3368520"/>
              <a:ext cx="1584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8200" y="3368520"/>
              <a:ext cx="293688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8200" y="3409920"/>
              <a:ext cx="29368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75080" y="3368520"/>
              <a:ext cx="4932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75080" y="3409920"/>
              <a:ext cx="493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24400" y="3368520"/>
              <a:ext cx="228420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524400" y="3409920"/>
              <a:ext cx="22842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08600" y="3368520"/>
              <a:ext cx="4932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808600" y="3409920"/>
              <a:ext cx="493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857920" y="3368520"/>
              <a:ext cx="225900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857920" y="3409920"/>
              <a:ext cx="22590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150400" y="3368520"/>
              <a:ext cx="1584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116920" y="3368520"/>
              <a:ext cx="1584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490680" y="3429000"/>
            <a:ext cx="7675560" cy="502200"/>
            <a:chOff x="490680" y="3429000"/>
            <a:chExt cx="7675560" cy="502200"/>
          </a:xfrm>
        </p:grpSpPr>
        <p:grpSp>
          <p:nvGrpSpPr>
            <p:cNvPr id="249" name=""/>
            <p:cNvGrpSpPr/>
            <p:nvPr/>
          </p:nvGrpSpPr>
          <p:grpSpPr>
            <a:xfrm>
              <a:off x="490680" y="3429000"/>
              <a:ext cx="7675560" cy="474840"/>
              <a:chOff x="490680" y="3429000"/>
              <a:chExt cx="7675560" cy="474840"/>
            </a:xfrm>
          </p:grpSpPr>
          <p:sp>
            <p:nvSpPr>
              <p:cNvPr id="250" name=""/>
              <p:cNvSpPr/>
              <p:nvPr/>
            </p:nvSpPr>
            <p:spPr>
              <a:xfrm>
                <a:off x="490680" y="3429000"/>
                <a:ext cx="15840" cy="47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22360" y="3429000"/>
                <a:ext cx="15840" cy="47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116920" y="3429000"/>
                <a:ext cx="15840" cy="47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150400" y="3429000"/>
                <a:ext cx="15840" cy="47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38200" y="3429000"/>
                <a:ext cx="2936880" cy="474840"/>
              </a:xfrm>
              <a:prstGeom prst="rect">
                <a:avLst/>
              </a:prstGeom>
              <a:solidFill>
                <a:srgbClr val="e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475080" y="3429000"/>
                <a:ext cx="2333520" cy="4748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808600" y="3429000"/>
                <a:ext cx="2308320" cy="474840"/>
              </a:xfrm>
              <a:prstGeom prst="rect">
                <a:avLst/>
              </a:prstGeom>
              <a:solidFill>
                <a:srgbClr val="e9f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2011320" y="3443400"/>
              <a:ext cx="22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34600" y="3443400"/>
              <a:ext cx="1241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850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46080" y="3443400"/>
              <a:ext cx="1466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1000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90680" y="3903840"/>
            <a:ext cx="7675560" cy="501840"/>
            <a:chOff x="490680" y="3903840"/>
            <a:chExt cx="7675560" cy="501840"/>
          </a:xfrm>
        </p:grpSpPr>
        <p:sp>
          <p:nvSpPr>
            <p:cNvPr id="261" name=""/>
            <p:cNvSpPr/>
            <p:nvPr/>
          </p:nvSpPr>
          <p:spPr>
            <a:xfrm>
              <a:off x="490680" y="3903840"/>
              <a:ext cx="15840" cy="47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2360" y="3903840"/>
              <a:ext cx="15840" cy="47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116920" y="3903840"/>
              <a:ext cx="15840" cy="47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150400" y="3903840"/>
              <a:ext cx="15840" cy="47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8200" y="3903840"/>
              <a:ext cx="2936880" cy="474480"/>
            </a:xfrm>
            <a:prstGeom prst="rect">
              <a:avLst/>
            </a:prstGeom>
            <a:solidFill>
              <a:srgbClr val="e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41480" y="391788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c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75080" y="3903840"/>
              <a:ext cx="2333520" cy="474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134600" y="3917880"/>
              <a:ext cx="1241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400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08600" y="3903840"/>
              <a:ext cx="2308320" cy="474480"/>
            </a:xfrm>
            <a:prstGeom prst="rect">
              <a:avLst/>
            </a:prstGeom>
            <a:solidFill>
              <a:srgbClr val="e9f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60560" y="3917880"/>
              <a:ext cx="1241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400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90680" y="4378320"/>
            <a:ext cx="7675560" cy="502200"/>
            <a:chOff x="490680" y="4378320"/>
            <a:chExt cx="7675560" cy="502200"/>
          </a:xfrm>
        </p:grpSpPr>
        <p:sp>
          <p:nvSpPr>
            <p:cNvPr id="272" name=""/>
            <p:cNvSpPr/>
            <p:nvPr/>
          </p:nvSpPr>
          <p:spPr>
            <a:xfrm>
              <a:off x="490680" y="4378320"/>
              <a:ext cx="15840" cy="47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2360" y="4378320"/>
              <a:ext cx="15840" cy="47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116920" y="4378320"/>
              <a:ext cx="15840" cy="47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150400" y="4378320"/>
              <a:ext cx="15840" cy="47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8200" y="4378320"/>
              <a:ext cx="2936880" cy="474840"/>
            </a:xfrm>
            <a:prstGeom prst="rect">
              <a:avLst/>
            </a:prstGeom>
            <a:solidFill>
              <a:srgbClr val="e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29440" y="4392720"/>
              <a:ext cx="1686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mc </a:t>
              </a:r>
              <a:r>
                <a:rPr b="0" i="1" lang="en-US" sz="2800" spc="-1" strike="noStrike">
                  <a:solidFill>
                    <a:srgbClr val="010000"/>
                  </a:solidFill>
                  <a:latin typeface="Arial"/>
                </a:rPr>
                <a:t>($/un.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475080" y="4378320"/>
              <a:ext cx="2333520" cy="474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34600" y="4392720"/>
              <a:ext cx="1241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450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08600" y="4378320"/>
              <a:ext cx="2308320" cy="474840"/>
            </a:xfrm>
            <a:prstGeom prst="rect">
              <a:avLst/>
            </a:prstGeom>
            <a:solidFill>
              <a:srgbClr val="e9f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60560" y="4392720"/>
              <a:ext cx="1241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600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0680" y="4853160"/>
            <a:ext cx="7675560" cy="501840"/>
            <a:chOff x="490680" y="4853160"/>
            <a:chExt cx="7675560" cy="501840"/>
          </a:xfrm>
        </p:grpSpPr>
        <p:sp>
          <p:nvSpPr>
            <p:cNvPr id="283" name=""/>
            <p:cNvSpPr/>
            <p:nvPr/>
          </p:nvSpPr>
          <p:spPr>
            <a:xfrm>
              <a:off x="490680" y="4853160"/>
              <a:ext cx="15840" cy="47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2360" y="4853160"/>
              <a:ext cx="15840" cy="47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116920" y="4853160"/>
              <a:ext cx="15840" cy="47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150400" y="4853160"/>
              <a:ext cx="15840" cy="47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8200" y="4853160"/>
              <a:ext cx="2936880" cy="474480"/>
            </a:xfrm>
            <a:prstGeom prst="rect">
              <a:avLst/>
            </a:prstGeom>
            <a:solidFill>
              <a:srgbClr val="e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849320" y="4867200"/>
              <a:ext cx="633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(%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475080" y="4853160"/>
              <a:ext cx="2333520" cy="474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381920" y="4867200"/>
              <a:ext cx="925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53 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08600" y="4853160"/>
              <a:ext cx="2308320" cy="474480"/>
            </a:xfrm>
            <a:prstGeom prst="rect">
              <a:avLst/>
            </a:prstGeom>
            <a:solidFill>
              <a:srgbClr val="e9f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07520" y="4867200"/>
              <a:ext cx="925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60 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90680" y="5327640"/>
            <a:ext cx="7675560" cy="502200"/>
            <a:chOff x="490680" y="5327640"/>
            <a:chExt cx="7675560" cy="502200"/>
          </a:xfrm>
        </p:grpSpPr>
        <p:sp>
          <p:nvSpPr>
            <p:cNvPr id="294" name=""/>
            <p:cNvSpPr/>
            <p:nvPr/>
          </p:nvSpPr>
          <p:spPr>
            <a:xfrm>
              <a:off x="490680" y="5327640"/>
              <a:ext cx="15840" cy="47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2360" y="5327640"/>
              <a:ext cx="15840" cy="47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16920" y="5327640"/>
              <a:ext cx="15840" cy="47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150400" y="5327640"/>
              <a:ext cx="15840" cy="47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8200" y="5327640"/>
              <a:ext cx="2936880" cy="474840"/>
            </a:xfrm>
            <a:prstGeom prst="rect">
              <a:avLst/>
            </a:prstGeom>
            <a:solidFill>
              <a:srgbClr val="e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93600" y="5342040"/>
              <a:ext cx="2800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10000"/>
                  </a:solidFill>
                  <a:latin typeface="Arial"/>
                </a:rPr>
                <a:t>tempo gargal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75080" y="5327640"/>
              <a:ext cx="2333520" cy="474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46920" y="5342040"/>
              <a:ext cx="1287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10000"/>
                  </a:solidFill>
                  <a:latin typeface="Arial"/>
                </a:rPr>
                <a:t>15 m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808600" y="5327640"/>
              <a:ext cx="2308320" cy="474840"/>
            </a:xfrm>
            <a:prstGeom prst="rect">
              <a:avLst/>
            </a:prstGeom>
            <a:solidFill>
              <a:srgbClr val="e9f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322680" y="5342040"/>
              <a:ext cx="1287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10000"/>
                  </a:solidFill>
                  <a:latin typeface="Arial"/>
                </a:rPr>
                <a:t>25 m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90680" y="5802480"/>
            <a:ext cx="7675560" cy="576000"/>
            <a:chOff x="490680" y="5802480"/>
            <a:chExt cx="7675560" cy="576000"/>
          </a:xfrm>
        </p:grpSpPr>
        <p:sp>
          <p:nvSpPr>
            <p:cNvPr id="305" name=""/>
            <p:cNvSpPr/>
            <p:nvPr/>
          </p:nvSpPr>
          <p:spPr>
            <a:xfrm>
              <a:off x="490680" y="5802480"/>
              <a:ext cx="15840" cy="51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22360" y="5802480"/>
              <a:ext cx="15840" cy="51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0680" y="6318360"/>
              <a:ext cx="15840" cy="60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0680" y="6357960"/>
              <a:ext cx="47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2360" y="6318360"/>
              <a:ext cx="1584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2360" y="6318360"/>
              <a:ext cx="1584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38200" y="6318360"/>
              <a:ext cx="2936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8200" y="6357960"/>
              <a:ext cx="2936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75080" y="6318360"/>
              <a:ext cx="49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475080" y="6357960"/>
              <a:ext cx="49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24400" y="6318360"/>
              <a:ext cx="228420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524400" y="6357960"/>
              <a:ext cx="228420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08600" y="6318360"/>
              <a:ext cx="49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08600" y="6357960"/>
              <a:ext cx="49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57920" y="6318360"/>
              <a:ext cx="225900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57920" y="6357960"/>
              <a:ext cx="225900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116920" y="5802480"/>
              <a:ext cx="15840" cy="51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150400" y="5802480"/>
              <a:ext cx="15840" cy="51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150400" y="6318360"/>
              <a:ext cx="15840" cy="60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116920" y="6357960"/>
              <a:ext cx="49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116920" y="6318360"/>
              <a:ext cx="1584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116920" y="6318360"/>
              <a:ext cx="1584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8200" y="5802480"/>
              <a:ext cx="2936880" cy="515880"/>
            </a:xfrm>
            <a:prstGeom prst="rect">
              <a:avLst/>
            </a:prstGeom>
            <a:solidFill>
              <a:srgbClr val="e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4640" y="5816520"/>
              <a:ext cx="21207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400" spc="-1" strike="noStrike">
                  <a:solidFill>
                    <a:srgbClr val="010000"/>
                  </a:solidFill>
                  <a:latin typeface="Arial"/>
                </a:rPr>
                <a:t>mc </a:t>
              </a: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($/min.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75080" y="5802480"/>
              <a:ext cx="2333520" cy="515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234320" y="5816520"/>
              <a:ext cx="10782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400" spc="-1" strike="noStrike">
                  <a:solidFill>
                    <a:srgbClr val="010000"/>
                  </a:solidFill>
                  <a:latin typeface="Arial"/>
                </a:rPr>
                <a:t>30,00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808600" y="5802480"/>
              <a:ext cx="2308320" cy="515880"/>
            </a:xfrm>
            <a:prstGeom prst="rect">
              <a:avLst/>
            </a:prstGeom>
            <a:solidFill>
              <a:srgbClr val="e9f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60280" y="5816520"/>
              <a:ext cx="10782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400" spc="-1" strike="noStrike">
                  <a:solidFill>
                    <a:srgbClr val="010000"/>
                  </a:solidFill>
                  <a:latin typeface="Arial"/>
                </a:rPr>
                <a:t>24,00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7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- Lucro Máxi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sto ótimo = 5000 P e 1000 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ro  =  5000x450  +  1000x600  - 2.800.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ro = $ 50.000,00 / mê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8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ação 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279440" y="2181240"/>
            <a:ext cx="4143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: 450 P  +  600 Q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80520" y="3019320"/>
            <a:ext cx="836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70160" y="3019320"/>
            <a:ext cx="513432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    P  +  10 Q  &lt;  1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    P  +  25 Q  &lt;  1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,5 P  +  10 Q  &lt;  1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    P  +    5 Q  &lt;    9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 &lt;      5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 &lt;      2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0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2680" y="762120"/>
            <a:ext cx="58658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- Ociosida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os Recur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604440" y="2209680"/>
            <a:ext cx="8307720" cy="3349800"/>
            <a:chOff x="604440" y="2209680"/>
            <a:chExt cx="8307720" cy="3349800"/>
          </a:xfrm>
        </p:grpSpPr>
        <p:sp>
          <p:nvSpPr>
            <p:cNvPr id="341" name=""/>
            <p:cNvSpPr/>
            <p:nvPr/>
          </p:nvSpPr>
          <p:spPr>
            <a:xfrm>
              <a:off x="8897760" y="3047760"/>
              <a:ext cx="144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897760" y="3105000"/>
              <a:ext cx="14400" cy="46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897760" y="3573360"/>
              <a:ext cx="144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63480" y="3047760"/>
              <a:ext cx="140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63480" y="3047760"/>
              <a:ext cx="44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93360" y="3085920"/>
              <a:ext cx="144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93360" y="3085920"/>
              <a:ext cx="144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07760" y="3047760"/>
              <a:ext cx="16588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7760" y="3085920"/>
              <a:ext cx="16588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66640" y="3047760"/>
              <a:ext cx="46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366640" y="3085920"/>
              <a:ext cx="46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12720" y="3047760"/>
              <a:ext cx="15829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412720" y="3085920"/>
              <a:ext cx="15829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995640" y="3047760"/>
              <a:ext cx="45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995640" y="3085920"/>
              <a:ext cx="45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041360" y="3047760"/>
              <a:ext cx="15829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041360" y="3085920"/>
              <a:ext cx="15829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24280" y="3047760"/>
              <a:ext cx="46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624280" y="3085920"/>
              <a:ext cx="46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70360" y="3047760"/>
              <a:ext cx="15825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670360" y="3085920"/>
              <a:ext cx="15825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252920" y="3047760"/>
              <a:ext cx="46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252920" y="3085920"/>
              <a:ext cx="46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99000" y="3047760"/>
              <a:ext cx="1568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299000" y="3085920"/>
              <a:ext cx="1568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867520" y="3047760"/>
              <a:ext cx="446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867520" y="3085920"/>
              <a:ext cx="144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867520" y="3085920"/>
              <a:ext cx="144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63480" y="3105000"/>
              <a:ext cx="14040" cy="46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93360" y="3105000"/>
              <a:ext cx="14400" cy="46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867520" y="3105000"/>
              <a:ext cx="14400" cy="46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7760" y="3105000"/>
              <a:ext cx="1658880" cy="468360"/>
            </a:xfrm>
            <a:prstGeom prst="rect">
              <a:avLst/>
            </a:prstGeom>
            <a:solidFill>
              <a:srgbClr val="dbf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74000" y="3117600"/>
              <a:ext cx="1515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Recurs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66640" y="3105000"/>
              <a:ext cx="1629000" cy="468360"/>
            </a:xfrm>
            <a:prstGeom prst="rect">
              <a:avLst/>
            </a:prstGeom>
            <a:solidFill>
              <a:srgbClr val="ff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63280" y="3117600"/>
              <a:ext cx="1287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5000 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995640" y="3105000"/>
              <a:ext cx="1628640" cy="46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89680" y="3124080"/>
              <a:ext cx="13327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1000 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4280" y="3105000"/>
              <a:ext cx="1628640" cy="468360"/>
            </a:xfrm>
            <a:prstGeom prst="rect">
              <a:avLst/>
            </a:prstGeom>
            <a:solidFill>
              <a:srgbClr val="dbf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96880" y="3117600"/>
              <a:ext cx="902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Tot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252920" y="3105000"/>
              <a:ext cx="1614600" cy="468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573320" y="3117600"/>
              <a:ext cx="1015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Folg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93360" y="3573360"/>
              <a:ext cx="144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63480" y="3573360"/>
              <a:ext cx="140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07760" y="3573360"/>
              <a:ext cx="16588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07760" y="3611520"/>
              <a:ext cx="16588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366640" y="3573360"/>
              <a:ext cx="46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66640" y="3611520"/>
              <a:ext cx="46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12720" y="3573360"/>
              <a:ext cx="15829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412720" y="3611520"/>
              <a:ext cx="15829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995640" y="3573360"/>
              <a:ext cx="45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995640" y="3611520"/>
              <a:ext cx="45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041360" y="3573360"/>
              <a:ext cx="15829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041360" y="3611520"/>
              <a:ext cx="15829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624280" y="3573360"/>
              <a:ext cx="46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624280" y="3611520"/>
              <a:ext cx="46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670360" y="3573360"/>
              <a:ext cx="15825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670360" y="3611520"/>
              <a:ext cx="15825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52920" y="3573360"/>
              <a:ext cx="46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252920" y="3611520"/>
              <a:ext cx="46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99000" y="3573360"/>
              <a:ext cx="1568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299000" y="3611520"/>
              <a:ext cx="1568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867520" y="3573360"/>
              <a:ext cx="144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897760" y="3630600"/>
              <a:ext cx="14400" cy="46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63480" y="3630600"/>
              <a:ext cx="14040" cy="46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93360" y="3630600"/>
              <a:ext cx="14400" cy="46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867520" y="3630600"/>
              <a:ext cx="14400" cy="46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07760" y="3630600"/>
              <a:ext cx="1658880" cy="466560"/>
            </a:xfrm>
            <a:prstGeom prst="rect">
              <a:avLst/>
            </a:prstGeom>
            <a:solidFill>
              <a:srgbClr val="dbf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393200" y="364320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366640" y="3630600"/>
              <a:ext cx="1629000" cy="466560"/>
            </a:xfrm>
            <a:prstGeom prst="rect">
              <a:avLst/>
            </a:prstGeom>
            <a:solidFill>
              <a:srgbClr val="ff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747160" y="3643200"/>
              <a:ext cx="1128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75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95640" y="3630600"/>
              <a:ext cx="1628640" cy="4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66360" y="3636720"/>
              <a:ext cx="1128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10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624280" y="3630600"/>
              <a:ext cx="1628640" cy="466560"/>
            </a:xfrm>
            <a:prstGeom prst="rect">
              <a:avLst/>
            </a:prstGeom>
            <a:solidFill>
              <a:srgbClr val="dbf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04440" y="3643200"/>
              <a:ext cx="1128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85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52920" y="3630600"/>
              <a:ext cx="1614600" cy="466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466760" y="3657600"/>
              <a:ext cx="1128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15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897760" y="4097160"/>
              <a:ext cx="14400" cy="46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63480" y="4097160"/>
              <a:ext cx="14040" cy="46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3360" y="4097160"/>
              <a:ext cx="14400" cy="46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867520" y="4097160"/>
              <a:ext cx="14400" cy="46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7760" y="4097160"/>
              <a:ext cx="1658880" cy="468360"/>
            </a:xfrm>
            <a:prstGeom prst="rect">
              <a:avLst/>
            </a:prstGeom>
            <a:solidFill>
              <a:srgbClr val="dbf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393200" y="410976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66640" y="4097160"/>
              <a:ext cx="1629000" cy="468360"/>
            </a:xfrm>
            <a:prstGeom prst="rect">
              <a:avLst/>
            </a:prstGeom>
            <a:solidFill>
              <a:srgbClr val="ff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747160" y="4109760"/>
              <a:ext cx="1128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75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995640" y="4097160"/>
              <a:ext cx="1628640" cy="46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266360" y="4103640"/>
              <a:ext cx="1128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25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24280" y="4097160"/>
              <a:ext cx="1628640" cy="468360"/>
            </a:xfrm>
            <a:prstGeom prst="rect">
              <a:avLst/>
            </a:prstGeom>
            <a:solidFill>
              <a:srgbClr val="dbf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790240" y="4114800"/>
              <a:ext cx="1353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100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252920" y="4097160"/>
              <a:ext cx="1614600" cy="468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960680" y="4109760"/>
              <a:ext cx="22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897760" y="4565520"/>
              <a:ext cx="14400" cy="46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897760" y="5033880"/>
              <a:ext cx="14400" cy="46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897760" y="5502240"/>
              <a:ext cx="144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63480" y="4565520"/>
              <a:ext cx="14040" cy="46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93360" y="4565520"/>
              <a:ext cx="14400" cy="46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867520" y="4565520"/>
              <a:ext cx="14400" cy="46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7760" y="4565520"/>
              <a:ext cx="1658880" cy="468360"/>
            </a:xfrm>
            <a:prstGeom prst="rect">
              <a:avLst/>
            </a:prstGeom>
            <a:solidFill>
              <a:srgbClr val="dbf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385280" y="457812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66640" y="4565520"/>
              <a:ext cx="1629000" cy="468360"/>
            </a:xfrm>
            <a:prstGeom prst="rect">
              <a:avLst/>
            </a:prstGeom>
            <a:solidFill>
              <a:srgbClr val="ff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47160" y="4578120"/>
              <a:ext cx="1128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875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995640" y="4565520"/>
              <a:ext cx="1628640" cy="46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266360" y="4572000"/>
              <a:ext cx="1128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10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624280" y="4565520"/>
              <a:ext cx="1628640" cy="468360"/>
            </a:xfrm>
            <a:prstGeom prst="rect">
              <a:avLst/>
            </a:prstGeom>
            <a:solidFill>
              <a:srgbClr val="dbf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004440" y="4578120"/>
              <a:ext cx="1128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975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252920" y="4565520"/>
              <a:ext cx="1614600" cy="468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95360" y="4572000"/>
              <a:ext cx="902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25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3480" y="5033880"/>
              <a:ext cx="14040" cy="46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93360" y="5033880"/>
              <a:ext cx="14400" cy="46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3480" y="5502240"/>
              <a:ext cx="140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63480" y="5540400"/>
              <a:ext cx="44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93360" y="5502240"/>
              <a:ext cx="144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93360" y="5502240"/>
              <a:ext cx="144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07760" y="5502240"/>
              <a:ext cx="16588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7760" y="5540400"/>
              <a:ext cx="16588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366640" y="5502240"/>
              <a:ext cx="46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366640" y="5540400"/>
              <a:ext cx="46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12720" y="5502240"/>
              <a:ext cx="15829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12720" y="5540400"/>
              <a:ext cx="15829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95640" y="5502240"/>
              <a:ext cx="45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95640" y="5540400"/>
              <a:ext cx="45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41360" y="5502240"/>
              <a:ext cx="15829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041360" y="5540400"/>
              <a:ext cx="15829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624280" y="5502240"/>
              <a:ext cx="46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624280" y="5540400"/>
              <a:ext cx="46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670360" y="5502240"/>
              <a:ext cx="15825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670360" y="5540400"/>
              <a:ext cx="15825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252920" y="5502240"/>
              <a:ext cx="46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52920" y="5540400"/>
              <a:ext cx="46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299000" y="5502240"/>
              <a:ext cx="1568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99000" y="5540400"/>
              <a:ext cx="1568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867520" y="5033880"/>
              <a:ext cx="14400" cy="46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867520" y="5540400"/>
              <a:ext cx="446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867520" y="5502240"/>
              <a:ext cx="144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867520" y="5502240"/>
              <a:ext cx="144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7760" y="5033880"/>
              <a:ext cx="1658880" cy="468360"/>
            </a:xfrm>
            <a:prstGeom prst="rect">
              <a:avLst/>
            </a:prstGeom>
            <a:solidFill>
              <a:srgbClr val="dbf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385280" y="504648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66640" y="5033880"/>
              <a:ext cx="1629000" cy="468360"/>
            </a:xfrm>
            <a:prstGeom prst="rect">
              <a:avLst/>
            </a:prstGeom>
            <a:solidFill>
              <a:srgbClr val="ff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747160" y="5046480"/>
              <a:ext cx="1128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75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995640" y="5033880"/>
              <a:ext cx="1628640" cy="46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82360" y="5046480"/>
              <a:ext cx="902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5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624280" y="5033880"/>
              <a:ext cx="1628640" cy="468360"/>
            </a:xfrm>
            <a:prstGeom prst="rect">
              <a:avLst/>
            </a:prstGeom>
            <a:solidFill>
              <a:srgbClr val="dbf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004440" y="5046480"/>
              <a:ext cx="1128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80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252920" y="5033880"/>
              <a:ext cx="1614600" cy="468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466760" y="5029200"/>
              <a:ext cx="1128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10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04440" y="2209680"/>
              <a:ext cx="6190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Utilização dos recursos (minutos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614520" y="5494320"/>
            <a:ext cx="73915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: capacidades A, B, C = 100.000 min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dade D = 90.000 min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- Quebra da Restri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2320" y="2819160"/>
            <a:ext cx="92948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mento da capacidade do recurso B para 140.000 minutos/mê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mento da despesa operacional em $250.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= $3.050.000 / mê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- Rentabilidade dos Produ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21337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99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strição do sistema: Operação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490680" y="2819520"/>
            <a:ext cx="7675560" cy="609480"/>
            <a:chOff x="490680" y="2819520"/>
            <a:chExt cx="7675560" cy="609480"/>
          </a:xfrm>
        </p:grpSpPr>
        <p:sp>
          <p:nvSpPr>
            <p:cNvPr id="492" name=""/>
            <p:cNvSpPr/>
            <p:nvPr/>
          </p:nvSpPr>
          <p:spPr>
            <a:xfrm>
              <a:off x="490680" y="2819520"/>
              <a:ext cx="15840" cy="60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90680" y="2819520"/>
              <a:ext cx="47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22360" y="2860560"/>
              <a:ext cx="158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22360" y="2860560"/>
              <a:ext cx="158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38200" y="2819520"/>
              <a:ext cx="2936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38200" y="2860560"/>
              <a:ext cx="29368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475080" y="2819520"/>
              <a:ext cx="49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475080" y="2860560"/>
              <a:ext cx="493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524400" y="2819520"/>
              <a:ext cx="228420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524400" y="2860560"/>
              <a:ext cx="22842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808600" y="2819520"/>
              <a:ext cx="49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808600" y="2860560"/>
              <a:ext cx="493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857920" y="2819520"/>
              <a:ext cx="225900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857920" y="2860560"/>
              <a:ext cx="22590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150400" y="2819520"/>
              <a:ext cx="15840" cy="60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116920" y="2819520"/>
              <a:ext cx="49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116920" y="2860560"/>
              <a:ext cx="158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116920" y="2860560"/>
              <a:ext cx="158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90680" y="2879640"/>
              <a:ext cx="15840" cy="48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22360" y="2879640"/>
              <a:ext cx="15840" cy="48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116920" y="2879640"/>
              <a:ext cx="15840" cy="48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150400" y="2879640"/>
              <a:ext cx="15840" cy="48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38200" y="2879640"/>
              <a:ext cx="2936880" cy="474840"/>
            </a:xfrm>
            <a:prstGeom prst="rect">
              <a:avLst/>
            </a:prstGeom>
            <a:solidFill>
              <a:srgbClr val="e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38200" y="3354480"/>
              <a:ext cx="2936880" cy="14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475080" y="2879640"/>
              <a:ext cx="2333520" cy="48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669840" y="2894040"/>
              <a:ext cx="1944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10000"/>
                  </a:solidFill>
                  <a:latin typeface="Arial"/>
                </a:rPr>
                <a:t>Produto 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808600" y="2879640"/>
              <a:ext cx="2308320" cy="488880"/>
            </a:xfrm>
            <a:prstGeom prst="rect">
              <a:avLst/>
            </a:prstGeom>
            <a:solidFill>
              <a:srgbClr val="e9f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969520" y="2894040"/>
              <a:ext cx="19897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10000"/>
                  </a:solidFill>
                  <a:latin typeface="Arial"/>
                </a:rPr>
                <a:t>Produto 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2360" y="3368520"/>
              <a:ext cx="1584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90680" y="3368520"/>
              <a:ext cx="1584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8200" y="3368520"/>
              <a:ext cx="293688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8200" y="3409920"/>
              <a:ext cx="29368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475080" y="3368520"/>
              <a:ext cx="4932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475080" y="3409920"/>
              <a:ext cx="493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524400" y="3368520"/>
              <a:ext cx="228420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524400" y="3409920"/>
              <a:ext cx="22842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808600" y="3368520"/>
              <a:ext cx="4932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808600" y="3409920"/>
              <a:ext cx="493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857920" y="3368520"/>
              <a:ext cx="225900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57920" y="3409920"/>
              <a:ext cx="225900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150400" y="3368520"/>
              <a:ext cx="1584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116920" y="3368520"/>
              <a:ext cx="1584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490680" y="3429000"/>
            <a:ext cx="7675560" cy="502200"/>
            <a:chOff x="490680" y="3429000"/>
            <a:chExt cx="7675560" cy="502200"/>
          </a:xfrm>
        </p:grpSpPr>
        <p:grpSp>
          <p:nvGrpSpPr>
            <p:cNvPr id="535" name=""/>
            <p:cNvGrpSpPr/>
            <p:nvPr/>
          </p:nvGrpSpPr>
          <p:grpSpPr>
            <a:xfrm>
              <a:off x="490680" y="3429000"/>
              <a:ext cx="7675560" cy="474840"/>
              <a:chOff x="490680" y="3429000"/>
              <a:chExt cx="7675560" cy="474840"/>
            </a:xfrm>
          </p:grpSpPr>
          <p:sp>
            <p:nvSpPr>
              <p:cNvPr id="536" name=""/>
              <p:cNvSpPr/>
              <p:nvPr/>
            </p:nvSpPr>
            <p:spPr>
              <a:xfrm>
                <a:off x="490680" y="3429000"/>
                <a:ext cx="15840" cy="47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22360" y="3429000"/>
                <a:ext cx="15840" cy="47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116920" y="3429000"/>
                <a:ext cx="15840" cy="47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150400" y="3429000"/>
                <a:ext cx="15840" cy="47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38200" y="3429000"/>
                <a:ext cx="2936880" cy="474840"/>
              </a:xfrm>
              <a:prstGeom prst="rect">
                <a:avLst/>
              </a:prstGeom>
              <a:solidFill>
                <a:srgbClr val="e3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475080" y="3429000"/>
                <a:ext cx="2333520" cy="4748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808600" y="3429000"/>
                <a:ext cx="2308320" cy="474840"/>
              </a:xfrm>
              <a:prstGeom prst="rect">
                <a:avLst/>
              </a:prstGeom>
              <a:solidFill>
                <a:srgbClr val="e9f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2011320" y="3443400"/>
              <a:ext cx="22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34600" y="3443400"/>
              <a:ext cx="1241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850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346080" y="3443400"/>
              <a:ext cx="1466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1000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490680" y="3903840"/>
            <a:ext cx="7675560" cy="501840"/>
            <a:chOff x="490680" y="3903840"/>
            <a:chExt cx="7675560" cy="501840"/>
          </a:xfrm>
        </p:grpSpPr>
        <p:sp>
          <p:nvSpPr>
            <p:cNvPr id="547" name=""/>
            <p:cNvSpPr/>
            <p:nvPr/>
          </p:nvSpPr>
          <p:spPr>
            <a:xfrm>
              <a:off x="490680" y="3903840"/>
              <a:ext cx="15840" cy="47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22360" y="3903840"/>
              <a:ext cx="15840" cy="47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116920" y="3903840"/>
              <a:ext cx="15840" cy="47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150400" y="3903840"/>
              <a:ext cx="15840" cy="47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8200" y="3903840"/>
              <a:ext cx="2936880" cy="474480"/>
            </a:xfrm>
            <a:prstGeom prst="rect">
              <a:avLst/>
            </a:prstGeom>
            <a:solidFill>
              <a:srgbClr val="e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941480" y="391788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c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475080" y="3903840"/>
              <a:ext cx="2333520" cy="474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134600" y="3917880"/>
              <a:ext cx="1241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400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808600" y="3903840"/>
              <a:ext cx="2308320" cy="474480"/>
            </a:xfrm>
            <a:prstGeom prst="rect">
              <a:avLst/>
            </a:prstGeom>
            <a:solidFill>
              <a:srgbClr val="e9f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460560" y="3917880"/>
              <a:ext cx="1241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400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490680" y="4378320"/>
            <a:ext cx="7675560" cy="502200"/>
            <a:chOff x="490680" y="4378320"/>
            <a:chExt cx="7675560" cy="502200"/>
          </a:xfrm>
        </p:grpSpPr>
        <p:sp>
          <p:nvSpPr>
            <p:cNvPr id="558" name=""/>
            <p:cNvSpPr/>
            <p:nvPr/>
          </p:nvSpPr>
          <p:spPr>
            <a:xfrm>
              <a:off x="490680" y="4378320"/>
              <a:ext cx="15840" cy="47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22360" y="4378320"/>
              <a:ext cx="15840" cy="47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116920" y="4378320"/>
              <a:ext cx="15840" cy="47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150400" y="4378320"/>
              <a:ext cx="15840" cy="47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8200" y="4378320"/>
              <a:ext cx="2936880" cy="474840"/>
            </a:xfrm>
            <a:prstGeom prst="rect">
              <a:avLst/>
            </a:prstGeom>
            <a:solidFill>
              <a:srgbClr val="e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29440" y="4392720"/>
              <a:ext cx="1686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mc </a:t>
              </a:r>
              <a:r>
                <a:rPr b="0" i="1" lang="en-US" sz="2800" spc="-1" strike="noStrike">
                  <a:solidFill>
                    <a:srgbClr val="010000"/>
                  </a:solidFill>
                  <a:latin typeface="Arial"/>
                </a:rPr>
                <a:t>($/un.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475080" y="4378320"/>
              <a:ext cx="2333520" cy="474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134600" y="4392720"/>
              <a:ext cx="1241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450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808600" y="4378320"/>
              <a:ext cx="2308320" cy="474840"/>
            </a:xfrm>
            <a:prstGeom prst="rect">
              <a:avLst/>
            </a:prstGeom>
            <a:solidFill>
              <a:srgbClr val="e9f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460560" y="4392720"/>
              <a:ext cx="1241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600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490680" y="4853160"/>
            <a:ext cx="7675560" cy="501840"/>
            <a:chOff x="490680" y="4853160"/>
            <a:chExt cx="7675560" cy="501840"/>
          </a:xfrm>
        </p:grpSpPr>
        <p:sp>
          <p:nvSpPr>
            <p:cNvPr id="569" name=""/>
            <p:cNvSpPr/>
            <p:nvPr/>
          </p:nvSpPr>
          <p:spPr>
            <a:xfrm>
              <a:off x="490680" y="4853160"/>
              <a:ext cx="15840" cy="47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22360" y="4853160"/>
              <a:ext cx="15840" cy="47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116920" y="4853160"/>
              <a:ext cx="15840" cy="47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150400" y="4853160"/>
              <a:ext cx="15840" cy="47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38200" y="4853160"/>
              <a:ext cx="2936880" cy="474480"/>
            </a:xfrm>
            <a:prstGeom prst="rect">
              <a:avLst/>
            </a:prstGeom>
            <a:solidFill>
              <a:srgbClr val="e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49320" y="4867200"/>
              <a:ext cx="633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(%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475080" y="4853160"/>
              <a:ext cx="2333520" cy="474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381920" y="4867200"/>
              <a:ext cx="925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53 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808600" y="4853160"/>
              <a:ext cx="2308320" cy="474480"/>
            </a:xfrm>
            <a:prstGeom prst="rect">
              <a:avLst/>
            </a:prstGeom>
            <a:solidFill>
              <a:srgbClr val="e9f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07520" y="4867200"/>
              <a:ext cx="925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10000"/>
                  </a:solidFill>
                  <a:latin typeface="Arial"/>
                </a:rPr>
                <a:t>60 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490680" y="5327640"/>
            <a:ext cx="7675560" cy="502200"/>
            <a:chOff x="490680" y="5327640"/>
            <a:chExt cx="7675560" cy="502200"/>
          </a:xfrm>
        </p:grpSpPr>
        <p:sp>
          <p:nvSpPr>
            <p:cNvPr id="580" name=""/>
            <p:cNvSpPr/>
            <p:nvPr/>
          </p:nvSpPr>
          <p:spPr>
            <a:xfrm>
              <a:off x="490680" y="5327640"/>
              <a:ext cx="15840" cy="47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22360" y="5327640"/>
              <a:ext cx="15840" cy="47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116920" y="5327640"/>
              <a:ext cx="15840" cy="47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150400" y="5327640"/>
              <a:ext cx="15840" cy="47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38200" y="5327640"/>
              <a:ext cx="2936880" cy="474840"/>
            </a:xfrm>
            <a:prstGeom prst="rect">
              <a:avLst/>
            </a:prstGeom>
            <a:solidFill>
              <a:srgbClr val="e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993600" y="5342040"/>
              <a:ext cx="2800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10000"/>
                  </a:solidFill>
                  <a:latin typeface="Arial"/>
                </a:rPr>
                <a:t>tempo gargal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475080" y="5327640"/>
              <a:ext cx="2333520" cy="474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996720" y="5342040"/>
              <a:ext cx="1625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10000"/>
                  </a:solidFill>
                  <a:latin typeface="Arial"/>
                </a:rPr>
                <a:t>17,5 m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808600" y="5327640"/>
              <a:ext cx="2308320" cy="474840"/>
            </a:xfrm>
            <a:prstGeom prst="rect">
              <a:avLst/>
            </a:prstGeom>
            <a:solidFill>
              <a:srgbClr val="e9f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322680" y="5342040"/>
              <a:ext cx="1287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10000"/>
                  </a:solidFill>
                  <a:latin typeface="Arial"/>
                </a:rPr>
                <a:t>10 m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490680" y="5802480"/>
            <a:ext cx="7675560" cy="576000"/>
            <a:chOff x="490680" y="5802480"/>
            <a:chExt cx="7675560" cy="576000"/>
          </a:xfrm>
        </p:grpSpPr>
        <p:sp>
          <p:nvSpPr>
            <p:cNvPr id="591" name=""/>
            <p:cNvSpPr/>
            <p:nvPr/>
          </p:nvSpPr>
          <p:spPr>
            <a:xfrm>
              <a:off x="490680" y="5802480"/>
              <a:ext cx="15840" cy="51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22360" y="5802480"/>
              <a:ext cx="15840" cy="51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0680" y="6318360"/>
              <a:ext cx="15840" cy="60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90680" y="6357960"/>
              <a:ext cx="47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22360" y="6318360"/>
              <a:ext cx="1584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22360" y="6318360"/>
              <a:ext cx="1584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38200" y="6318360"/>
              <a:ext cx="2936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8200" y="6357960"/>
              <a:ext cx="29368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475080" y="6318360"/>
              <a:ext cx="49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475080" y="6357960"/>
              <a:ext cx="49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524400" y="6318360"/>
              <a:ext cx="228420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524400" y="6357960"/>
              <a:ext cx="228420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808600" y="6318360"/>
              <a:ext cx="49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808600" y="6357960"/>
              <a:ext cx="49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857920" y="6318360"/>
              <a:ext cx="225900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857920" y="6357960"/>
              <a:ext cx="225900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116920" y="5802480"/>
              <a:ext cx="15840" cy="51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150400" y="5802480"/>
              <a:ext cx="15840" cy="51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150400" y="6318360"/>
              <a:ext cx="15840" cy="60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116920" y="6357960"/>
              <a:ext cx="49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116920" y="6318360"/>
              <a:ext cx="1584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116920" y="6318360"/>
              <a:ext cx="1584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38200" y="5802480"/>
              <a:ext cx="2936880" cy="515880"/>
            </a:xfrm>
            <a:prstGeom prst="rect">
              <a:avLst/>
            </a:prstGeom>
            <a:solidFill>
              <a:srgbClr val="e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124640" y="5816520"/>
              <a:ext cx="21207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400" spc="-1" strike="noStrike">
                  <a:solidFill>
                    <a:srgbClr val="010000"/>
                  </a:solidFill>
                  <a:latin typeface="Arial"/>
                </a:rPr>
                <a:t>mc </a:t>
              </a:r>
              <a:r>
                <a:rPr b="0" lang="en-US" sz="3200" spc="-1" strike="noStrike">
                  <a:solidFill>
                    <a:srgbClr val="010000"/>
                  </a:solidFill>
                  <a:latin typeface="Arial"/>
                </a:rPr>
                <a:t>($/min.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475080" y="5802480"/>
              <a:ext cx="2333520" cy="515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34320" y="5816520"/>
              <a:ext cx="10782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400" spc="-1" strike="noStrike">
                  <a:solidFill>
                    <a:srgbClr val="010000"/>
                  </a:solidFill>
                  <a:latin typeface="Arial"/>
                </a:rPr>
                <a:t>25,71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08600" y="5802480"/>
              <a:ext cx="2308320" cy="515880"/>
            </a:xfrm>
            <a:prstGeom prst="rect">
              <a:avLst/>
            </a:prstGeom>
            <a:solidFill>
              <a:srgbClr val="e9f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560280" y="5816520"/>
              <a:ext cx="10782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400" spc="-1" strike="noStrike">
                  <a:solidFill>
                    <a:srgbClr val="010000"/>
                  </a:solidFill>
                  <a:latin typeface="Arial"/>
                </a:rPr>
                <a:t>60,00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77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4" dur="770" fill="hold"/>
                                        <p:tgtEl>
                                          <p:spTgt spid="4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6" dur="77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8" dur="77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- Lucro Máxi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9105840" cy="338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sto ótimo = 4285,7 P e 2500 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ro  =  4285,7x450  +  1000x600  - 3.050.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ro = $ 378.565,00 / mê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6" dur="20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0348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- Quebra da Restri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82320" y="2819160"/>
            <a:ext cx="92948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mento da capacidade do recurso C para 120.000 minutos/mê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mento da despesa operacional em $120.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= $3.170.000 / mê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- Lucro Máxi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95000" y="2743200"/>
            <a:ext cx="8915400" cy="37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sto ótimo = 5000 P e 2500 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ro  =  5000x450  +  1000x600  - 3.170.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ro = $ 580.000,00 / mê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20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579096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ntá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82320" y="3276720"/>
            <a:ext cx="91422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eio Variá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álise considerando fator limit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oio a tomada de decisões (normalmente, escolha do composto ótim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2438280"/>
            <a:ext cx="8915400" cy="368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yahu M. Goldra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ptimized Production Technolo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C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ory of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v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rr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índrome do Palhei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y of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s que S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29088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 é a Meta de uma Empres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2971800"/>
            <a:ext cx="8915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necer produtos de melhor qualidade em conjunto com o melhor serviço ao consumid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nar-se a número um no merca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breviv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" dur="1" fill="hold"/>
                                  <p:tgtEl>
                                    <p:spTgt spid="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Meta da Empr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2630160"/>
            <a:ext cx="8915400" cy="382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mente, a meta das empresas é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ganhar o máximo possível de dinheiro, agora e no futu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Desempen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8520" y="2432160"/>
            <a:ext cx="91378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Ganh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Índice de geração de dinheir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nventár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Todo o dinheiro investido n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sis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Despesa Operacio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Todo o dinheiro que 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sistema gasta na transformação d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Inventário em Gan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9" dur="1" fill="hold"/>
                                  <p:tgtEl>
                                    <p:spTgt spid="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ções Gerenci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868400" y="3352680"/>
            <a:ext cx="1536840" cy="617760"/>
            <a:chOff x="1868400" y="3352680"/>
            <a:chExt cx="1536840" cy="617760"/>
          </a:xfrm>
        </p:grpSpPr>
        <p:sp>
          <p:nvSpPr>
            <p:cNvPr id="57" name=""/>
            <p:cNvSpPr/>
            <p:nvPr/>
          </p:nvSpPr>
          <p:spPr>
            <a:xfrm>
              <a:off x="2004480" y="3394080"/>
              <a:ext cx="14007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Ganh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68400" y="33526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1868400" y="5257800"/>
            <a:ext cx="4223160" cy="617400"/>
            <a:chOff x="1868400" y="5257800"/>
            <a:chExt cx="4223160" cy="617400"/>
          </a:xfrm>
        </p:grpSpPr>
        <p:sp>
          <p:nvSpPr>
            <p:cNvPr id="60" name=""/>
            <p:cNvSpPr/>
            <p:nvPr/>
          </p:nvSpPr>
          <p:spPr>
            <a:xfrm>
              <a:off x="2002680" y="5298840"/>
              <a:ext cx="4088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espesa Operacion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68400" y="52578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868400" y="4267080"/>
            <a:ext cx="2100600" cy="617760"/>
            <a:chOff x="1868400" y="4267080"/>
            <a:chExt cx="2100600" cy="617760"/>
          </a:xfrm>
        </p:grpSpPr>
        <p:sp>
          <p:nvSpPr>
            <p:cNvPr id="63" name=""/>
            <p:cNvSpPr/>
            <p:nvPr/>
          </p:nvSpPr>
          <p:spPr>
            <a:xfrm>
              <a:off x="2004480" y="4308480"/>
              <a:ext cx="1964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nventári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68400" y="42670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6095880" y="4191120"/>
            <a:ext cx="2973240" cy="617400"/>
            <a:chOff x="6095880" y="4191120"/>
            <a:chExt cx="2973240" cy="617400"/>
          </a:xfrm>
        </p:grpSpPr>
        <p:sp>
          <p:nvSpPr>
            <p:cNvPr id="66" name=""/>
            <p:cNvSpPr/>
            <p:nvPr/>
          </p:nvSpPr>
          <p:spPr>
            <a:xfrm>
              <a:off x="6095880" y="4565520"/>
              <a:ext cx="1143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71040" y="4232160"/>
              <a:ext cx="1198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Lucr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734240" y="419112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or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868400" y="3352680"/>
            <a:ext cx="1536840" cy="617760"/>
            <a:chOff x="1868400" y="3352680"/>
            <a:chExt cx="1536840" cy="617760"/>
          </a:xfrm>
        </p:grpSpPr>
        <p:sp>
          <p:nvSpPr>
            <p:cNvPr id="71" name=""/>
            <p:cNvSpPr/>
            <p:nvPr/>
          </p:nvSpPr>
          <p:spPr>
            <a:xfrm>
              <a:off x="2004480" y="3394080"/>
              <a:ext cx="14007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Ganh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68400" y="33526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868400" y="5257800"/>
            <a:ext cx="4223160" cy="617400"/>
            <a:chOff x="1868400" y="5257800"/>
            <a:chExt cx="4223160" cy="617400"/>
          </a:xfrm>
        </p:grpSpPr>
        <p:sp>
          <p:nvSpPr>
            <p:cNvPr id="74" name=""/>
            <p:cNvSpPr/>
            <p:nvPr/>
          </p:nvSpPr>
          <p:spPr>
            <a:xfrm>
              <a:off x="2002680" y="5298840"/>
              <a:ext cx="4088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espesa Operacion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68400" y="52578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868400" y="4267080"/>
            <a:ext cx="2100600" cy="617760"/>
            <a:chOff x="1868400" y="4267080"/>
            <a:chExt cx="2100600" cy="617760"/>
          </a:xfrm>
        </p:grpSpPr>
        <p:sp>
          <p:nvSpPr>
            <p:cNvPr id="77" name=""/>
            <p:cNvSpPr/>
            <p:nvPr/>
          </p:nvSpPr>
          <p:spPr>
            <a:xfrm>
              <a:off x="2004480" y="4308480"/>
              <a:ext cx="1964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nventári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68400" y="42670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095880" y="4191120"/>
            <a:ext cx="2973240" cy="617400"/>
            <a:chOff x="6095880" y="4191120"/>
            <a:chExt cx="2973240" cy="617400"/>
          </a:xfrm>
        </p:grpSpPr>
        <p:sp>
          <p:nvSpPr>
            <p:cNvPr id="80" name=""/>
            <p:cNvSpPr/>
            <p:nvPr/>
          </p:nvSpPr>
          <p:spPr>
            <a:xfrm>
              <a:off x="6095880" y="4565520"/>
              <a:ext cx="1143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71040" y="4232160"/>
              <a:ext cx="1198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Lucr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34240" y="419112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763560" y="3352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3560" y="4267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35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23623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u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9-08T09:02:44Z</dcterms:created>
  <dc:creator>Cezar</dc:creator>
  <dc:description/>
  <dc:language>en-US</dc:language>
  <cp:lastModifiedBy>Cezar</cp:lastModifiedBy>
  <dcterms:modified xsi:type="dcterms:W3CDTF">2009-04-08T11:27:55Z</dcterms:modified>
  <cp:revision>45</cp:revision>
  <dc:subject/>
  <dc:title>OPT</dc:title>
</cp:coreProperties>
</file>