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2FE-1FFA-4E14-BD50-C51E3808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BA1-7CEA-464D-8422-370D780C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6C7A-CE97-4ECA-A4A2-8B1D371F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B49-EBAE-4CC2-96BB-A121C9C4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3F1-8E07-4FB4-9F6C-43CA38D1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2C6-DFA5-471B-AD75-66C7977A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3AB-F4BC-44CD-9B1A-C9B7D4D9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F8B-E410-4EAE-8C34-8B48C4A6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565-E3B0-4226-AE9A-C987C8CE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983-D55B-42E1-AF9A-EB26B218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631-4E38-4F36-953D-2CA16C02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030-ECF1-42C0-9AAE-85E56501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1416-53B2-4563-A293-3E58614D497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18360" y="1440"/>
            <a:ext cx="177804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5120" y="3885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resentação baseada no livro “Análise gerencial de custos: aplicação em empresas modernas”, de Antonio Cezar Bor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8520" y="274320"/>
            <a:ext cx="5794200" cy="9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eio Integ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75320" y="3429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81800" y="3429000"/>
            <a:ext cx="9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5320" y="3938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81800" y="393876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75320" y="58262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81800" y="58262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75320" y="63374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81800" y="63374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06760" y="345600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2280" y="3124080"/>
            <a:ext cx="1506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(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17760" y="3124080"/>
            <a:ext cx="261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ário ($/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6480" y="3657600"/>
            <a:ext cx="92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ç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58560" y="3657600"/>
            <a:ext cx="2144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36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80960" y="3657600"/>
            <a:ext cx="91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6840" y="4191120"/>
            <a:ext cx="951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29600" y="4191120"/>
            <a:ext cx="2349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57400" y="4164120"/>
            <a:ext cx="1123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,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0480" y="2209680"/>
            <a:ext cx="5171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1d58"/>
                </a:solidFill>
                <a:latin typeface="Arial"/>
              </a:rPr>
              <a:t>Resultado da empresa 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6840" y="4724280"/>
            <a:ext cx="106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uc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34880" y="4724280"/>
            <a:ext cx="2109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40.000,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0560" y="4724280"/>
            <a:ext cx="1190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0,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36576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7242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52578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30481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75320" y="3429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81800" y="3429000"/>
            <a:ext cx="9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75320" y="58262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81800" y="58262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6324480"/>
            <a:ext cx="261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75320" y="63374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1800" y="63374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06760" y="345600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02280" y="3124080"/>
            <a:ext cx="1506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(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17760" y="3124080"/>
            <a:ext cx="261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ário ($/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6480" y="3657600"/>
            <a:ext cx="92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ç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58560" y="3657600"/>
            <a:ext cx="2144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36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80960" y="3657600"/>
            <a:ext cx="91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6840" y="4191120"/>
            <a:ext cx="951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29600" y="4191120"/>
            <a:ext cx="2349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2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57400" y="4164120"/>
            <a:ext cx="1123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6840" y="5791320"/>
            <a:ext cx="106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uc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34880" y="5791320"/>
            <a:ext cx="2109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40.000,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40560" y="5791320"/>
            <a:ext cx="1190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0,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4320" y="4724280"/>
            <a:ext cx="2772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ucro Pot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35240" y="4724280"/>
            <a:ext cx="2042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6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93560" y="4724280"/>
            <a:ext cx="91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36576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47242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52578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63244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5040" y="5257800"/>
            <a:ext cx="197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Desperdí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35240" y="5257800"/>
            <a:ext cx="2042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2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93560" y="5257800"/>
            <a:ext cx="91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2,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57913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30481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8520" y="274320"/>
            <a:ext cx="5794200" cy="9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ei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0480" y="2209680"/>
            <a:ext cx="5171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1d58"/>
                </a:solidFill>
                <a:latin typeface="Arial"/>
              </a:rPr>
              <a:t>Resultado da empresa 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81080" y="382320"/>
            <a:ext cx="537048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5480" y="3276720"/>
            <a:ext cx="845676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ão-de-obra = </a:t>
            </a: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$10/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$80/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rão eficiente para o produto X: </a:t>
            </a: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1 h/un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ção:</a:t>
            </a: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 5 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029200" y="3048120"/>
            <a:ext cx="1657440" cy="517320"/>
            <a:chOff x="5029200" y="3048120"/>
            <a:chExt cx="1657440" cy="517320"/>
          </a:xfrm>
        </p:grpSpPr>
        <p:sp>
          <p:nvSpPr>
            <p:cNvPr id="186" name=""/>
            <p:cNvSpPr/>
            <p:nvPr/>
          </p:nvSpPr>
          <p:spPr>
            <a:xfrm>
              <a:off x="5029200" y="3565440"/>
              <a:ext cx="1657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58360" y="3048120"/>
              <a:ext cx="1159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Times New Roman"/>
                </a:rPr>
                <a:t>8 h/d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31920" y="304920"/>
            <a:ext cx="448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08640" y="3944880"/>
            <a:ext cx="71398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drão eficiente = 1 h/un . 5 un = 5 ho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eficiência        =   8h - 5h        = 3 ho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 ho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43800" y="52578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3760" y="2895480"/>
            <a:ext cx="37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e dos t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2680" y="1066320"/>
            <a:ext cx="4405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e dos cu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4114800"/>
            <a:ext cx="5765760" cy="1591920"/>
            <a:chOff x="2286000" y="4114800"/>
            <a:chExt cx="5765760" cy="1591920"/>
          </a:xfrm>
        </p:grpSpPr>
        <p:sp>
          <p:nvSpPr>
            <p:cNvPr id="194" name=""/>
            <p:cNvSpPr/>
            <p:nvPr/>
          </p:nvSpPr>
          <p:spPr>
            <a:xfrm>
              <a:off x="2286000" y="4114800"/>
              <a:ext cx="5765760" cy="158760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2851200" y="4734000"/>
              <a:ext cx="4771800" cy="972720"/>
              <a:chOff x="2851200" y="4734000"/>
              <a:chExt cx="4771800" cy="972720"/>
            </a:xfrm>
          </p:grpSpPr>
          <p:sp>
            <p:nvSpPr>
              <p:cNvPr id="196" name=""/>
              <p:cNvSpPr/>
              <p:nvPr/>
            </p:nvSpPr>
            <p:spPr>
              <a:xfrm>
                <a:off x="2851200" y="4962600"/>
                <a:ext cx="4771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usto =               = $16 / unidad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184640" y="5175360"/>
                <a:ext cx="89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334760" y="4734000"/>
                <a:ext cx="5382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8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17560" y="5191200"/>
                <a:ext cx="3596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3379680" y="4156200"/>
              <a:ext cx="2999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usteio Integr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2206440" y="3352680"/>
            <a:ext cx="5815080" cy="2994120"/>
            <a:chOff x="2206440" y="3352680"/>
            <a:chExt cx="5815080" cy="2994120"/>
          </a:xfrm>
        </p:grpSpPr>
        <p:sp>
          <p:nvSpPr>
            <p:cNvPr id="202" name=""/>
            <p:cNvSpPr/>
            <p:nvPr/>
          </p:nvSpPr>
          <p:spPr>
            <a:xfrm>
              <a:off x="2230560" y="3387600"/>
              <a:ext cx="5790960" cy="295920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06440" y="3897360"/>
              <a:ext cx="5600880" cy="20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usto = 1h/un . 10 $/h = $10 / unida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ustos           = $ 50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sperdícios = $ 30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$ 80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79120" y="3352680"/>
              <a:ext cx="24782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usteio Ide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57800" y="5486400"/>
              <a:ext cx="12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373040" y="1066680"/>
            <a:ext cx="44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e dos cu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6400" y="2650680"/>
            <a:ext cx="8832960" cy="32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6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ço = $ 14,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6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juízo de $ 2,00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Lucro de $ 4,00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os desperdícios forem eliminados, o preço de $14,00 propiciará um lucro de $4,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8120" y="336240"/>
            <a:ext cx="4862520" cy="95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uração dos desperdí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6248160" cy="29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BIÓP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descobrir que est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doente, qual é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doença e agir par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urá-la a t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32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AUTÓP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depois de morto,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checar qual foi   a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razão do faleci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94920" y="3886200"/>
            <a:ext cx="621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705720" y="4724280"/>
          <a:ext cx="2869920" cy="19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724280"/>
                    <a:ext cx="286992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781680" y="2819520"/>
          <a:ext cx="24847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2819520"/>
                    <a:ext cx="24847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81080" y="382320"/>
            <a:ext cx="564048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çã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4572000" cy="325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 algn="just">
              <a:lnSpc>
                <a:spcPct val="110000"/>
              </a:lnSpc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etição acirrada reduz os preços e elimina empresas inefici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10000"/>
              </a:lnSpc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preç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ssam a ser </a:t>
            </a: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ditados pelo merc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35560" y="2971800"/>
          <a:ext cx="45705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560" y="2971800"/>
                    <a:ext cx="45705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ç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5120" y="3124080"/>
            <a:ext cx="8839800" cy="581400"/>
            <a:chOff x="915120" y="3124080"/>
            <a:chExt cx="8839800" cy="581400"/>
          </a:xfrm>
        </p:grpSpPr>
        <p:grpSp>
          <p:nvGrpSpPr>
            <p:cNvPr id="222" name=""/>
            <p:cNvGrpSpPr/>
            <p:nvPr/>
          </p:nvGrpSpPr>
          <p:grpSpPr>
            <a:xfrm>
              <a:off x="2379240" y="3124080"/>
              <a:ext cx="7375680" cy="576360"/>
              <a:chOff x="2379240" y="3124080"/>
              <a:chExt cx="7375680" cy="576360"/>
            </a:xfrm>
          </p:grpSpPr>
          <p:sp>
            <p:nvSpPr>
              <p:cNvPr id="223" name=""/>
              <p:cNvSpPr/>
              <p:nvPr/>
            </p:nvSpPr>
            <p:spPr>
              <a:xfrm>
                <a:off x="2379240" y="3124080"/>
                <a:ext cx="3903120" cy="5763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81d58"/>
                    </a:solidFill>
                    <a:latin typeface="Times New Roman"/>
                  </a:rPr>
                  <a:t>Preço = Custo + Lucr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23480" y="3174840"/>
                <a:ext cx="33314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(cálculo dos custos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915120" y="3124080"/>
              <a:ext cx="124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nte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914760" y="4191120"/>
            <a:ext cx="8992800" cy="581400"/>
            <a:chOff x="914760" y="4191120"/>
            <a:chExt cx="8992800" cy="581400"/>
          </a:xfrm>
        </p:grpSpPr>
        <p:grpSp>
          <p:nvGrpSpPr>
            <p:cNvPr id="227" name=""/>
            <p:cNvGrpSpPr/>
            <p:nvPr/>
          </p:nvGrpSpPr>
          <p:grpSpPr>
            <a:xfrm>
              <a:off x="2373120" y="4191120"/>
              <a:ext cx="7534440" cy="576360"/>
              <a:chOff x="2373120" y="4191120"/>
              <a:chExt cx="7534440" cy="576360"/>
            </a:xfrm>
          </p:grpSpPr>
          <p:sp>
            <p:nvSpPr>
              <p:cNvPr id="228" name=""/>
              <p:cNvSpPr/>
              <p:nvPr/>
            </p:nvSpPr>
            <p:spPr>
              <a:xfrm>
                <a:off x="2373120" y="4191120"/>
                <a:ext cx="3910680" cy="5763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3200" spc="-1" strike="noStrike">
                    <a:solidFill>
                      <a:srgbClr val="081d58"/>
                    </a:solidFill>
                    <a:latin typeface="Times New Roman"/>
                  </a:rPr>
                  <a:t>Lucro = Preço - Cust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17360" y="4241880"/>
                <a:ext cx="34902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(controle dos custos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914760" y="4191120"/>
              <a:ext cx="144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epoi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991080" y="5257800"/>
            <a:ext cx="8706960" cy="581400"/>
            <a:chOff x="991080" y="5257800"/>
            <a:chExt cx="8706960" cy="581400"/>
          </a:xfrm>
        </p:grpSpPr>
        <p:grpSp>
          <p:nvGrpSpPr>
            <p:cNvPr id="232" name=""/>
            <p:cNvGrpSpPr/>
            <p:nvPr/>
          </p:nvGrpSpPr>
          <p:grpSpPr>
            <a:xfrm>
              <a:off x="2362320" y="5257800"/>
              <a:ext cx="7335720" cy="576360"/>
              <a:chOff x="2362320" y="5257800"/>
              <a:chExt cx="7335720" cy="576360"/>
            </a:xfrm>
          </p:grpSpPr>
          <p:sp>
            <p:nvSpPr>
              <p:cNvPr id="233" name=""/>
              <p:cNvSpPr/>
              <p:nvPr/>
            </p:nvSpPr>
            <p:spPr>
              <a:xfrm>
                <a:off x="2362320" y="5257800"/>
                <a:ext cx="3808440" cy="5763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81d58"/>
                    </a:solidFill>
                    <a:latin typeface="Times New Roman"/>
                  </a:rPr>
                  <a:t>Custo = Preço - Lucr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06200" y="5308560"/>
                <a:ext cx="32918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(gestão dos custos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991080" y="5257800"/>
              <a:ext cx="1086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Hoj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504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usteio Ideal e a Empresa Moder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5640480" cy="9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ços - ex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000" y="2143080"/>
            <a:ext cx="8915400" cy="398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 fixo = $ 100.000,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 variável = $ 5,00 / un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dade = 10.000 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ço =  1,4 . custo   (mark up = 1,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2116080" y="4349880"/>
            <a:ext cx="5448240" cy="2349360"/>
            <a:chOff x="2116080" y="4349880"/>
            <a:chExt cx="5448240" cy="2349360"/>
          </a:xfrm>
        </p:grpSpPr>
        <p:sp>
          <p:nvSpPr>
            <p:cNvPr id="239" name=""/>
            <p:cNvSpPr/>
            <p:nvPr/>
          </p:nvSpPr>
          <p:spPr>
            <a:xfrm>
              <a:off x="2116080" y="4349880"/>
              <a:ext cx="5448240" cy="234936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12280" y="4390920"/>
              <a:ext cx="370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Q = 10.000 un. / mê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5640480" cy="9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ços - ex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3200" y="1781280"/>
            <a:ext cx="8605800" cy="19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 fixo = $ 100.000,00 / mê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 variável = $ 5,00 / un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dade = 10.000 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ço =  1,4 . custo   (mark up = 1,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702880" y="4809960"/>
            <a:ext cx="4281120" cy="1597320"/>
            <a:chOff x="2702880" y="4809960"/>
            <a:chExt cx="4281120" cy="1597320"/>
          </a:xfrm>
        </p:grpSpPr>
        <p:sp>
          <p:nvSpPr>
            <p:cNvPr id="244" name=""/>
            <p:cNvSpPr/>
            <p:nvPr/>
          </p:nvSpPr>
          <p:spPr>
            <a:xfrm>
              <a:off x="2702880" y="5038560"/>
              <a:ext cx="428112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usto =              + 5 = $15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ço = 15 . 1,4 = $ 21,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40280" y="5251320"/>
              <a:ext cx="89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91480" y="4809960"/>
              <a:ext cx="716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74280" y="5267160"/>
              <a:ext cx="538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5639040" cy="8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1 - queda nas ven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56400" y="2752560"/>
            <a:ext cx="47228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 =                   + 5 = $21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ço = 21 . 1,4 = $ 29,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300996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26360" y="2981160"/>
            <a:ext cx="983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5440" y="2514600"/>
            <a:ext cx="1339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1905120"/>
            <a:ext cx="5448240" cy="2349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2720" y="1946160"/>
            <a:ext cx="3503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 = 6.250 un. / mê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193760" y="4114800"/>
            <a:ext cx="5854680" cy="2481480"/>
            <a:chOff x="1193760" y="4114800"/>
            <a:chExt cx="5854680" cy="2481480"/>
          </a:xfrm>
        </p:grpSpPr>
        <p:grpSp>
          <p:nvGrpSpPr>
            <p:cNvPr id="256" name=""/>
            <p:cNvGrpSpPr/>
            <p:nvPr/>
          </p:nvGrpSpPr>
          <p:grpSpPr>
            <a:xfrm>
              <a:off x="1193760" y="4114800"/>
              <a:ext cx="5854680" cy="1655640"/>
              <a:chOff x="1193760" y="4114800"/>
              <a:chExt cx="5854680" cy="1655640"/>
            </a:xfrm>
          </p:grpSpPr>
          <p:sp>
            <p:nvSpPr>
              <p:cNvPr id="257" name=""/>
              <p:cNvSpPr/>
              <p:nvPr/>
            </p:nvSpPr>
            <p:spPr>
              <a:xfrm>
                <a:off x="1193760" y="4640400"/>
                <a:ext cx="5854680" cy="1130040"/>
              </a:xfrm>
              <a:prstGeom prst="roundRect">
                <a:avLst>
                  <a:gd name="adj" fmla="val 12495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752480" y="4114800"/>
                <a:ext cx="15264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1464120" y="4681440"/>
              <a:ext cx="5457240" cy="1063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reço = (5 + 10 + 6).1,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 (7 + 14 + 8,4) = $ 29,4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2361600" y="5617800"/>
              <a:ext cx="800640" cy="978480"/>
              <a:chOff x="2361600" y="5617800"/>
              <a:chExt cx="800640" cy="978480"/>
            </a:xfrm>
          </p:grpSpPr>
          <p:sp>
            <p:nvSpPr>
              <p:cNvPr id="261" name=""/>
              <p:cNvSpPr/>
              <p:nvPr/>
            </p:nvSpPr>
            <p:spPr>
              <a:xfrm flipV="1">
                <a:off x="2819520" y="5617800"/>
                <a:ext cx="342720" cy="47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361600" y="6019920"/>
                <a:ext cx="5670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cv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3504600" y="5630760"/>
              <a:ext cx="498600" cy="965520"/>
              <a:chOff x="3504600" y="5630760"/>
              <a:chExt cx="498600" cy="965520"/>
            </a:xfrm>
          </p:grpSpPr>
          <p:sp>
            <p:nvSpPr>
              <p:cNvPr id="264" name=""/>
              <p:cNvSpPr/>
              <p:nvPr/>
            </p:nvSpPr>
            <p:spPr>
              <a:xfrm flipH="1">
                <a:off x="3809520" y="5630760"/>
                <a:ext cx="50760" cy="38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504600" y="6019920"/>
                <a:ext cx="4986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c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416480" y="5630760"/>
              <a:ext cx="2062080" cy="965520"/>
              <a:chOff x="4416480" y="5630760"/>
              <a:chExt cx="2062080" cy="965520"/>
            </a:xfrm>
          </p:grpSpPr>
          <p:sp>
            <p:nvSpPr>
              <p:cNvPr id="267" name=""/>
              <p:cNvSpPr/>
              <p:nvPr/>
            </p:nvSpPr>
            <p:spPr>
              <a:xfrm>
                <a:off x="4775040" y="5630760"/>
                <a:ext cx="406440" cy="46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416480" y="6019920"/>
                <a:ext cx="20620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c0128"/>
                    </a:solidFill>
                    <a:latin typeface="Times New Roman"/>
                  </a:rPr>
                  <a:t>desperdíci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6858000" y="4952880"/>
            <a:ext cx="2742840" cy="1063800"/>
            <a:chOff x="6858000" y="4952880"/>
            <a:chExt cx="2742840" cy="1063800"/>
          </a:xfrm>
        </p:grpSpPr>
        <p:sp>
          <p:nvSpPr>
            <p:cNvPr id="270" name=""/>
            <p:cNvSpPr/>
            <p:nvPr/>
          </p:nvSpPr>
          <p:spPr>
            <a:xfrm>
              <a:off x="6858000" y="54385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596720" y="4952880"/>
              <a:ext cx="20041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1d58"/>
                  </a:solidFill>
                  <a:latin typeface="Times New Roman"/>
                </a:rPr>
                <a:t>o merca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1d58"/>
                  </a:solidFill>
                  <a:latin typeface="Times New Roman"/>
                </a:rPr>
                <a:t>aceita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248520" y="3124080"/>
            <a:ext cx="2666880" cy="1371600"/>
          </a:xfrm>
          <a:prstGeom prst="leftArrow">
            <a:avLst>
              <a:gd name="adj1" fmla="val 50000"/>
              <a:gd name="adj2" fmla="val 4860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0720" y="382320"/>
            <a:ext cx="58230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variáveis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1.000 / 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fixos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100.0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ção: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 125 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totais = 100000 + 125x1000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225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ço de venda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1.800 / 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2 - custeio integ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193760" y="2327400"/>
            <a:ext cx="7835040" cy="1109520"/>
            <a:chOff x="1193760" y="2327400"/>
            <a:chExt cx="7835040" cy="1109520"/>
          </a:xfrm>
        </p:grpSpPr>
        <p:sp>
          <p:nvSpPr>
            <p:cNvPr id="277" name=""/>
            <p:cNvSpPr/>
            <p:nvPr/>
          </p:nvSpPr>
          <p:spPr>
            <a:xfrm>
              <a:off x="1193760" y="2631960"/>
              <a:ext cx="78350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usto =                    + 1000 = </a:t>
              </a:r>
              <a:r>
                <a:rPr b="0" lang="en-US" sz="3200" spc="-1" strike="noStrike">
                  <a:solidFill>
                    <a:srgbClr val="fc0128"/>
                  </a:solidFill>
                  <a:latin typeface="Times New Roman"/>
                </a:rPr>
                <a:t>$ 1.800 / unidad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75240" y="2889000"/>
              <a:ext cx="141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70200" y="2327400"/>
              <a:ext cx="1406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0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06720" y="2860560"/>
              <a:ext cx="794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2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202040" y="3200400"/>
            <a:ext cx="5439600" cy="1379520"/>
            <a:chOff x="1202040" y="3200400"/>
            <a:chExt cx="5439600" cy="1379520"/>
          </a:xfrm>
        </p:grpSpPr>
        <p:sp>
          <p:nvSpPr>
            <p:cNvPr id="282" name=""/>
            <p:cNvSpPr/>
            <p:nvPr/>
          </p:nvSpPr>
          <p:spPr>
            <a:xfrm>
              <a:off x="1202040" y="4003560"/>
              <a:ext cx="4357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reço = </a:t>
              </a:r>
              <a:r>
                <a:rPr b="0" lang="en-US" sz="3200" spc="-1" strike="noStrike">
                  <a:solidFill>
                    <a:srgbClr val="fc0128"/>
                  </a:solidFill>
                  <a:latin typeface="Times New Roman"/>
                </a:rPr>
                <a:t>$ 1.800 / unidad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352320" y="3200400"/>
              <a:ext cx="328932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502720" y="4572000"/>
            <a:ext cx="1793880" cy="1602000"/>
            <a:chOff x="2502720" y="4572000"/>
            <a:chExt cx="1793880" cy="1602000"/>
          </a:xfrm>
        </p:grpSpPr>
        <p:sp>
          <p:nvSpPr>
            <p:cNvPr id="285" name=""/>
            <p:cNvSpPr/>
            <p:nvPr/>
          </p:nvSpPr>
          <p:spPr>
            <a:xfrm>
              <a:off x="2502720" y="5597640"/>
              <a:ext cx="1793880" cy="576360"/>
            </a:xfrm>
            <a:prstGeom prst="rect">
              <a:avLst/>
            </a:prstGeom>
            <a:noFill/>
            <a:ln w="1260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Lucro =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59160" y="4572000"/>
              <a:ext cx="0" cy="90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510080" y="5375160"/>
            <a:ext cx="3925440" cy="1063800"/>
            <a:chOff x="4510080" y="5375160"/>
            <a:chExt cx="3925440" cy="1063800"/>
          </a:xfrm>
        </p:grpSpPr>
        <p:sp>
          <p:nvSpPr>
            <p:cNvPr id="288" name=""/>
            <p:cNvSpPr/>
            <p:nvPr/>
          </p:nvSpPr>
          <p:spPr>
            <a:xfrm>
              <a:off x="4510080" y="5861160"/>
              <a:ext cx="151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61760" y="5375160"/>
              <a:ext cx="227376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umentar 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reço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2 - aumento de preç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1676520"/>
            <a:ext cx="8456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buClr>
                <a:srgbClr val="bbe0e3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s variáveis =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$ 1.000 / 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bbe0e3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s fixos =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$ 100.000 / mê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bbe0e3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ço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.8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$ 2.000 /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bbe0e3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as: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100 un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10000" y="29908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5080" y="3828960"/>
            <a:ext cx="113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3156120"/>
            <a:ext cx="0" cy="583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21480" y="4191120"/>
            <a:ext cx="6660000" cy="2406600"/>
            <a:chOff x="1221480" y="4191120"/>
            <a:chExt cx="6660000" cy="2406600"/>
          </a:xfrm>
        </p:grpSpPr>
        <p:grpSp>
          <p:nvGrpSpPr>
            <p:cNvPr id="296" name=""/>
            <p:cNvGrpSpPr/>
            <p:nvPr/>
          </p:nvGrpSpPr>
          <p:grpSpPr>
            <a:xfrm>
              <a:off x="1221480" y="4191120"/>
              <a:ext cx="6660000" cy="2361960"/>
              <a:chOff x="1221480" y="4191120"/>
              <a:chExt cx="6660000" cy="236196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1441440" y="5410080"/>
                <a:ext cx="6095880" cy="1143000"/>
                <a:chOff x="1441440" y="5410080"/>
                <a:chExt cx="6095880" cy="11430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441440" y="5410080"/>
                  <a:ext cx="6095880" cy="114300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575360" y="5756400"/>
                  <a:ext cx="1793880" cy="576360"/>
                </a:xfrm>
                <a:prstGeom prst="rect">
                  <a:avLst/>
                </a:prstGeom>
                <a:noFill/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81d58"/>
                      </a:solidFill>
                      <a:latin typeface="Times New Roman"/>
                    </a:rPr>
                    <a:t>Lucro = 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581280" y="6095880"/>
                  <a:ext cx="1511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1221480" y="4191120"/>
                <a:ext cx="6660000" cy="1124640"/>
                <a:chOff x="1221480" y="4191120"/>
                <a:chExt cx="6660000" cy="11246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221480" y="4495680"/>
                  <a:ext cx="666000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custo =                  + 1000 = </a:t>
                  </a:r>
                  <a:r>
                    <a:rPr b="0" lang="en-US" sz="2800" spc="-1" strike="noStrike">
                      <a:solidFill>
                        <a:srgbClr val="fc0128"/>
                      </a:solidFill>
                      <a:latin typeface="Times New Roman"/>
                    </a:rPr>
                    <a:t>$ 2.000 / unidad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554200" y="4708440"/>
                  <a:ext cx="1187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550960" y="4191120"/>
                  <a:ext cx="125136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000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786760" y="4800240"/>
                  <a:ext cx="716400" cy="51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5234760" y="5533920"/>
              <a:ext cx="227376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umentar 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reço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spiral da mo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395520" y="4848120"/>
            <a:ext cx="5150520" cy="1778400"/>
            <a:chOff x="3395520" y="4848120"/>
            <a:chExt cx="5150520" cy="1778400"/>
          </a:xfrm>
        </p:grpSpPr>
        <p:sp>
          <p:nvSpPr>
            <p:cNvPr id="309" name=""/>
            <p:cNvSpPr/>
            <p:nvPr/>
          </p:nvSpPr>
          <p:spPr>
            <a:xfrm>
              <a:off x="3395520" y="4848120"/>
              <a:ext cx="3353040" cy="1763640"/>
            </a:xfrm>
            <a:custGeom>
              <a:avLst/>
              <a:gdLst/>
              <a:ahLst/>
              <a:rect l="l" t="t" r="r" b="b"/>
              <a:pathLst>
                <a:path w="2112" h="1111">
                  <a:moveTo>
                    <a:pt x="1062" y="1098"/>
                  </a:moveTo>
                  <a:lnTo>
                    <a:pt x="1083" y="1094"/>
                  </a:lnTo>
                  <a:lnTo>
                    <a:pt x="1112" y="1089"/>
                  </a:lnTo>
                  <a:lnTo>
                    <a:pt x="1141" y="1083"/>
                  </a:lnTo>
                  <a:lnTo>
                    <a:pt x="1162" y="1078"/>
                  </a:lnTo>
                  <a:lnTo>
                    <a:pt x="1186" y="1072"/>
                  </a:lnTo>
                  <a:lnTo>
                    <a:pt x="1210" y="1065"/>
                  </a:lnTo>
                  <a:lnTo>
                    <a:pt x="1235" y="1059"/>
                  </a:lnTo>
                  <a:lnTo>
                    <a:pt x="1256" y="1052"/>
                  </a:lnTo>
                  <a:lnTo>
                    <a:pt x="1281" y="1042"/>
                  </a:lnTo>
                  <a:lnTo>
                    <a:pt x="1311" y="1031"/>
                  </a:lnTo>
                  <a:lnTo>
                    <a:pt x="1336" y="1020"/>
                  </a:lnTo>
                  <a:lnTo>
                    <a:pt x="1361" y="1009"/>
                  </a:lnTo>
                  <a:lnTo>
                    <a:pt x="1388" y="997"/>
                  </a:lnTo>
                  <a:lnTo>
                    <a:pt x="1415" y="984"/>
                  </a:lnTo>
                  <a:lnTo>
                    <a:pt x="1439" y="972"/>
                  </a:lnTo>
                  <a:lnTo>
                    <a:pt x="1461" y="957"/>
                  </a:lnTo>
                  <a:lnTo>
                    <a:pt x="1482" y="945"/>
                  </a:lnTo>
                  <a:lnTo>
                    <a:pt x="1502" y="931"/>
                  </a:lnTo>
                  <a:lnTo>
                    <a:pt x="1525" y="917"/>
                  </a:lnTo>
                  <a:lnTo>
                    <a:pt x="1551" y="901"/>
                  </a:lnTo>
                  <a:lnTo>
                    <a:pt x="1574" y="884"/>
                  </a:lnTo>
                  <a:lnTo>
                    <a:pt x="1595" y="867"/>
                  </a:lnTo>
                  <a:lnTo>
                    <a:pt x="1615" y="852"/>
                  </a:lnTo>
                  <a:lnTo>
                    <a:pt x="1649" y="825"/>
                  </a:lnTo>
                  <a:lnTo>
                    <a:pt x="1679" y="799"/>
                  </a:lnTo>
                  <a:lnTo>
                    <a:pt x="1709" y="769"/>
                  </a:lnTo>
                  <a:lnTo>
                    <a:pt x="1741" y="733"/>
                  </a:lnTo>
                  <a:lnTo>
                    <a:pt x="1762" y="708"/>
                  </a:lnTo>
                  <a:lnTo>
                    <a:pt x="1787" y="679"/>
                  </a:lnTo>
                  <a:lnTo>
                    <a:pt x="1813" y="647"/>
                  </a:lnTo>
                  <a:lnTo>
                    <a:pt x="1836" y="616"/>
                  </a:lnTo>
                  <a:lnTo>
                    <a:pt x="1858" y="582"/>
                  </a:lnTo>
                  <a:lnTo>
                    <a:pt x="1885" y="543"/>
                  </a:lnTo>
                  <a:lnTo>
                    <a:pt x="2112" y="677"/>
                  </a:lnTo>
                  <a:lnTo>
                    <a:pt x="1890" y="0"/>
                  </a:lnTo>
                  <a:lnTo>
                    <a:pt x="1167" y="128"/>
                  </a:lnTo>
                  <a:lnTo>
                    <a:pt x="1410" y="266"/>
                  </a:lnTo>
                  <a:lnTo>
                    <a:pt x="1390" y="295"/>
                  </a:lnTo>
                  <a:lnTo>
                    <a:pt x="1368" y="321"/>
                  </a:lnTo>
                  <a:lnTo>
                    <a:pt x="1346" y="346"/>
                  </a:lnTo>
                  <a:lnTo>
                    <a:pt x="1324" y="370"/>
                  </a:lnTo>
                  <a:lnTo>
                    <a:pt x="1306" y="388"/>
                  </a:lnTo>
                  <a:lnTo>
                    <a:pt x="1287" y="409"/>
                  </a:lnTo>
                  <a:lnTo>
                    <a:pt x="1265" y="426"/>
                  </a:lnTo>
                  <a:lnTo>
                    <a:pt x="1241" y="444"/>
                  </a:lnTo>
                  <a:lnTo>
                    <a:pt x="1212" y="463"/>
                  </a:lnTo>
                  <a:lnTo>
                    <a:pt x="1187" y="479"/>
                  </a:lnTo>
                  <a:lnTo>
                    <a:pt x="1167" y="491"/>
                  </a:lnTo>
                  <a:lnTo>
                    <a:pt x="1137" y="508"/>
                  </a:lnTo>
                  <a:lnTo>
                    <a:pt x="1110" y="519"/>
                  </a:lnTo>
                  <a:lnTo>
                    <a:pt x="1087" y="526"/>
                  </a:lnTo>
                  <a:lnTo>
                    <a:pt x="1063" y="535"/>
                  </a:lnTo>
                  <a:lnTo>
                    <a:pt x="1028" y="545"/>
                  </a:lnTo>
                  <a:lnTo>
                    <a:pt x="993" y="549"/>
                  </a:lnTo>
                  <a:lnTo>
                    <a:pt x="958" y="553"/>
                  </a:lnTo>
                  <a:lnTo>
                    <a:pt x="905" y="555"/>
                  </a:lnTo>
                  <a:lnTo>
                    <a:pt x="838" y="557"/>
                  </a:lnTo>
                  <a:lnTo>
                    <a:pt x="786" y="549"/>
                  </a:lnTo>
                  <a:lnTo>
                    <a:pt x="738" y="539"/>
                  </a:lnTo>
                  <a:lnTo>
                    <a:pt x="684" y="523"/>
                  </a:lnTo>
                  <a:lnTo>
                    <a:pt x="636" y="502"/>
                  </a:lnTo>
                  <a:lnTo>
                    <a:pt x="587" y="478"/>
                  </a:lnTo>
                  <a:lnTo>
                    <a:pt x="544" y="450"/>
                  </a:lnTo>
                  <a:lnTo>
                    <a:pt x="501" y="413"/>
                  </a:lnTo>
                  <a:lnTo>
                    <a:pt x="0" y="702"/>
                  </a:lnTo>
                  <a:lnTo>
                    <a:pt x="21" y="726"/>
                  </a:lnTo>
                  <a:lnTo>
                    <a:pt x="50" y="754"/>
                  </a:lnTo>
                  <a:lnTo>
                    <a:pt x="74" y="778"/>
                  </a:lnTo>
                  <a:lnTo>
                    <a:pt x="98" y="801"/>
                  </a:lnTo>
                  <a:lnTo>
                    <a:pt x="122" y="824"/>
                  </a:lnTo>
                  <a:lnTo>
                    <a:pt x="151" y="848"/>
                  </a:lnTo>
                  <a:lnTo>
                    <a:pt x="178" y="869"/>
                  </a:lnTo>
                  <a:lnTo>
                    <a:pt x="205" y="888"/>
                  </a:lnTo>
                  <a:lnTo>
                    <a:pt x="235" y="908"/>
                  </a:lnTo>
                  <a:lnTo>
                    <a:pt x="264" y="928"/>
                  </a:lnTo>
                  <a:lnTo>
                    <a:pt x="294" y="948"/>
                  </a:lnTo>
                  <a:lnTo>
                    <a:pt x="322" y="963"/>
                  </a:lnTo>
                  <a:lnTo>
                    <a:pt x="350" y="979"/>
                  </a:lnTo>
                  <a:lnTo>
                    <a:pt x="377" y="993"/>
                  </a:lnTo>
                  <a:lnTo>
                    <a:pt x="413" y="1009"/>
                  </a:lnTo>
                  <a:lnTo>
                    <a:pt x="447" y="1024"/>
                  </a:lnTo>
                  <a:lnTo>
                    <a:pt x="485" y="1039"/>
                  </a:lnTo>
                  <a:lnTo>
                    <a:pt x="515" y="1049"/>
                  </a:lnTo>
                  <a:lnTo>
                    <a:pt x="542" y="1060"/>
                  </a:lnTo>
                  <a:lnTo>
                    <a:pt x="575" y="1070"/>
                  </a:lnTo>
                  <a:lnTo>
                    <a:pt x="607" y="1078"/>
                  </a:lnTo>
                  <a:lnTo>
                    <a:pt x="638" y="1086"/>
                  </a:lnTo>
                  <a:lnTo>
                    <a:pt x="674" y="1093"/>
                  </a:lnTo>
                  <a:lnTo>
                    <a:pt x="711" y="1099"/>
                  </a:lnTo>
                  <a:lnTo>
                    <a:pt x="748" y="1104"/>
                  </a:lnTo>
                  <a:lnTo>
                    <a:pt x="787" y="1108"/>
                  </a:lnTo>
                  <a:lnTo>
                    <a:pt x="816" y="1109"/>
                  </a:lnTo>
                  <a:lnTo>
                    <a:pt x="856" y="1111"/>
                  </a:lnTo>
                  <a:lnTo>
                    <a:pt x="896" y="1111"/>
                  </a:lnTo>
                  <a:lnTo>
                    <a:pt x="927" y="1110"/>
                  </a:lnTo>
                  <a:lnTo>
                    <a:pt x="961" y="1109"/>
                  </a:lnTo>
                  <a:lnTo>
                    <a:pt x="999" y="1106"/>
                  </a:lnTo>
                  <a:lnTo>
                    <a:pt x="1033" y="1101"/>
                  </a:lnTo>
                  <a:lnTo>
                    <a:pt x="1062" y="109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74960" y="5562720"/>
              <a:ext cx="207108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Qued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das vend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064880" y="2936880"/>
            <a:ext cx="3453120" cy="3146400"/>
            <a:chOff x="1064880" y="2936880"/>
            <a:chExt cx="3453120" cy="3146400"/>
          </a:xfrm>
        </p:grpSpPr>
        <p:sp>
          <p:nvSpPr>
            <p:cNvPr id="312" name=""/>
            <p:cNvSpPr/>
            <p:nvPr/>
          </p:nvSpPr>
          <p:spPr>
            <a:xfrm>
              <a:off x="2817720" y="2936880"/>
              <a:ext cx="1700280" cy="3146400"/>
            </a:xfrm>
            <a:custGeom>
              <a:avLst/>
              <a:gdLst/>
              <a:ahLst/>
              <a:rect l="l" t="t" r="r" b="b"/>
              <a:pathLst>
                <a:path w="1071" h="1982">
                  <a:moveTo>
                    <a:pt x="1071" y="0"/>
                  </a:moveTo>
                  <a:lnTo>
                    <a:pt x="1048" y="4"/>
                  </a:lnTo>
                  <a:lnTo>
                    <a:pt x="1025" y="8"/>
                  </a:lnTo>
                  <a:lnTo>
                    <a:pt x="994" y="15"/>
                  </a:lnTo>
                  <a:lnTo>
                    <a:pt x="971" y="20"/>
                  </a:lnTo>
                  <a:lnTo>
                    <a:pt x="946" y="27"/>
                  </a:lnTo>
                  <a:lnTo>
                    <a:pt x="923" y="34"/>
                  </a:lnTo>
                  <a:lnTo>
                    <a:pt x="899" y="40"/>
                  </a:lnTo>
                  <a:lnTo>
                    <a:pt x="876" y="48"/>
                  </a:lnTo>
                  <a:lnTo>
                    <a:pt x="852" y="57"/>
                  </a:lnTo>
                  <a:lnTo>
                    <a:pt x="823" y="68"/>
                  </a:lnTo>
                  <a:lnTo>
                    <a:pt x="799" y="79"/>
                  </a:lnTo>
                  <a:lnTo>
                    <a:pt x="773" y="90"/>
                  </a:lnTo>
                  <a:lnTo>
                    <a:pt x="747" y="102"/>
                  </a:lnTo>
                  <a:lnTo>
                    <a:pt x="720" y="115"/>
                  </a:lnTo>
                  <a:lnTo>
                    <a:pt x="696" y="127"/>
                  </a:lnTo>
                  <a:lnTo>
                    <a:pt x="673" y="142"/>
                  </a:lnTo>
                  <a:lnTo>
                    <a:pt x="652" y="154"/>
                  </a:lnTo>
                  <a:lnTo>
                    <a:pt x="632" y="169"/>
                  </a:lnTo>
                  <a:lnTo>
                    <a:pt x="609" y="182"/>
                  </a:lnTo>
                  <a:lnTo>
                    <a:pt x="583" y="199"/>
                  </a:lnTo>
                  <a:lnTo>
                    <a:pt x="560" y="217"/>
                  </a:lnTo>
                  <a:lnTo>
                    <a:pt x="538" y="234"/>
                  </a:lnTo>
                  <a:lnTo>
                    <a:pt x="518" y="249"/>
                  </a:lnTo>
                  <a:lnTo>
                    <a:pt x="484" y="276"/>
                  </a:lnTo>
                  <a:lnTo>
                    <a:pt x="450" y="309"/>
                  </a:lnTo>
                  <a:lnTo>
                    <a:pt x="423" y="333"/>
                  </a:lnTo>
                  <a:lnTo>
                    <a:pt x="392" y="368"/>
                  </a:lnTo>
                  <a:lnTo>
                    <a:pt x="370" y="394"/>
                  </a:lnTo>
                  <a:lnTo>
                    <a:pt x="346" y="423"/>
                  </a:lnTo>
                  <a:lnTo>
                    <a:pt x="319" y="456"/>
                  </a:lnTo>
                  <a:lnTo>
                    <a:pt x="298" y="486"/>
                  </a:lnTo>
                  <a:lnTo>
                    <a:pt x="276" y="521"/>
                  </a:lnTo>
                  <a:lnTo>
                    <a:pt x="254" y="555"/>
                  </a:lnTo>
                  <a:lnTo>
                    <a:pt x="232" y="591"/>
                  </a:lnTo>
                  <a:lnTo>
                    <a:pt x="214" y="623"/>
                  </a:lnTo>
                  <a:lnTo>
                    <a:pt x="197" y="661"/>
                  </a:lnTo>
                  <a:lnTo>
                    <a:pt x="180" y="699"/>
                  </a:lnTo>
                  <a:lnTo>
                    <a:pt x="166" y="738"/>
                  </a:lnTo>
                  <a:lnTo>
                    <a:pt x="151" y="780"/>
                  </a:lnTo>
                  <a:lnTo>
                    <a:pt x="133" y="832"/>
                  </a:lnTo>
                  <a:lnTo>
                    <a:pt x="121" y="881"/>
                  </a:lnTo>
                  <a:lnTo>
                    <a:pt x="109" y="930"/>
                  </a:lnTo>
                  <a:lnTo>
                    <a:pt x="103" y="979"/>
                  </a:lnTo>
                  <a:lnTo>
                    <a:pt x="94" y="1035"/>
                  </a:lnTo>
                  <a:lnTo>
                    <a:pt x="88" y="1106"/>
                  </a:lnTo>
                  <a:lnTo>
                    <a:pt x="87" y="1161"/>
                  </a:lnTo>
                  <a:lnTo>
                    <a:pt x="88" y="1216"/>
                  </a:lnTo>
                  <a:lnTo>
                    <a:pt x="93" y="1268"/>
                  </a:lnTo>
                  <a:lnTo>
                    <a:pt x="99" y="1316"/>
                  </a:lnTo>
                  <a:lnTo>
                    <a:pt x="105" y="1367"/>
                  </a:lnTo>
                  <a:lnTo>
                    <a:pt x="116" y="1419"/>
                  </a:lnTo>
                  <a:lnTo>
                    <a:pt x="131" y="1475"/>
                  </a:lnTo>
                  <a:lnTo>
                    <a:pt x="149" y="1532"/>
                  </a:lnTo>
                  <a:lnTo>
                    <a:pt x="167" y="1585"/>
                  </a:lnTo>
                  <a:lnTo>
                    <a:pt x="187" y="1637"/>
                  </a:lnTo>
                  <a:lnTo>
                    <a:pt x="212" y="1688"/>
                  </a:lnTo>
                  <a:lnTo>
                    <a:pt x="241" y="1736"/>
                  </a:lnTo>
                  <a:lnTo>
                    <a:pt x="0" y="1873"/>
                  </a:lnTo>
                  <a:lnTo>
                    <a:pt x="734" y="1982"/>
                  </a:lnTo>
                  <a:lnTo>
                    <a:pt x="1004" y="1307"/>
                  </a:lnTo>
                  <a:lnTo>
                    <a:pt x="722" y="1458"/>
                  </a:lnTo>
                  <a:lnTo>
                    <a:pt x="695" y="1414"/>
                  </a:lnTo>
                  <a:lnTo>
                    <a:pt x="678" y="1376"/>
                  </a:lnTo>
                  <a:lnTo>
                    <a:pt x="662" y="1336"/>
                  </a:lnTo>
                  <a:lnTo>
                    <a:pt x="651" y="1296"/>
                  </a:lnTo>
                  <a:lnTo>
                    <a:pt x="644" y="1257"/>
                  </a:lnTo>
                  <a:lnTo>
                    <a:pt x="641" y="1219"/>
                  </a:lnTo>
                  <a:lnTo>
                    <a:pt x="638" y="1182"/>
                  </a:lnTo>
                  <a:lnTo>
                    <a:pt x="638" y="1144"/>
                  </a:lnTo>
                  <a:lnTo>
                    <a:pt x="640" y="1100"/>
                  </a:lnTo>
                  <a:lnTo>
                    <a:pt x="645" y="1056"/>
                  </a:lnTo>
                  <a:lnTo>
                    <a:pt x="655" y="1008"/>
                  </a:lnTo>
                  <a:lnTo>
                    <a:pt x="665" y="969"/>
                  </a:lnTo>
                  <a:lnTo>
                    <a:pt x="682" y="925"/>
                  </a:lnTo>
                  <a:lnTo>
                    <a:pt x="697" y="888"/>
                  </a:lnTo>
                  <a:lnTo>
                    <a:pt x="718" y="851"/>
                  </a:lnTo>
                  <a:lnTo>
                    <a:pt x="734" y="824"/>
                  </a:lnTo>
                  <a:lnTo>
                    <a:pt x="751" y="801"/>
                  </a:lnTo>
                  <a:lnTo>
                    <a:pt x="768" y="778"/>
                  </a:lnTo>
                  <a:lnTo>
                    <a:pt x="788" y="755"/>
                  </a:lnTo>
                  <a:lnTo>
                    <a:pt x="808" y="730"/>
                  </a:lnTo>
                  <a:lnTo>
                    <a:pt x="826" y="713"/>
                  </a:lnTo>
                  <a:lnTo>
                    <a:pt x="847" y="692"/>
                  </a:lnTo>
                  <a:lnTo>
                    <a:pt x="868" y="675"/>
                  </a:lnTo>
                  <a:lnTo>
                    <a:pt x="892" y="657"/>
                  </a:lnTo>
                  <a:lnTo>
                    <a:pt x="921" y="637"/>
                  </a:lnTo>
                  <a:lnTo>
                    <a:pt x="945" y="621"/>
                  </a:lnTo>
                  <a:lnTo>
                    <a:pt x="966" y="609"/>
                  </a:lnTo>
                  <a:lnTo>
                    <a:pt x="996" y="592"/>
                  </a:lnTo>
                  <a:lnTo>
                    <a:pt x="1025" y="580"/>
                  </a:lnTo>
                  <a:lnTo>
                    <a:pt x="1071" y="567"/>
                  </a:lnTo>
                  <a:lnTo>
                    <a:pt x="1071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64880" y="3429000"/>
              <a:ext cx="17863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66"/>
                  </a:solidFill>
                  <a:latin typeface="Times New Roman"/>
                </a:rPr>
                <a:t>Aumen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66"/>
                  </a:solidFill>
                  <a:latin typeface="Times New Roman"/>
                </a:rPr>
                <a:t>no preç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129200" y="2511360"/>
            <a:ext cx="4434120" cy="2847960"/>
            <a:chOff x="4129200" y="2511360"/>
            <a:chExt cx="4434120" cy="2847960"/>
          </a:xfrm>
        </p:grpSpPr>
        <p:sp>
          <p:nvSpPr>
            <p:cNvPr id="315" name=""/>
            <p:cNvSpPr/>
            <p:nvPr/>
          </p:nvSpPr>
          <p:spPr>
            <a:xfrm>
              <a:off x="4129200" y="2511360"/>
              <a:ext cx="2527200" cy="2847960"/>
            </a:xfrm>
            <a:custGeom>
              <a:avLst/>
              <a:gdLst/>
              <a:ahLst/>
              <a:rect l="l" t="t" r="r" b="b"/>
              <a:pathLst>
                <a:path w="1592" h="1794">
                  <a:moveTo>
                    <a:pt x="607" y="262"/>
                  </a:moveTo>
                  <a:lnTo>
                    <a:pt x="629" y="266"/>
                  </a:lnTo>
                  <a:lnTo>
                    <a:pt x="658" y="271"/>
                  </a:lnTo>
                  <a:lnTo>
                    <a:pt x="687" y="278"/>
                  </a:lnTo>
                  <a:lnTo>
                    <a:pt x="707" y="283"/>
                  </a:lnTo>
                  <a:lnTo>
                    <a:pt x="732" y="289"/>
                  </a:lnTo>
                  <a:lnTo>
                    <a:pt x="755" y="296"/>
                  </a:lnTo>
                  <a:lnTo>
                    <a:pt x="779" y="303"/>
                  </a:lnTo>
                  <a:lnTo>
                    <a:pt x="801" y="310"/>
                  </a:lnTo>
                  <a:lnTo>
                    <a:pt x="826" y="319"/>
                  </a:lnTo>
                  <a:lnTo>
                    <a:pt x="855" y="331"/>
                  </a:lnTo>
                  <a:lnTo>
                    <a:pt x="880" y="341"/>
                  </a:lnTo>
                  <a:lnTo>
                    <a:pt x="905" y="352"/>
                  </a:lnTo>
                  <a:lnTo>
                    <a:pt x="932" y="364"/>
                  </a:lnTo>
                  <a:lnTo>
                    <a:pt x="959" y="377"/>
                  </a:lnTo>
                  <a:lnTo>
                    <a:pt x="983" y="389"/>
                  </a:lnTo>
                  <a:lnTo>
                    <a:pt x="1006" y="404"/>
                  </a:lnTo>
                  <a:lnTo>
                    <a:pt x="1027" y="416"/>
                  </a:lnTo>
                  <a:lnTo>
                    <a:pt x="1047" y="431"/>
                  </a:lnTo>
                  <a:lnTo>
                    <a:pt x="1070" y="444"/>
                  </a:lnTo>
                  <a:lnTo>
                    <a:pt x="1096" y="461"/>
                  </a:lnTo>
                  <a:lnTo>
                    <a:pt x="1119" y="478"/>
                  </a:lnTo>
                  <a:lnTo>
                    <a:pt x="1141" y="495"/>
                  </a:lnTo>
                  <a:lnTo>
                    <a:pt x="1161" y="510"/>
                  </a:lnTo>
                  <a:lnTo>
                    <a:pt x="1194" y="538"/>
                  </a:lnTo>
                  <a:lnTo>
                    <a:pt x="1228" y="570"/>
                  </a:lnTo>
                  <a:lnTo>
                    <a:pt x="1254" y="594"/>
                  </a:lnTo>
                  <a:lnTo>
                    <a:pt x="1286" y="629"/>
                  </a:lnTo>
                  <a:lnTo>
                    <a:pt x="1308" y="655"/>
                  </a:lnTo>
                  <a:lnTo>
                    <a:pt x="1332" y="684"/>
                  </a:lnTo>
                  <a:lnTo>
                    <a:pt x="1359" y="716"/>
                  </a:lnTo>
                  <a:lnTo>
                    <a:pt x="1380" y="748"/>
                  </a:lnTo>
                  <a:lnTo>
                    <a:pt x="1402" y="783"/>
                  </a:lnTo>
                  <a:lnTo>
                    <a:pt x="1425" y="817"/>
                  </a:lnTo>
                  <a:lnTo>
                    <a:pt x="1444" y="853"/>
                  </a:lnTo>
                  <a:lnTo>
                    <a:pt x="1464" y="885"/>
                  </a:lnTo>
                  <a:lnTo>
                    <a:pt x="1482" y="923"/>
                  </a:lnTo>
                  <a:lnTo>
                    <a:pt x="1499" y="961"/>
                  </a:lnTo>
                  <a:lnTo>
                    <a:pt x="1513" y="1000"/>
                  </a:lnTo>
                  <a:lnTo>
                    <a:pt x="1528" y="1042"/>
                  </a:lnTo>
                  <a:lnTo>
                    <a:pt x="1546" y="1094"/>
                  </a:lnTo>
                  <a:lnTo>
                    <a:pt x="1558" y="1142"/>
                  </a:lnTo>
                  <a:lnTo>
                    <a:pt x="1570" y="1192"/>
                  </a:lnTo>
                  <a:lnTo>
                    <a:pt x="1576" y="1241"/>
                  </a:lnTo>
                  <a:lnTo>
                    <a:pt x="1585" y="1297"/>
                  </a:lnTo>
                  <a:lnTo>
                    <a:pt x="1591" y="1368"/>
                  </a:lnTo>
                  <a:lnTo>
                    <a:pt x="1592" y="1422"/>
                  </a:lnTo>
                  <a:lnTo>
                    <a:pt x="1591" y="1477"/>
                  </a:lnTo>
                  <a:lnTo>
                    <a:pt x="1586" y="1529"/>
                  </a:lnTo>
                  <a:lnTo>
                    <a:pt x="1580" y="1577"/>
                  </a:lnTo>
                  <a:lnTo>
                    <a:pt x="1574" y="1628"/>
                  </a:lnTo>
                  <a:lnTo>
                    <a:pt x="1563" y="1680"/>
                  </a:lnTo>
                  <a:lnTo>
                    <a:pt x="1549" y="1736"/>
                  </a:lnTo>
                  <a:lnTo>
                    <a:pt x="1530" y="1794"/>
                  </a:lnTo>
                  <a:lnTo>
                    <a:pt x="1426" y="1469"/>
                  </a:lnTo>
                  <a:lnTo>
                    <a:pt x="1029" y="1537"/>
                  </a:lnTo>
                  <a:lnTo>
                    <a:pt x="1038" y="1480"/>
                  </a:lnTo>
                  <a:lnTo>
                    <a:pt x="1041" y="1444"/>
                  </a:lnTo>
                  <a:lnTo>
                    <a:pt x="1041" y="1405"/>
                  </a:lnTo>
                  <a:lnTo>
                    <a:pt x="1039" y="1360"/>
                  </a:lnTo>
                  <a:lnTo>
                    <a:pt x="1033" y="1318"/>
                  </a:lnTo>
                  <a:lnTo>
                    <a:pt x="1024" y="1270"/>
                  </a:lnTo>
                  <a:lnTo>
                    <a:pt x="1014" y="1231"/>
                  </a:lnTo>
                  <a:lnTo>
                    <a:pt x="997" y="1187"/>
                  </a:lnTo>
                  <a:lnTo>
                    <a:pt x="981" y="1150"/>
                  </a:lnTo>
                  <a:lnTo>
                    <a:pt x="962" y="1113"/>
                  </a:lnTo>
                  <a:lnTo>
                    <a:pt x="945" y="1086"/>
                  </a:lnTo>
                  <a:lnTo>
                    <a:pt x="928" y="1063"/>
                  </a:lnTo>
                  <a:lnTo>
                    <a:pt x="911" y="1040"/>
                  </a:lnTo>
                  <a:lnTo>
                    <a:pt x="891" y="1017"/>
                  </a:lnTo>
                  <a:lnTo>
                    <a:pt x="870" y="992"/>
                  </a:lnTo>
                  <a:lnTo>
                    <a:pt x="851" y="975"/>
                  </a:lnTo>
                  <a:lnTo>
                    <a:pt x="831" y="955"/>
                  </a:lnTo>
                  <a:lnTo>
                    <a:pt x="810" y="937"/>
                  </a:lnTo>
                  <a:lnTo>
                    <a:pt x="786" y="918"/>
                  </a:lnTo>
                  <a:lnTo>
                    <a:pt x="757" y="900"/>
                  </a:lnTo>
                  <a:lnTo>
                    <a:pt x="733" y="883"/>
                  </a:lnTo>
                  <a:lnTo>
                    <a:pt x="712" y="872"/>
                  </a:lnTo>
                  <a:lnTo>
                    <a:pt x="682" y="854"/>
                  </a:lnTo>
                  <a:lnTo>
                    <a:pt x="655" y="845"/>
                  </a:lnTo>
                  <a:lnTo>
                    <a:pt x="632" y="836"/>
                  </a:lnTo>
                  <a:lnTo>
                    <a:pt x="608" y="828"/>
                  </a:lnTo>
                  <a:lnTo>
                    <a:pt x="572" y="819"/>
                  </a:lnTo>
                  <a:lnTo>
                    <a:pt x="538" y="813"/>
                  </a:lnTo>
                  <a:lnTo>
                    <a:pt x="503" y="810"/>
                  </a:lnTo>
                  <a:lnTo>
                    <a:pt x="468" y="807"/>
                  </a:lnTo>
                  <a:lnTo>
                    <a:pt x="448" y="806"/>
                  </a:lnTo>
                  <a:lnTo>
                    <a:pt x="448" y="1098"/>
                  </a:lnTo>
                  <a:lnTo>
                    <a:pt x="0" y="556"/>
                  </a:lnTo>
                  <a:lnTo>
                    <a:pt x="447" y="0"/>
                  </a:lnTo>
                  <a:lnTo>
                    <a:pt x="447" y="250"/>
                  </a:lnTo>
                  <a:lnTo>
                    <a:pt x="471" y="251"/>
                  </a:lnTo>
                  <a:lnTo>
                    <a:pt x="506" y="253"/>
                  </a:lnTo>
                  <a:lnTo>
                    <a:pt x="543" y="255"/>
                  </a:lnTo>
                  <a:lnTo>
                    <a:pt x="578" y="259"/>
                  </a:lnTo>
                  <a:lnTo>
                    <a:pt x="607" y="2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27600" y="2895480"/>
              <a:ext cx="19357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Times New Roman"/>
                </a:rPr>
                <a:t>Aumen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Times New Roman"/>
                </a:rPr>
                <a:t>dos cus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5240" y="437760"/>
            <a:ext cx="610056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2 - custei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9372600" cy="36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variáveis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1.000 / 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fixos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100.0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ção: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 125 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drão eficiente de produção: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1 h/un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o disponível (capacidade):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200 h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totais = 100000 + 125x1000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225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ço de venda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1.800 / 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404640"/>
            <a:ext cx="5791320" cy="6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Custei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2362320"/>
            <a:ext cx="76201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 fixo = 100000 / 200 =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$ 500 / h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 (eficiente)  = 500 + 1000 =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$ 1.500 /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ê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s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0 =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$ 187.5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perdícios =    7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$   37.5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$ 225.0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05520" y="5562720"/>
            <a:ext cx="242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675320" y="3429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81800" y="3429000"/>
            <a:ext cx="9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75320" y="3938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81800" y="393876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75320" y="58262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81800" y="58262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6324480"/>
            <a:ext cx="261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75320" y="63374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81800" y="63374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06760" y="345600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02280" y="3124080"/>
            <a:ext cx="1506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(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17760" y="3124080"/>
            <a:ext cx="261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ário ($/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6480" y="3657600"/>
            <a:ext cx="92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ç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59280" y="3657600"/>
            <a:ext cx="1838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5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79520" y="3657600"/>
            <a:ext cx="1430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8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6840" y="4191120"/>
            <a:ext cx="951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30320" y="4191120"/>
            <a:ext cx="2042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7.5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456320" y="4164120"/>
            <a:ext cx="1634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5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46840" y="5791320"/>
            <a:ext cx="106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uc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3760" y="5791320"/>
            <a:ext cx="408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152200" y="5791320"/>
            <a:ext cx="408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44320" y="4724280"/>
            <a:ext cx="2772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ucro Pot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95920" y="4724280"/>
            <a:ext cx="1838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7.5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92480" y="4724280"/>
            <a:ext cx="1328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5280" y="36576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95280" y="47242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95280" y="52578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95280" y="63244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5040" y="5257800"/>
            <a:ext cx="197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Desperdí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95920" y="5257800"/>
            <a:ext cx="1838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37.5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92480" y="5257800"/>
            <a:ext cx="1328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3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95280" y="57913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95280" y="30481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8520" y="274320"/>
            <a:ext cx="5794200" cy="9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ei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140480" y="2209680"/>
            <a:ext cx="5171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1d58"/>
                </a:solidFill>
                <a:latin typeface="Arial"/>
              </a:rPr>
              <a:t>Resultado da empresa 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363760" y="4800600"/>
            <a:ext cx="57895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maior desperdício é fazer eficientemente aquilo que não é necessári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00200" y="685800"/>
          <a:ext cx="475632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85800"/>
                    <a:ext cx="475632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1760" y="3428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nálise dos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perdí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perdí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3354120"/>
            <a:ext cx="3886200" cy="267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gerente da empresa moderna está preocupado em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duzir os desperdíci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711760" y="3376440"/>
          <a:ext cx="3390840" cy="30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1760" y="3376440"/>
                    <a:ext cx="3390840" cy="30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sperdí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2220840"/>
            <a:ext cx="495324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desperdícios podem ser decompostos, a fim de auxiliá-lo nas decisões sobre ações de combate aos desperdí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172200" y="3276720"/>
            <a:ext cx="3463920" cy="211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81080" y="382320"/>
            <a:ext cx="537048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5480" y="3276720"/>
            <a:ext cx="845676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ão-de-obra = </a:t>
            </a: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$10/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$80/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rão eficiente para o produto X: </a:t>
            </a: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1 h/un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ção:</a:t>
            </a:r>
            <a:r>
              <a:rPr b="0" lang="en-US" sz="2800" spc="-1" strike="noStrike">
                <a:solidFill>
                  <a:srgbClr val="081d58"/>
                </a:solidFill>
                <a:latin typeface="Arial"/>
              </a:rPr>
              <a:t> 5 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empo total utilizado: 6 h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029200" y="3048120"/>
            <a:ext cx="1657440" cy="517320"/>
            <a:chOff x="5029200" y="3048120"/>
            <a:chExt cx="1657440" cy="517320"/>
          </a:xfrm>
        </p:grpSpPr>
        <p:sp>
          <p:nvSpPr>
            <p:cNvPr id="368" name=""/>
            <p:cNvSpPr/>
            <p:nvPr/>
          </p:nvSpPr>
          <p:spPr>
            <a:xfrm>
              <a:off x="5029200" y="3565440"/>
              <a:ext cx="1657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58360" y="3048120"/>
              <a:ext cx="1159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Times New Roman"/>
                </a:rPr>
                <a:t>8 h/d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231920" y="304920"/>
            <a:ext cx="448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08640" y="3944880"/>
            <a:ext cx="7139880" cy="26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drão eficiente = 1 h/un . 5 un = 5 ho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eficiência        =   6h - 5h        = 1 hor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iosidade         =   8h - 6h        = 2 ho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 ho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43800" y="59436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53760" y="2895480"/>
            <a:ext cx="37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e dos t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2192400" y="3400560"/>
            <a:ext cx="5815080" cy="2993760"/>
            <a:chOff x="2192400" y="3400560"/>
            <a:chExt cx="5815080" cy="2993760"/>
          </a:xfrm>
        </p:grpSpPr>
        <p:grpSp>
          <p:nvGrpSpPr>
            <p:cNvPr id="375" name=""/>
            <p:cNvGrpSpPr/>
            <p:nvPr/>
          </p:nvGrpSpPr>
          <p:grpSpPr>
            <a:xfrm>
              <a:off x="2192400" y="3400560"/>
              <a:ext cx="5815080" cy="2993760"/>
              <a:chOff x="2192400" y="3400560"/>
              <a:chExt cx="5815080" cy="2993760"/>
            </a:xfrm>
          </p:grpSpPr>
          <p:sp>
            <p:nvSpPr>
              <p:cNvPr id="376" name=""/>
              <p:cNvSpPr/>
              <p:nvPr/>
            </p:nvSpPr>
            <p:spPr>
              <a:xfrm>
                <a:off x="2216160" y="3435480"/>
                <a:ext cx="5791320" cy="2958840"/>
              </a:xfrm>
              <a:prstGeom prst="roundRect">
                <a:avLst>
                  <a:gd name="adj" fmla="val 12495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192400" y="3944880"/>
                <a:ext cx="5600880" cy="244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usto = 1h/un . 10 $/h = $10 / unidad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ustos          = $ 50,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eficiência = $ 10,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ociosidade   = $ 20,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$ 80,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564720" y="3400560"/>
                <a:ext cx="24782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Custeio Idea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187960" y="5867280"/>
              <a:ext cx="12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373040" y="1066680"/>
            <a:ext cx="4405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álise dos cu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5240" y="437760"/>
            <a:ext cx="610056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custei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9372600" cy="36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variáveis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1.000 / 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fixos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100.000 / mê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ção: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 125 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drão eficiente de produção: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1 h/un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o disponível (capacidade):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200 h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empo trabalhado: 150 h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s totais = 100000 + 125x1000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225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ço de venda = </a:t>
            </a:r>
            <a:r>
              <a:rPr b="0" lang="en-US" sz="3200" spc="-1" strike="noStrike">
                <a:solidFill>
                  <a:srgbClr val="081d58"/>
                </a:solidFill>
                <a:latin typeface="Arial"/>
              </a:rPr>
              <a:t>$ 1.800 / 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404640"/>
            <a:ext cx="5791320" cy="6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análise dos desperdí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2362320"/>
            <a:ext cx="6908760" cy="60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 fixo = 100000 / 200 =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$ 500 / h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 (eficiente)  = 500 + 1000 =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$ 1.500 /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ê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s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</a:rPr>
              <a:t>$ 187.5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iosidade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$   25.0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iciênci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$   12.5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$ 225.0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6095880"/>
            <a:ext cx="242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tiv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723920" y="2884320"/>
            <a:ext cx="4643640" cy="31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umentar a produtividade, deve-se eliminar tudo que não agrega valor aos produtos, sempre na ótica do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nsumi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676520" y="2819520"/>
          <a:ext cx="2773080" cy="29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819520"/>
                    <a:ext cx="277308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perdí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38360"/>
            <a:ext cx="4496040" cy="43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empresas devem constantement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du-zir seus desperdíci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fim de permanece-rem competitivas no mercado moderno, onde a concorrência é cada vez mais acir-r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108400" y="3429000"/>
          <a:ext cx="459900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8400" y="3429000"/>
                    <a:ext cx="459900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uração dos desperdí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5342040" cy="318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se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duz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s desper-dícios, primeiramente é necessário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nhecê-l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nsuração dos des-perdícios indica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qua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de potencialmente ser reduzido e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on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ir corretiv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638680" y="2971800"/>
          <a:ext cx="4064040" cy="33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971800"/>
                    <a:ext cx="406404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8520" y="274320"/>
            <a:ext cx="5794200" cy="9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eio Integ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75320" y="3429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1800" y="3429000"/>
            <a:ext cx="9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75320" y="3938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1800" y="393876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75320" y="58262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1800" y="58262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75320" y="63374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1800" y="63374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06760" y="345600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2280" y="3124080"/>
            <a:ext cx="1506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(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17760" y="3124080"/>
            <a:ext cx="261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ário ($/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6360" y="3911760"/>
            <a:ext cx="1800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6480" y="3657600"/>
            <a:ext cx="92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ç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58560" y="3657600"/>
            <a:ext cx="2144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6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80960" y="3657600"/>
            <a:ext cx="91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6840" y="4191120"/>
            <a:ext cx="951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29600" y="4191120"/>
            <a:ext cx="2349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57400" y="4164120"/>
            <a:ext cx="1123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,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0480" y="2209680"/>
            <a:ext cx="5171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1d58"/>
                </a:solidFill>
                <a:latin typeface="Arial"/>
              </a:rPr>
              <a:t>Resultado da empresa 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6840" y="4724280"/>
            <a:ext cx="106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uc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35240" y="4724280"/>
            <a:ext cx="2042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93560" y="4724280"/>
            <a:ext cx="91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,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36576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47242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2578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30481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75320" y="3429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81800" y="3429000"/>
            <a:ext cx="9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75320" y="3938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81800" y="393876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75320" y="58262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81800" y="58262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6324480"/>
            <a:ext cx="261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75320" y="63374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81800" y="63374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06760" y="3456000"/>
            <a:ext cx="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2280" y="3124080"/>
            <a:ext cx="1506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tal (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17760" y="3124080"/>
            <a:ext cx="261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ário ($/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3911760"/>
            <a:ext cx="1800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6480" y="3657600"/>
            <a:ext cx="92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ç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58560" y="3657600"/>
            <a:ext cx="2144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6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80960" y="3657600"/>
            <a:ext cx="919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6840" y="4191120"/>
            <a:ext cx="951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29600" y="4191120"/>
            <a:ext cx="2349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2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57400" y="4164120"/>
            <a:ext cx="1123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6840" y="5791320"/>
            <a:ext cx="106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uc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35240" y="5791320"/>
            <a:ext cx="2042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3560" y="5791320"/>
            <a:ext cx="91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,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4320" y="4724280"/>
            <a:ext cx="2772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ucro Pot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35240" y="4724280"/>
            <a:ext cx="2042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4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93560" y="4724280"/>
            <a:ext cx="91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5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36576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47242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52578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63244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5040" y="5257800"/>
            <a:ext cx="1971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Desperdí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35240" y="5257800"/>
            <a:ext cx="2042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200.000,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3560" y="5257800"/>
            <a:ext cx="91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2,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7913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0481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8520" y="274320"/>
            <a:ext cx="5794200" cy="9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ei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0480" y="2209680"/>
            <a:ext cx="5171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1d58"/>
                </a:solidFill>
                <a:latin typeface="Arial"/>
              </a:rPr>
              <a:t>Resultado da empresa 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mpet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mercado da empresa EX torna-se mais compet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reço é reduz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4T21:02:30Z</dcterms:created>
  <dc:creator>Adrian C. Ferreira</dc:creator>
  <dc:description/>
  <cp:keywords/>
  <dc:language>en-US</dc:language>
  <cp:lastModifiedBy>Rafael</cp:lastModifiedBy>
  <dcterms:modified xsi:type="dcterms:W3CDTF">2009-03-06T01:01:32Z</dcterms:modified>
  <cp:revision>51</cp:revision>
  <dc:subject/>
  <dc:title>No Slide Title</dc:title>
</cp:coreProperties>
</file>