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lick to move the slid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5800" y="492228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932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1076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5720" y="297180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580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1076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5720" y="4922280"/>
            <a:ext cx="282348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0200" y="533520"/>
            <a:ext cx="50212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9320" y="492228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971800"/>
            <a:ext cx="427932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5800" y="4922280"/>
            <a:ext cx="8769240" cy="17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1" marL="542160" indent="-2084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2" marL="83412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3" marL="116784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4" marL="1501560" indent="-16668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5" marL="1501560" indent="-16668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6" marL="1501560" indent="-16668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200" y="390600"/>
            <a:ext cx="51739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nificação da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0280" y="2274480"/>
            <a:ext cx="8585280" cy="40878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8000"/>
          </a:bodyPr>
          <a:p>
            <a:pPr marL="295560" indent="-29556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e: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1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,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2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UEP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3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,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UE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Mê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618ffd"/>
                </a:solidFill>
                <a:latin typeface="Arial"/>
              </a:rPr>
              <a:t>P1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618ffd"/>
                </a:solidFill>
                <a:latin typeface="Arial"/>
              </a:rPr>
              <a:t>P2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618ffd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ut:  1</a:t>
            </a:r>
            <a:r>
              <a:rPr b="0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1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3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.000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7.100 UEP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Nov: 1</a:t>
            </a:r>
            <a:r>
              <a:rPr b="0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1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.5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3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600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7.030 UEP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5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Dez: 1</a:t>
            </a:r>
            <a:r>
              <a:rPr b="0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1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.000 + </a:t>
            </a:r>
            <a:r>
              <a:rPr b="1" lang="en-US" sz="2800" spc="-1" strike="noStrike">
                <a:solidFill>
                  <a:srgbClr val="004e47"/>
                </a:solidFill>
                <a:latin typeface="Arial"/>
              </a:rPr>
              <a:t>1,3</a:t>
            </a:r>
            <a:r>
              <a:rPr b="1" lang="en-US" sz="1800" spc="-1" strike="noStrike">
                <a:solidFill>
                  <a:srgbClr val="003e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.300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7.090 UE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" y="2447640"/>
            <a:ext cx="876960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Ex: CT = $ 6.000.000,00  (outubro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35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  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$ 845,07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840" y="4510080"/>
          <a:ext cx="8475480" cy="200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4510080"/>
                    <a:ext cx="847548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102200" y="2976480"/>
            <a:ext cx="216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6.000.0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8600" y="35082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7.1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1800" y="3543480"/>
            <a:ext cx="1801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809880"/>
            <a:ext cx="8384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809880"/>
            <a:ext cx="8384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0240" y="3809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3240" y="3809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nificação da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9080" y="2790360"/>
            <a:ext cx="862632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Unificar a produção significa encontrar uma unidade de medida comum a toda a produção da empres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Baseia-se no trabalho realizado pelas operações produtivas na transformação da matéria-prima em produto acabado, ou seja, nos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esforços de produçã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da empres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276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forço de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5960" y="2971440"/>
            <a:ext cx="8226720" cy="33591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7000"/>
          </a:bodyPr>
          <a:p>
            <a:pPr marL="292320" indent="-29232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É o trabalho de transformação na empres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92320" indent="-29232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Esforços de produção são gerados por: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Trabalho da mão-de-obra direta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Desgaste do equipamento (depreciação)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Consumo de energia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Trabalho da mão-de-obra indireta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34320" indent="-2311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3e00"/>
                </a:solidFill>
                <a:latin typeface="Arial"/>
              </a:rPr>
              <a:t>etc.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6240" y="533520"/>
            <a:ext cx="578304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stos Opera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760" y="2752200"/>
            <a:ext cx="8454960" cy="16765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onjunto de operações produtivas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homogênea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, ou seja, todos os produtos que passam pelo posto sofrem trabalhos similare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Homogeneidad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6" name=""/>
          <p:cNvSpPr/>
          <p:nvPr/>
        </p:nvSpPr>
        <p:spPr>
          <a:xfrm>
            <a:off x="1528920" y="2786040"/>
            <a:ext cx="4817880" cy="3201840"/>
          </a:xfrm>
          <a:prstGeom prst="roundRect">
            <a:avLst>
              <a:gd name="adj" fmla="val 8306"/>
            </a:avLst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0960" y="2111400"/>
            <a:ext cx="42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47"/>
                </a:solidFill>
                <a:latin typeface="Arial"/>
              </a:rPr>
              <a:t>Posto Operativo: TORNO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739880" y="2940120"/>
            <a:ext cx="2006640" cy="2895480"/>
            <a:chOff x="1739880" y="2940120"/>
            <a:chExt cx="2006640" cy="2895480"/>
          </a:xfrm>
        </p:grpSpPr>
        <p:sp>
          <p:nvSpPr>
            <p:cNvPr id="129" name=""/>
            <p:cNvSpPr/>
            <p:nvPr/>
          </p:nvSpPr>
          <p:spPr>
            <a:xfrm>
              <a:off x="1739880" y="2940120"/>
              <a:ext cx="2006640" cy="2895480"/>
            </a:xfrm>
            <a:custGeom>
              <a:avLst/>
              <a:gdLst>
                <a:gd name="textAreaLeft" fmla="*/ 63360 w 2006640"/>
                <a:gd name="textAreaRight" fmla="*/ 1943280 w 2006640"/>
                <a:gd name="textAreaTop" fmla="*/ 63360 h 2895480"/>
                <a:gd name="textAreaBottom" fmla="*/ 2832120 h 2895480"/>
              </a:gdLst>
              <a:ahLst/>
              <a:rect l="textAreaLeft" t="textAreaTop" r="textAreaRight" b="textAreaBottom"/>
              <a:pathLst>
                <a:path w="21600" h="31166">
                  <a:moveTo>
                    <a:pt x="2333" y="0"/>
                  </a:moveTo>
                  <a:arcTo wR="2333" hR="2333" stAng="16200000" swAng="-5400000"/>
                  <a:lnTo>
                    <a:pt x="0" y="28833"/>
                  </a:lnTo>
                  <a:arcTo wR="2333" hR="2333" stAng="10800000" swAng="-5400000"/>
                  <a:lnTo>
                    <a:pt x="19267" y="31166"/>
                  </a:lnTo>
                  <a:arcTo wR="2333" hR="2333" stAng="5400000" swAng="-5400000"/>
                  <a:lnTo>
                    <a:pt x="21600" y="2333"/>
                  </a:lnTo>
                  <a:arcTo wR="2333" hR="2333" stAng="0" swAng="-5400000"/>
                  <a:close/>
                </a:path>
              </a:pathLst>
            </a:custGeom>
            <a:solidFill>
              <a:srgbClr val="eeffdd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7840" y="307512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Operação 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0800" y="3378240"/>
              <a:ext cx="1671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(Desbaste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97440" y="2940120"/>
            <a:ext cx="2159640" cy="2895480"/>
            <a:chOff x="3997440" y="2940120"/>
            <a:chExt cx="2159640" cy="2895480"/>
          </a:xfrm>
        </p:grpSpPr>
        <p:sp>
          <p:nvSpPr>
            <p:cNvPr id="133" name=""/>
            <p:cNvSpPr/>
            <p:nvPr/>
          </p:nvSpPr>
          <p:spPr>
            <a:xfrm>
              <a:off x="3997440" y="2940120"/>
              <a:ext cx="2149200" cy="2895480"/>
            </a:xfrm>
            <a:custGeom>
              <a:avLst/>
              <a:gdLst>
                <a:gd name="textAreaLeft" fmla="*/ 67320 w 2149200"/>
                <a:gd name="textAreaRight" fmla="*/ 2081880 w 2149200"/>
                <a:gd name="textAreaTop" fmla="*/ 67320 h 2895480"/>
                <a:gd name="textAreaBottom" fmla="*/ 2828160 h 2895480"/>
              </a:gdLst>
              <a:ahLst/>
              <a:rect l="textAreaLeft" t="textAreaTop" r="textAreaRight" b="textAreaBottom"/>
              <a:pathLst>
                <a:path w="21600" h="29099">
                  <a:moveTo>
                    <a:pt x="2319" y="0"/>
                  </a:moveTo>
                  <a:arcTo wR="2319" hR="2319" stAng="16200000" swAng="-5400000"/>
                  <a:lnTo>
                    <a:pt x="0" y="26780"/>
                  </a:lnTo>
                  <a:arcTo wR="2319" hR="2319" stAng="10800000" swAng="-5400000"/>
                  <a:lnTo>
                    <a:pt x="19281" y="29099"/>
                  </a:lnTo>
                  <a:arcTo wR="2319" hR="2319" stAng="5400000" swAng="-5400000"/>
                  <a:lnTo>
                    <a:pt x="21600" y="2319"/>
                  </a:lnTo>
                  <a:arcTo wR="2319" hR="2319" stAng="0" swAng="-5400000"/>
                  <a:close/>
                </a:path>
              </a:pathLst>
            </a:custGeom>
            <a:solidFill>
              <a:srgbClr val="eeffdd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50160" y="3075120"/>
              <a:ext cx="177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Operação 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1520" y="337824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(Acabamento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54320" y="4906800"/>
            <a:ext cx="3288960" cy="454680"/>
            <a:chOff x="2254320" y="4906800"/>
            <a:chExt cx="3288960" cy="454680"/>
          </a:xfrm>
        </p:grpSpPr>
        <p:sp>
          <p:nvSpPr>
            <p:cNvPr id="137" name=""/>
            <p:cNvSpPr/>
            <p:nvPr/>
          </p:nvSpPr>
          <p:spPr>
            <a:xfrm>
              <a:off x="2254320" y="490680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2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16640" y="490680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4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34800" y="3782880"/>
            <a:ext cx="8738280" cy="815040"/>
            <a:chOff x="334800" y="3782880"/>
            <a:chExt cx="8738280" cy="815040"/>
          </a:xfrm>
        </p:grpSpPr>
        <p:sp>
          <p:nvSpPr>
            <p:cNvPr id="140" name=""/>
            <p:cNvSpPr/>
            <p:nvPr/>
          </p:nvSpPr>
          <p:spPr>
            <a:xfrm>
              <a:off x="6510240" y="4419720"/>
              <a:ext cx="24544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4800" y="3782880"/>
              <a:ext cx="615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e47"/>
                  </a:solidFill>
                  <a:latin typeface="Arial"/>
                </a:rPr>
                <a:t>P1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54320" y="414324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1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6640" y="4143240"/>
              <a:ext cx="92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2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2160" y="3989520"/>
              <a:ext cx="268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Tempo P1 = 3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8120" y="4343400"/>
              <a:ext cx="9777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4800" y="4754520"/>
            <a:ext cx="8744760" cy="917280"/>
            <a:chOff x="334800" y="4754520"/>
            <a:chExt cx="8744760" cy="917280"/>
          </a:xfrm>
        </p:grpSpPr>
        <p:sp>
          <p:nvSpPr>
            <p:cNvPr id="147" name=""/>
            <p:cNvSpPr/>
            <p:nvPr/>
          </p:nvSpPr>
          <p:spPr>
            <a:xfrm>
              <a:off x="6510240" y="5181480"/>
              <a:ext cx="245448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" y="5156280"/>
              <a:ext cx="615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4e47"/>
                  </a:solidFill>
                  <a:latin typeface="Arial"/>
                </a:rPr>
                <a:t>P2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98640" y="4754520"/>
              <a:ext cx="268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4e47"/>
                  </a:solidFill>
                  <a:latin typeface="Arial"/>
                </a:rPr>
                <a:t>Tempo P2 = 6 min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800" y="5105520"/>
              <a:ext cx="97812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tenciai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31840" y="2704680"/>
            <a:ext cx="862632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s Esforços de Produção são concentrados nos Postos Operativos e repassados aos produtos que os utilizam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ada Posto Operativo possui capacidade de gerar (ou repassar) esforço de produção (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Potencial Produtiv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stos Opera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5920" y="2095560"/>
            <a:ext cx="3484080" cy="1454040"/>
            <a:chOff x="385920" y="2095560"/>
            <a:chExt cx="3484080" cy="1454040"/>
          </a:xfrm>
        </p:grpSpPr>
        <p:sp>
          <p:nvSpPr>
            <p:cNvPr id="159" name=""/>
            <p:cNvSpPr/>
            <p:nvPr/>
          </p:nvSpPr>
          <p:spPr>
            <a:xfrm>
              <a:off x="2041560" y="2662200"/>
              <a:ext cx="1590480" cy="8874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920" y="2095560"/>
              <a:ext cx="348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Esforço do equipamen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88280" y="3570120"/>
            <a:ext cx="3443760" cy="454680"/>
            <a:chOff x="188280" y="3570120"/>
            <a:chExt cx="3443760" cy="454680"/>
          </a:xfrm>
        </p:grpSpPr>
        <p:sp>
          <p:nvSpPr>
            <p:cNvPr id="162" name=""/>
            <p:cNvSpPr/>
            <p:nvPr/>
          </p:nvSpPr>
          <p:spPr>
            <a:xfrm>
              <a:off x="2763720" y="3782880"/>
              <a:ext cx="868320" cy="18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280" y="3570120"/>
              <a:ext cx="2435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Esforço da MOD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9440" y="4160520"/>
            <a:ext cx="3432600" cy="769320"/>
            <a:chOff x="199440" y="4160520"/>
            <a:chExt cx="3432600" cy="769320"/>
          </a:xfrm>
        </p:grpSpPr>
        <p:sp>
          <p:nvSpPr>
            <p:cNvPr id="165" name=""/>
            <p:cNvSpPr/>
            <p:nvPr/>
          </p:nvSpPr>
          <p:spPr>
            <a:xfrm flipV="1">
              <a:off x="2643120" y="4160520"/>
              <a:ext cx="988920" cy="5094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440" y="4475160"/>
              <a:ext cx="2301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Esforço da MOI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71720" y="4389120"/>
            <a:ext cx="3460320" cy="1664640"/>
            <a:chOff x="171720" y="4389120"/>
            <a:chExt cx="3460320" cy="1664640"/>
          </a:xfrm>
        </p:grpSpPr>
        <p:sp>
          <p:nvSpPr>
            <p:cNvPr id="168" name=""/>
            <p:cNvSpPr/>
            <p:nvPr/>
          </p:nvSpPr>
          <p:spPr>
            <a:xfrm flipV="1">
              <a:off x="2529000" y="4389120"/>
              <a:ext cx="1103040" cy="11667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720" y="5599080"/>
              <a:ext cx="2334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Outros esforç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333240" y="2538360"/>
            <a:ext cx="3095280" cy="2160720"/>
            <a:chOff x="3333240" y="2538360"/>
            <a:chExt cx="3095280" cy="2160720"/>
          </a:xfrm>
        </p:grpSpPr>
        <p:grpSp>
          <p:nvGrpSpPr>
            <p:cNvPr id="171" name=""/>
            <p:cNvGrpSpPr/>
            <p:nvPr/>
          </p:nvGrpSpPr>
          <p:grpSpPr>
            <a:xfrm>
              <a:off x="3333240" y="2538360"/>
              <a:ext cx="3095280" cy="2160720"/>
              <a:chOff x="3333240" y="2538360"/>
              <a:chExt cx="3095280" cy="2160720"/>
            </a:xfrm>
          </p:grpSpPr>
          <p:sp>
            <p:nvSpPr>
              <p:cNvPr id="172" name=""/>
              <p:cNvSpPr/>
              <p:nvPr/>
            </p:nvSpPr>
            <p:spPr>
              <a:xfrm>
                <a:off x="3651120" y="3263760"/>
                <a:ext cx="2238480" cy="1435320"/>
              </a:xfrm>
              <a:prstGeom prst="rect">
                <a:avLst/>
              </a:prstGeom>
              <a:solidFill>
                <a:srgbClr val="c0fef9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33240" y="2538360"/>
                <a:ext cx="3095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Posto Operativ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862800" y="3451320"/>
              <a:ext cx="1897560" cy="106380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otencial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rodutiv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10120" y="3755880"/>
            <a:ext cx="2813040" cy="576360"/>
            <a:chOff x="5910120" y="3755880"/>
            <a:chExt cx="2813040" cy="576360"/>
          </a:xfrm>
        </p:grpSpPr>
        <p:sp>
          <p:nvSpPr>
            <p:cNvPr id="176" name=""/>
            <p:cNvSpPr/>
            <p:nvPr/>
          </p:nvSpPr>
          <p:spPr>
            <a:xfrm flipV="1">
              <a:off x="5910120" y="4011120"/>
              <a:ext cx="938520" cy="3996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5600" y="375588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tenciai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tivos Determin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5800" y="3200040"/>
            <a:ext cx="8569080" cy="28558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método da UEP quantifica os esforços de produção a partir da determinação dos potenciais produ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cura-se determinar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relaçõe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entre os potenciais produtivos dos postos opera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4240" y="267624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 máquinas: uma manual e outra automátic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44440" y="3578400"/>
            <a:ext cx="2872080" cy="1434960"/>
            <a:chOff x="1144440" y="3578400"/>
            <a:chExt cx="2872080" cy="1434960"/>
          </a:xfrm>
        </p:grpSpPr>
        <p:sp>
          <p:nvSpPr>
            <p:cNvPr id="187" name=""/>
            <p:cNvSpPr/>
            <p:nvPr/>
          </p:nvSpPr>
          <p:spPr>
            <a:xfrm>
              <a:off x="1144440" y="3578400"/>
              <a:ext cx="2872080" cy="1434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8240" y="3703680"/>
              <a:ext cx="2432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áquina manu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OD “básica”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aixo valor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32200" y="3578400"/>
            <a:ext cx="3291120" cy="1434960"/>
            <a:chOff x="4732200" y="3578400"/>
            <a:chExt cx="3291120" cy="1434960"/>
          </a:xfrm>
        </p:grpSpPr>
        <p:sp>
          <p:nvSpPr>
            <p:cNvPr id="190" name=""/>
            <p:cNvSpPr/>
            <p:nvPr/>
          </p:nvSpPr>
          <p:spPr>
            <a:xfrm>
              <a:off x="4732200" y="3578400"/>
              <a:ext cx="3291120" cy="1434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12200" y="3703680"/>
              <a:ext cx="29246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áquina automátic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OD especializad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lto valor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969840" y="5419800"/>
            <a:ext cx="6578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Qual delas tem a maior capacidade de produzir esforços de produção?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2104920"/>
            <a:ext cx="6030720" cy="12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étodo da Unidade de Esforço de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38040" y="4430520"/>
            <a:ext cx="3562200" cy="6714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Autofit/>
          </a:bodyPr>
          <a:p>
            <a:pPr marL="301680" indent="0" algn="ctr">
              <a:spcBef>
                <a:spcPts val="4124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i="1" lang="en-US" sz="6600" spc="-1" strike="noStrike">
                <a:solidFill>
                  <a:srgbClr val="081d58"/>
                </a:solidFill>
                <a:latin typeface="Arial"/>
              </a:rPr>
              <a:t>UEP</a:t>
            </a:r>
            <a:endParaRPr b="0" lang="en-US" sz="66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89080" y="3200040"/>
            <a:ext cx="8340480" cy="3505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ara cada Posto Operativo, calculam-se seus índices de custos ($/h) da forma mais precisa possível (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ustos Técnicos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As relações entre os potenciais produtivos (UEP/h) são estimadas usando as relações entre índices de cust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838080"/>
            <a:ext cx="510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80049"/>
                </a:solidFill>
                <a:latin typeface="Bookman Old Style"/>
              </a:rPr>
              <a:t>Potenciais 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80049"/>
                </a:solidFill>
                <a:latin typeface="Bookman Old Style"/>
              </a:rPr>
              <a:t>Produtivos Quantificação</a:t>
            </a:r>
            <a:endParaRPr b="0" lang="en-US" sz="4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797360" cy="6573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Três postos operativos: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411280" y="2690640"/>
            <a:ext cx="6278760" cy="1209960"/>
            <a:chOff x="2411280" y="2690640"/>
            <a:chExt cx="6278760" cy="1209960"/>
          </a:xfrm>
        </p:grpSpPr>
        <p:sp>
          <p:nvSpPr>
            <p:cNvPr id="202" name=""/>
            <p:cNvSpPr/>
            <p:nvPr/>
          </p:nvSpPr>
          <p:spPr>
            <a:xfrm>
              <a:off x="2411280" y="2690640"/>
              <a:ext cx="1677960" cy="1209960"/>
            </a:xfrm>
            <a:prstGeom prst="roundRect">
              <a:avLst>
                <a:gd name="adj" fmla="val 18352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11680" y="2690640"/>
              <a:ext cx="1677960" cy="1209960"/>
            </a:xfrm>
            <a:prstGeom prst="roundRect">
              <a:avLst>
                <a:gd name="adj" fmla="val 18352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2080" y="2690640"/>
              <a:ext cx="1677960" cy="1209960"/>
            </a:xfrm>
            <a:prstGeom prst="roundRect">
              <a:avLst>
                <a:gd name="adj" fmla="val 18352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03320" y="3130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01920" y="3130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320" y="3130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87440" y="4037040"/>
            <a:ext cx="7983720" cy="820440"/>
            <a:chOff x="487440" y="4037040"/>
            <a:chExt cx="7983720" cy="820440"/>
          </a:xfrm>
        </p:grpSpPr>
        <p:sp>
          <p:nvSpPr>
            <p:cNvPr id="209" name=""/>
            <p:cNvSpPr/>
            <p:nvPr/>
          </p:nvSpPr>
          <p:spPr>
            <a:xfrm>
              <a:off x="487440" y="4037040"/>
              <a:ext cx="1638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Índices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 Custos: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6920" y="43513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00 /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87360" y="43513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200 /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7760" y="4351320"/>
              <a:ext cx="128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50 /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84640" y="4881600"/>
            <a:ext cx="4232160" cy="1116000"/>
            <a:chOff x="3284640" y="4881600"/>
            <a:chExt cx="4232160" cy="1116000"/>
          </a:xfrm>
        </p:grpSpPr>
        <p:sp>
          <p:nvSpPr>
            <p:cNvPr id="214" name=""/>
            <p:cNvSpPr/>
            <p:nvPr/>
          </p:nvSpPr>
          <p:spPr>
            <a:xfrm>
              <a:off x="3284640" y="4894200"/>
              <a:ext cx="0" cy="10908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94240" y="4894200"/>
              <a:ext cx="0" cy="10908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894200"/>
              <a:ext cx="0" cy="1090800"/>
            </a:xfrm>
            <a:prstGeom prst="line">
              <a:avLst/>
            </a:prstGeom>
            <a:ln w="255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98680" y="4881600"/>
              <a:ext cx="1871640" cy="103968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98680" y="4881600"/>
              <a:ext cx="3770280" cy="111600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484080" y="4881600"/>
              <a:ext cx="1922760" cy="103968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08640" y="4881600"/>
              <a:ext cx="1941480" cy="111600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94400" y="4881600"/>
              <a:ext cx="1922400" cy="103968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835440" y="4881600"/>
              <a:ext cx="3681360" cy="1116000"/>
            </a:xfrm>
            <a:prstGeom prst="line">
              <a:avLst/>
            </a:prstGeom>
            <a:ln w="1260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87800" y="5659560"/>
            <a:ext cx="8084160" cy="826200"/>
            <a:chOff x="487800" y="5659560"/>
            <a:chExt cx="8084160" cy="826200"/>
          </a:xfrm>
        </p:grpSpPr>
        <p:sp>
          <p:nvSpPr>
            <p:cNvPr id="224" name=""/>
            <p:cNvSpPr/>
            <p:nvPr/>
          </p:nvSpPr>
          <p:spPr>
            <a:xfrm>
              <a:off x="487800" y="5659560"/>
              <a:ext cx="1705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tenciais 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dutivos: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26120" y="6031080"/>
              <a:ext cx="148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6920" y="6031080"/>
              <a:ext cx="148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7320" y="6031080"/>
              <a:ext cx="148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200" y="53352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incípio das Relações Constante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88520" y="3047760"/>
            <a:ext cx="8226360" cy="36003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As relações entre os Potenciais Produtivos não são alteradas se não houver modificações na estrutura produtiv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método da UEP é implantado e seus cálculos de implantação podem ser refeitos a cada biênio ou anualmente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8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6160" y="2742840"/>
            <a:ext cx="8616960" cy="399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47000"/>
          </a:bodyPr>
          <a:p>
            <a:pPr marL="141480" indent="-1414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s esforços são alocados aos produtos de acordo com os tempos de passagem nos post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31400" y="419040"/>
            <a:ext cx="558324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forços de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7640" y="3780000"/>
            <a:ext cx="6912000" cy="1352520"/>
            <a:chOff x="917640" y="3780000"/>
            <a:chExt cx="6912000" cy="1352520"/>
          </a:xfrm>
        </p:grpSpPr>
        <p:sp>
          <p:nvSpPr>
            <p:cNvPr id="237" name=""/>
            <p:cNvSpPr/>
            <p:nvPr/>
          </p:nvSpPr>
          <p:spPr>
            <a:xfrm>
              <a:off x="917640" y="3808440"/>
              <a:ext cx="2162160" cy="1319040"/>
            </a:xfrm>
            <a:prstGeom prst="roundRect">
              <a:avLst>
                <a:gd name="adj" fmla="val 18389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160" y="3780000"/>
              <a:ext cx="2165400" cy="1323720"/>
            </a:xfrm>
            <a:prstGeom prst="roundRect">
              <a:avLst>
                <a:gd name="adj" fmla="val 18324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64240" y="3808440"/>
              <a:ext cx="2165400" cy="1324080"/>
            </a:xfrm>
            <a:prstGeom prst="roundRect">
              <a:avLst>
                <a:gd name="adj" fmla="val 18324"/>
              </a:avLst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9920" y="3957480"/>
              <a:ext cx="844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O1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07440" y="3929040"/>
              <a:ext cx="844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O2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66520" y="3957480"/>
              <a:ext cx="844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PO3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18240" y="4456080"/>
              <a:ext cx="1598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0 UEP/h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64720" y="4427640"/>
              <a:ext cx="1598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0 UEP/h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23440" y="4456080"/>
              <a:ext cx="1598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5 UEP/h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62000" y="4788000"/>
            <a:ext cx="9008280" cy="1167480"/>
            <a:chOff x="162000" y="4788000"/>
            <a:chExt cx="9008280" cy="1167480"/>
          </a:xfrm>
        </p:grpSpPr>
        <p:sp>
          <p:nvSpPr>
            <p:cNvPr id="247" name=""/>
            <p:cNvSpPr/>
            <p:nvPr/>
          </p:nvSpPr>
          <p:spPr>
            <a:xfrm>
              <a:off x="3317040" y="542304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 h (2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76120" y="545148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 h (3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2000" y="5394240"/>
              <a:ext cx="66168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70560" y="545148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3 h (3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7846560" y="4788000"/>
              <a:ext cx="1323720" cy="1148400"/>
              <a:chOff x="7846560" y="4788000"/>
              <a:chExt cx="1323720" cy="1148400"/>
            </a:xfrm>
          </p:grpSpPr>
          <p:sp>
            <p:nvSpPr>
              <p:cNvPr id="252" name=""/>
              <p:cNvSpPr/>
              <p:nvPr/>
            </p:nvSpPr>
            <p:spPr>
              <a:xfrm>
                <a:off x="7846560" y="4788000"/>
                <a:ext cx="124992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847640" y="5451480"/>
                <a:ext cx="1322640" cy="48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Arial"/>
                  </a:rPr>
                  <a:t> UEP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62000" y="6058080"/>
            <a:ext cx="9025920" cy="561240"/>
            <a:chOff x="162000" y="6058080"/>
            <a:chExt cx="9025920" cy="561240"/>
          </a:xfrm>
        </p:grpSpPr>
        <p:sp>
          <p:nvSpPr>
            <p:cNvPr id="255" name=""/>
            <p:cNvSpPr/>
            <p:nvPr/>
          </p:nvSpPr>
          <p:spPr>
            <a:xfrm>
              <a:off x="162000" y="6058080"/>
              <a:ext cx="66168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0560" y="611496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1 h (1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17040" y="608652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3 h (6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76120" y="611496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2 h (30 UEP)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80600" y="6114960"/>
              <a:ext cx="15073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UEP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1739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EP - Implant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46120" y="3276720"/>
            <a:ext cx="7454880" cy="2838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1000"/>
          </a:bodyPr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Definição dos Postos Operativ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álculo dos Índices de Cus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Escolha do Produto Base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Determinação dos Potenciais Produtiv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74320" indent="-274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álculo das Equivalentes dos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4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5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4440" y="590400"/>
            <a:ext cx="53802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Definiçã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stos Operativos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2971440"/>
            <a:ext cx="8397720" cy="28638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onjunto de operações produtivas elementares homogênea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eferencialmente,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1 máquina = 1 post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posto operativo é o foco concentrador dos esforços de produção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4320" y="533520"/>
            <a:ext cx="528804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Índices de Cus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02840" y="2647440"/>
            <a:ext cx="842652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4e47"/>
                </a:solidFill>
                <a:latin typeface="Arial"/>
              </a:rPr>
              <a:t>Custos devem representar da forma mais acurada possível o dispêndio de insumos por parte dos postos em funcionamento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4e47"/>
                </a:solidFill>
                <a:latin typeface="Arial"/>
              </a:rPr>
              <a:t>Principais itens: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OD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OI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Depreciação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  <a:p>
            <a:pPr lvl="1" marL="654120" indent="-238320">
              <a:spcBef>
                <a:spcPts val="624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ateriais de Consumo</a:t>
            </a:r>
            <a:endParaRPr b="0" lang="en-US" sz="25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4724280"/>
            <a:ext cx="34862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80049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Energia Elétrica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80049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Manutenção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280049"/>
              </a:buClr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4e47"/>
                </a:solidFill>
                <a:latin typeface="Arial"/>
              </a:rPr>
              <a:t>Utilidades</a:t>
            </a:r>
            <a:endParaRPr b="0" lang="en-US" sz="25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6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colha do Produto Bas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88520" y="2762280"/>
            <a:ext cx="8255160" cy="38671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to real ou fictício que represente o uso da estrutura produtiv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ua função é amortecer variações individuais dos potenciais produ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custo do produto base é a referência de comparação para a determinação das relações entre os potenciais produ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640" y="533520"/>
            <a:ext cx="61945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otenciais Produ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Os potenciais produtivos são determinados dividindo-se os índices de custos pelo custo do produto base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80880" y="5029200"/>
            <a:ext cx="8388000" cy="1415880"/>
            <a:chOff x="380880" y="5029200"/>
            <a:chExt cx="8388000" cy="1415880"/>
          </a:xfrm>
        </p:grpSpPr>
        <p:sp>
          <p:nvSpPr>
            <p:cNvPr id="282" name=""/>
            <p:cNvSpPr/>
            <p:nvPr/>
          </p:nvSpPr>
          <p:spPr>
            <a:xfrm>
              <a:off x="380880" y="5029200"/>
              <a:ext cx="8388000" cy="1415880"/>
            </a:xfrm>
            <a:prstGeom prst="roundRect">
              <a:avLst>
                <a:gd name="adj" fmla="val 12486"/>
              </a:avLst>
            </a:prstGeom>
            <a:solidFill>
              <a:srgbClr val="feffe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40280" y="5122800"/>
              <a:ext cx="8108280" cy="1267200"/>
              <a:chOff x="440280" y="5122800"/>
              <a:chExt cx="8108280" cy="1267200"/>
            </a:xfrm>
          </p:grpSpPr>
          <p:sp>
            <p:nvSpPr>
              <p:cNvPr id="284" name=""/>
              <p:cNvSpPr/>
              <p:nvPr/>
            </p:nvSpPr>
            <p:spPr>
              <a:xfrm>
                <a:off x="5062320" y="5730120"/>
                <a:ext cx="3486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0280" y="5427000"/>
                <a:ext cx="190512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Potencial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62040" y="5427000"/>
                <a:ext cx="195228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Produtiv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3400" y="5122800"/>
                <a:ext cx="12999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Índice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52920" y="5122800"/>
                <a:ext cx="64764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6320" y="5122800"/>
                <a:ext cx="148752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Custos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79520" y="5798520"/>
                <a:ext cx="101952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Fot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47640" y="5798520"/>
                <a:ext cx="127728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Cust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84680" y="5798520"/>
                <a:ext cx="113688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Arial"/>
                  </a:rPr>
                  <a:t>Base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529520" y="5427000"/>
                <a:ext cx="5151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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quivalentes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3000" y="3151080"/>
            <a:ext cx="8111880" cy="11080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s produtos absorvem os esforços de produção em sua passagem pelos postos operativos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EP - Históric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5800" y="3033360"/>
            <a:ext cx="8769240" cy="31050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945 - Eng. Georges Perrin - Método G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960 - Eng. Franz Allora - Método da UE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986 - Prof. Francisco Kliemann (UFSC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001 - +-120 empresas (RS, SC, PR, SP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Implant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4400" y="2790360"/>
            <a:ext cx="7683480" cy="20955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 algn="ctr">
              <a:spcBef>
                <a:spcPts val="2001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Definicão dos Postos Operativos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4 Postos Operativ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4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3680" y="2625840"/>
            <a:ext cx="8572320" cy="3884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Índices de Cus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06" name=""/>
          <p:cNvSpPr/>
          <p:nvPr/>
        </p:nvSpPr>
        <p:spPr>
          <a:xfrm>
            <a:off x="3006720" y="26290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06720" y="263700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05400" y="2631960"/>
            <a:ext cx="1158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em de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22040" y="2631960"/>
            <a:ext cx="3752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Índices de custos ($ / h)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6720" y="30211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14640" y="3021120"/>
            <a:ext cx="1434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49600" y="30211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9320" y="3021120"/>
            <a:ext cx="1427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6360" y="302112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96080" y="3021120"/>
            <a:ext cx="1430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26360" y="30211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35720" y="3021120"/>
            <a:ext cx="1428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029040"/>
            <a:ext cx="7920" cy="38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35720" y="3024360"/>
            <a:ext cx="939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9976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1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3796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2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472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3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16160" y="3024360"/>
            <a:ext cx="75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 4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06720" y="341460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49600" y="341460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06720" y="3422520"/>
            <a:ext cx="79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0040" y="3416400"/>
            <a:ext cx="773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25200" y="34164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1440" y="341640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00440" y="3429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360" y="34113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6720" y="380700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6800" y="3800520"/>
            <a:ext cx="625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I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04960" y="38098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57280" y="38005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93960" y="38005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38005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06720" y="419112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8840" y="4184640"/>
            <a:ext cx="1971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reciaçã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3240" y="418464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1440" y="418464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0440" y="41911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48360" y="417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06720" y="4575240"/>
            <a:ext cx="7920" cy="38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9040" y="4568760"/>
            <a:ext cx="2317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. Elétrica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25200" y="4568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1440" y="45687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495840" y="4568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41600" y="4568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06720" y="4960800"/>
            <a:ext cx="7920" cy="3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1360" y="4954680"/>
            <a:ext cx="2282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. Consum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19080" y="4954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57280" y="4954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440" y="4950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29280" y="4954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06720" y="534528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1160" y="5338800"/>
            <a:ext cx="1934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19080" y="53388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1440" y="533880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440" y="53341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360" y="53341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06720" y="572940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5722920"/>
            <a:ext cx="1582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19080" y="57229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3400" y="57229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95840" y="572292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29640" y="5722920"/>
            <a:ext cx="201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06720" y="6113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9600" y="611352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1760" y="6507000"/>
            <a:ext cx="28749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06720" y="6122880"/>
            <a:ext cx="7920" cy="38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06720" y="6507000"/>
            <a:ext cx="79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14640" y="6507000"/>
            <a:ext cx="14349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49600" y="6507000"/>
            <a:ext cx="97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59320" y="6507000"/>
            <a:ext cx="14270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86360" y="6507000"/>
            <a:ext cx="972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96080" y="6507000"/>
            <a:ext cx="143028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26360" y="6507000"/>
            <a:ext cx="936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35720" y="6507000"/>
            <a:ext cx="1428840" cy="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6440" y="6116760"/>
            <a:ext cx="1875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 (FIPO)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1288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108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8784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29280" y="61167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440" y="2637000"/>
            <a:ext cx="0" cy="387000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760" y="2625840"/>
            <a:ext cx="85582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1600" y="3409920"/>
            <a:ext cx="8570880" cy="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66000" y="2633760"/>
            <a:ext cx="0" cy="387180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colha do Produto Bas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92" name=""/>
          <p:cNvSpPr/>
          <p:nvPr/>
        </p:nvSpPr>
        <p:spPr>
          <a:xfrm>
            <a:off x="471600" y="3000240"/>
            <a:ext cx="6120" cy="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1600" y="3000240"/>
            <a:ext cx="6120" cy="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35200" y="3000240"/>
            <a:ext cx="6480" cy="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1600" y="3019320"/>
            <a:ext cx="6120" cy="428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1600" y="345744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5640" y="3895560"/>
            <a:ext cx="2138400" cy="97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1600" y="3914640"/>
            <a:ext cx="6120" cy="47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1600" y="39718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5640" y="4410000"/>
            <a:ext cx="2138400" cy="97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1600" y="44290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1600" y="48848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1600" y="53420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160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160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35200" y="5799240"/>
            <a:ext cx="64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7520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9484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94840" y="5799240"/>
            <a:ext cx="612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94840" y="3019320"/>
            <a:ext cx="6120" cy="428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394840" y="345744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94840" y="39718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94840" y="4429080"/>
            <a:ext cx="6120" cy="447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5640" y="4865760"/>
            <a:ext cx="2138400" cy="9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94840" y="48848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94840" y="5342040"/>
            <a:ext cx="6120" cy="4474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5618160"/>
            <a:ext cx="2138400" cy="9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6094440"/>
            <a:ext cx="213840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02040" y="6094440"/>
            <a:ext cx="14158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43480" y="6094440"/>
            <a:ext cx="14158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7280" y="6094440"/>
            <a:ext cx="64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83120" y="6094440"/>
            <a:ext cx="141624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07280" y="6094440"/>
            <a:ext cx="648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23120" y="6094440"/>
            <a:ext cx="1416240" cy="9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3314880"/>
            <a:ext cx="2138400" cy="4284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3314880"/>
            <a:ext cx="5749920" cy="42840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25240" y="3276720"/>
            <a:ext cx="5558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Tempos de passagem (horas)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3753000"/>
            <a:ext cx="2138400" cy="4284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47680" y="3713040"/>
            <a:ext cx="1643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rodut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87640" y="375300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8168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27640" y="375300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1988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2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375300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5988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07280" y="375300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01320" y="3726000"/>
            <a:ext cx="1048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O 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210200"/>
            <a:ext cx="21384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4248000"/>
            <a:ext cx="21384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87640" y="4210200"/>
            <a:ext cx="3672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87640" y="4248000"/>
            <a:ext cx="3672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3372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3372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27640" y="4210200"/>
            <a:ext cx="3636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27640" y="4248000"/>
            <a:ext cx="3636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7372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7372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67280" y="4210200"/>
            <a:ext cx="3672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867280" y="4248000"/>
            <a:ext cx="3672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1336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1336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4210200"/>
            <a:ext cx="3636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07280" y="4248000"/>
            <a:ext cx="3636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353360" y="4210200"/>
            <a:ext cx="1384200" cy="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53360" y="4248000"/>
            <a:ext cx="1384200" cy="97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747280" y="4210200"/>
            <a:ext cx="6120" cy="4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80" y="4267080"/>
            <a:ext cx="2138400" cy="428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80400" y="422748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87640" y="42670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42880" y="42400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27640" y="42670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81080" y="42400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2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42670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03440" y="4226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07280" y="42670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60720" y="42400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4724280"/>
            <a:ext cx="2138400" cy="428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80400" y="468468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2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87640" y="47242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42880" y="46972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27640" y="47242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81080" y="46972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4724280"/>
            <a:ext cx="1430280" cy="44784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1080" y="469728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4724280"/>
            <a:ext cx="1430280" cy="447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3440" y="4683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2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5180040"/>
            <a:ext cx="2138400" cy="428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80400" y="514044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3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87640" y="51800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2880" y="5153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5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427640" y="51800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84320" y="512280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5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51800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21080" y="5153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5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07280" y="51800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60720" y="51530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1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5637240"/>
            <a:ext cx="213840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80400" y="5610240"/>
            <a:ext cx="6476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P4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7640" y="56372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4288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27640" y="56372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8108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1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5637240"/>
            <a:ext cx="1430280" cy="447480"/>
          </a:xfrm>
          <a:prstGeom prst="rect">
            <a:avLst/>
          </a:prstGeom>
          <a:solidFill>
            <a:srgbClr val="fff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2108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7280" y="5637240"/>
            <a:ext cx="1430280" cy="447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60720" y="5610240"/>
            <a:ext cx="92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79f"/>
                </a:solidFill>
                <a:latin typeface="Arial"/>
              </a:rPr>
              <a:t>0,01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90880" y="3301920"/>
            <a:ext cx="0" cy="27781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49240" y="6086520"/>
            <a:ext cx="7900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41320" y="3301920"/>
            <a:ext cx="0" cy="27781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755200" y="3313080"/>
            <a:ext cx="0" cy="277812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49240" y="471024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49240" y="516096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9240" y="561024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61840" y="3745080"/>
            <a:ext cx="78775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753000"/>
            <a:ext cx="0" cy="232704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48200" y="3753000"/>
            <a:ext cx="0" cy="232704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04040" y="3753000"/>
            <a:ext cx="0" cy="232704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49240" y="3306600"/>
            <a:ext cx="7902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579132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228600" y="4343400"/>
            <a:ext cx="8637480" cy="1382760"/>
            <a:chOff x="228600" y="4343400"/>
            <a:chExt cx="8637480" cy="1382760"/>
          </a:xfrm>
        </p:grpSpPr>
        <p:grpSp>
          <p:nvGrpSpPr>
            <p:cNvPr id="511" name=""/>
            <p:cNvGrpSpPr/>
            <p:nvPr/>
          </p:nvGrpSpPr>
          <p:grpSpPr>
            <a:xfrm>
              <a:off x="228600" y="4343400"/>
              <a:ext cx="8637480" cy="1382760"/>
              <a:chOff x="228600" y="4343400"/>
              <a:chExt cx="8637480" cy="1382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228600" y="4343400"/>
                <a:ext cx="8637480" cy="1376280"/>
                <a:chOff x="228600" y="4343400"/>
                <a:chExt cx="8637480" cy="13762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8600" y="4343400"/>
                  <a:ext cx="8637480" cy="137628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75040" y="4357440"/>
                  <a:ext cx="2478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roduto Base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98440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16556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2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35320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3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34360" y="4357440"/>
                  <a:ext cx="86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PO 4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780680" y="4357440"/>
                  <a:ext cx="910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Total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20920" y="4817880"/>
                  <a:ext cx="2053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Tempos (h)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4092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0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22208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1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40936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0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90520" y="4817880"/>
                  <a:ext cx="741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0,01</a:t>
                  </a:r>
                  <a:endParaRPr b="0" lang="en-US" sz="30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715160" y="48178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7535880" y="4811760"/>
                <a:ext cx="7920" cy="453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535880" y="5271840"/>
                <a:ext cx="7920" cy="454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535880" y="4351320"/>
              <a:ext cx="7920" cy="45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72040" y="5278320"/>
            <a:ext cx="7934400" cy="457200"/>
            <a:chOff x="572040" y="5278320"/>
            <a:chExt cx="7934400" cy="457200"/>
          </a:xfrm>
        </p:grpSpPr>
        <p:sp>
          <p:nvSpPr>
            <p:cNvPr id="530" name=""/>
            <p:cNvSpPr/>
            <p:nvPr/>
          </p:nvSpPr>
          <p:spPr>
            <a:xfrm>
              <a:off x="572040" y="5278320"/>
              <a:ext cx="19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Foto cust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092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,3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2208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,3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936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,7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9052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0,6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65200" y="52783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800080"/>
                  </a:solidFill>
                  <a:latin typeface="Arial"/>
                </a:rPr>
                <a:t>5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scolha do Produto Base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39" name=""/>
          <p:cNvSpPr/>
          <p:nvPr/>
        </p:nvSpPr>
        <p:spPr>
          <a:xfrm>
            <a:off x="3606840" y="2838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889520" y="2838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453440" y="28386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89520" y="3297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9400" y="3757680"/>
            <a:ext cx="3457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06840" y="3757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14760" y="3757680"/>
            <a:ext cx="1274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89520" y="37576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96000" y="3757680"/>
            <a:ext cx="1274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70760" y="3757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78680" y="3757680"/>
            <a:ext cx="1274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53440" y="3757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1360" y="3757680"/>
            <a:ext cx="1272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00640" y="32846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27360" y="4410000"/>
            <a:ext cx="792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0600" y="4863960"/>
            <a:ext cx="260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27360" y="4863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5280" y="486396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09960" y="4863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6440" y="486396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91120" y="4863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099040" y="4863960"/>
            <a:ext cx="118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280200" y="4863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86680" y="486396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61360" y="4863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469280" y="4863960"/>
            <a:ext cx="1346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27360" y="4870440"/>
            <a:ext cx="792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0600" y="5324400"/>
            <a:ext cx="2606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7360" y="53244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35280" y="532440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09960" y="5324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16440" y="532440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91120" y="53244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99040" y="5324400"/>
            <a:ext cx="1181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80200" y="5324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86680" y="5324400"/>
            <a:ext cx="117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1360" y="53244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469280" y="5324400"/>
            <a:ext cx="1346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27360" y="5330880"/>
            <a:ext cx="7920" cy="45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824920" y="5943600"/>
            <a:ext cx="2947680" cy="576360"/>
          </a:xfrm>
          <a:prstGeom prst="rect">
            <a:avLst/>
          </a:prstGeom>
          <a:solidFill>
            <a:srgbClr val="dbffb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 UEP = $ 5,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49400" y="2832120"/>
            <a:ext cx="8616600" cy="925560"/>
            <a:chOff x="149400" y="2832120"/>
            <a:chExt cx="8616600" cy="925560"/>
          </a:xfrm>
        </p:grpSpPr>
        <p:sp>
          <p:nvSpPr>
            <p:cNvPr id="580" name=""/>
            <p:cNvSpPr/>
            <p:nvPr/>
          </p:nvSpPr>
          <p:spPr>
            <a:xfrm>
              <a:off x="154080" y="2832120"/>
              <a:ext cx="8611920" cy="925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9400" y="2838600"/>
              <a:ext cx="3457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14760" y="2838600"/>
              <a:ext cx="1274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96000" y="2838600"/>
              <a:ext cx="1274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170760" y="283860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8680" y="2838600"/>
              <a:ext cx="12747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61360" y="2838600"/>
              <a:ext cx="12729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7520" y="2840040"/>
              <a:ext cx="294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sto Operativ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7360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4692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2780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3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10480" y="284004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O 4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37080" y="3284640"/>
              <a:ext cx="7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4840" y="3297240"/>
              <a:ext cx="2221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Índices ($/h)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7880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5212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3300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15680" y="3297240"/>
              <a:ext cx="424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4600" y="3306600"/>
              <a:ext cx="85852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18000" y="2840040"/>
              <a:ext cx="0" cy="9111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9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58480" y="3952800"/>
            <a:ext cx="8585640" cy="1954440"/>
            <a:chOff x="258480" y="3952800"/>
            <a:chExt cx="8585640" cy="1954440"/>
          </a:xfrm>
        </p:grpSpPr>
        <p:grpSp>
          <p:nvGrpSpPr>
            <p:cNvPr id="603" name=""/>
            <p:cNvGrpSpPr/>
            <p:nvPr/>
          </p:nvGrpSpPr>
          <p:grpSpPr>
            <a:xfrm>
              <a:off x="258480" y="3952800"/>
              <a:ext cx="8577720" cy="1944720"/>
              <a:chOff x="258480" y="3952800"/>
              <a:chExt cx="8577720" cy="1944720"/>
            </a:xfrm>
          </p:grpSpPr>
          <p:sp>
            <p:nvSpPr>
              <p:cNvPr id="604" name=""/>
              <p:cNvSpPr/>
              <p:nvPr/>
            </p:nvSpPr>
            <p:spPr>
              <a:xfrm>
                <a:off x="351000" y="4968720"/>
                <a:ext cx="333828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258480" y="3952800"/>
                <a:ext cx="8577720" cy="1944720"/>
                <a:chOff x="258480" y="3952800"/>
                <a:chExt cx="8577720" cy="1944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09600" y="4968720"/>
                  <a:ext cx="468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09600" y="5437080"/>
                  <a:ext cx="468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831160" y="5437080"/>
                  <a:ext cx="504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831160" y="4968720"/>
                  <a:ext cx="5040" cy="460440"/>
                </a:xfrm>
                <a:prstGeom prst="rect">
                  <a:avLst/>
                </a:prstGeom>
                <a:solidFill>
                  <a:srgbClr val="00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699000" y="4968720"/>
                  <a:ext cx="1276200" cy="460440"/>
                </a:xfrm>
                <a:prstGeom prst="rect">
                  <a:avLst/>
                </a:pr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986360" y="4968720"/>
                  <a:ext cx="1276200" cy="460440"/>
                </a:xfrm>
                <a:prstGeom prst="rect">
                  <a:avLst/>
                </a:pr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272280" y="4968720"/>
                  <a:ext cx="1276200" cy="460440"/>
                </a:xfrm>
                <a:prstGeom prst="rect">
                  <a:avLst/>
                </a:pr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558200" y="4968720"/>
                  <a:ext cx="1263600" cy="460440"/>
                </a:xfrm>
                <a:prstGeom prst="rect">
                  <a:avLst/>
                </a:pr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4" name=""/>
                <p:cNvGrpSpPr/>
                <p:nvPr/>
              </p:nvGrpSpPr>
              <p:grpSpPr>
                <a:xfrm>
                  <a:off x="258480" y="3952800"/>
                  <a:ext cx="8577720" cy="1575000"/>
                  <a:chOff x="258480" y="3952800"/>
                  <a:chExt cx="8577720" cy="15750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309600" y="3952800"/>
                    <a:ext cx="4680" cy="4788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8831160" y="3990960"/>
                    <a:ext cx="5040" cy="97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8831160" y="3990960"/>
                    <a:ext cx="5040" cy="972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309600" y="4010040"/>
                    <a:ext cx="468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8831160" y="4010040"/>
                    <a:ext cx="504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51000" y="4010040"/>
                    <a:ext cx="333828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58480" y="3975120"/>
                    <a:ext cx="35038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stos Operativos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3699000" y="401004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84732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1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4986360" y="4010040"/>
                    <a:ext cx="12762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513288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2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6272280" y="401004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641880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3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558200" y="4010040"/>
                    <a:ext cx="12636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7704720" y="3975120"/>
                    <a:ext cx="110808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PO 4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51000" y="4489560"/>
                    <a:ext cx="33382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719520" y="4489560"/>
                    <a:ext cx="12556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986360" y="4489560"/>
                    <a:ext cx="1116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006880" y="4489560"/>
                    <a:ext cx="12556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6272280" y="4489560"/>
                    <a:ext cx="1116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292800" y="4489560"/>
                    <a:ext cx="12556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578720" y="4489560"/>
                    <a:ext cx="1243080" cy="32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09600" y="4498920"/>
                    <a:ext cx="468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8831160" y="4498920"/>
                    <a:ext cx="5040" cy="460440"/>
                  </a:xfrm>
                  <a:prstGeom prst="rect">
                    <a:avLst/>
                  </a:prstGeom>
                  <a:solidFill>
                    <a:srgbClr val="00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51000" y="4498920"/>
                    <a:ext cx="333828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699000" y="449892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405252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35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986360" y="4498920"/>
                    <a:ext cx="12762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533844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30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72280" y="4498920"/>
                    <a:ext cx="1276200" cy="460440"/>
                  </a:xfrm>
                  <a:prstGeom prst="rect">
                    <a:avLst/>
                  </a:pr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62436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70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558200" y="4498920"/>
                    <a:ext cx="1263600" cy="460440"/>
                  </a:xfrm>
                  <a:prstGeom prst="rect">
                    <a:avLst/>
                  </a:prstGeom>
                  <a:solidFill>
                    <a:srgbClr val="dbff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910280" y="4464000"/>
                    <a:ext cx="6325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65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60800" y="4464000"/>
                    <a:ext cx="2961360" cy="106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Índices Custos 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279f"/>
                        </a:solidFill>
                        <a:latin typeface="Arial"/>
                      </a:rPr>
                      <a:t>($/h)</a:t>
                    </a:r>
                    <a:endParaRPr b="0" lang="en-US" sz="32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9200" y="4479840"/>
                    <a:ext cx="8483760" cy="0"/>
                  </a:xfrm>
                  <a:prstGeom prst="line">
                    <a:avLst/>
                  </a:prstGeom>
                  <a:ln w="2556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279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50" name=""/>
            <p:cNvSpPr/>
            <p:nvPr/>
          </p:nvSpPr>
          <p:spPr>
            <a:xfrm>
              <a:off x="334800" y="4003560"/>
              <a:ext cx="8509320" cy="1903680"/>
            </a:xfrm>
            <a:prstGeom prst="rect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640" y="533520"/>
            <a:ext cx="55846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álculo dos Poten-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iais Produtiv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52" name=""/>
          <p:cNvSpPr/>
          <p:nvPr/>
        </p:nvSpPr>
        <p:spPr>
          <a:xfrm>
            <a:off x="2836080" y="2662200"/>
            <a:ext cx="2947680" cy="5763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 UEP = $ 5,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9600" y="4479840"/>
            <a:ext cx="4680" cy="972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1000" y="4476600"/>
            <a:ext cx="33382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9900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99000" y="448956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19520" y="4476600"/>
            <a:ext cx="12556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8636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6880" y="4476600"/>
            <a:ext cx="12556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7228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292800" y="4476600"/>
            <a:ext cx="12556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58200" y="447660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58200" y="4489560"/>
            <a:ext cx="1116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78720" y="4476600"/>
            <a:ext cx="1243080" cy="324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831160" y="4479840"/>
            <a:ext cx="5040" cy="9720"/>
          </a:xfrm>
          <a:prstGeom prst="rect">
            <a:avLst/>
          </a:prstGeom>
          <a:solidFill>
            <a:srgbClr val="00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54160" y="5014800"/>
            <a:ext cx="8582040" cy="963720"/>
            <a:chOff x="254160" y="5014800"/>
            <a:chExt cx="8582040" cy="963720"/>
          </a:xfrm>
        </p:grpSpPr>
        <p:grpSp>
          <p:nvGrpSpPr>
            <p:cNvPr id="667" name=""/>
            <p:cNvGrpSpPr/>
            <p:nvPr/>
          </p:nvGrpSpPr>
          <p:grpSpPr>
            <a:xfrm>
              <a:off x="254160" y="5402160"/>
              <a:ext cx="8582040" cy="576360"/>
              <a:chOff x="254160" y="5402160"/>
              <a:chExt cx="8582040" cy="576360"/>
            </a:xfrm>
          </p:grpSpPr>
          <p:sp>
            <p:nvSpPr>
              <p:cNvPr id="668" name=""/>
              <p:cNvSpPr/>
              <p:nvPr/>
            </p:nvSpPr>
            <p:spPr>
              <a:xfrm>
                <a:off x="309600" y="5907240"/>
                <a:ext cx="4680" cy="47520"/>
              </a:xfrm>
              <a:prstGeom prst="rect">
                <a:avLst/>
              </a:prstGeom>
              <a:solidFill>
                <a:srgbClr val="00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831160" y="5907240"/>
                <a:ext cx="5040" cy="9360"/>
              </a:xfrm>
              <a:prstGeom prst="rect">
                <a:avLst/>
              </a:prstGeom>
              <a:solidFill>
                <a:srgbClr val="00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831160" y="5907240"/>
                <a:ext cx="5040" cy="9360"/>
              </a:xfrm>
              <a:prstGeom prst="rect">
                <a:avLst/>
              </a:prstGeom>
              <a:solidFill>
                <a:srgbClr val="00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1000" y="5437080"/>
                <a:ext cx="333828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699000" y="5437080"/>
                <a:ext cx="1276200" cy="460440"/>
              </a:xfrm>
              <a:prstGeom prst="rect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147920" y="540216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86360" y="5437080"/>
                <a:ext cx="127620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39960" y="540216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272280" y="5437080"/>
                <a:ext cx="1276200" cy="460440"/>
              </a:xfrm>
              <a:prstGeom prst="rect">
                <a:avLst/>
              </a:prstGeom>
              <a:solidFill>
                <a:srgbClr val="f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19400" y="540216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558200" y="5437080"/>
                <a:ext cx="1263600" cy="46044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05320" y="540216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13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54160" y="5402160"/>
                <a:ext cx="3433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279f"/>
                    </a:solidFill>
                    <a:latin typeface="Arial"/>
                  </a:rPr>
                  <a:t>Pot. Prod.(UEP/h)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45960" y="5492880"/>
                <a:ext cx="848376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4343400" y="5014800"/>
              <a:ext cx="3886200" cy="401760"/>
              <a:chOff x="4343400" y="5014800"/>
              <a:chExt cx="3886200" cy="401760"/>
            </a:xfrm>
          </p:grpSpPr>
          <p:sp>
            <p:nvSpPr>
              <p:cNvPr id="683" name=""/>
              <p:cNvSpPr/>
              <p:nvPr/>
            </p:nvSpPr>
            <p:spPr>
              <a:xfrm>
                <a:off x="434340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63868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93432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229600" y="5014800"/>
                <a:ext cx="0" cy="401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quivalentes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-57240" y="2990880"/>
          <a:ext cx="9242640" cy="311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2990880"/>
                    <a:ext cx="924264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UEP - Opera-cionaliz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74760" y="2541600"/>
            <a:ext cx="7254720" cy="3821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Medição da 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Custeio dos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Lucratividade dos Produto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Capacidades de 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Medidas de Desempenh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Planejamento da Produçã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2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900" fill="hold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Quantidade física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Equivalente do produt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189000" y="504720"/>
            <a:ext cx="54496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ção da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968400" y="3430440"/>
            <a:ext cx="5445000" cy="897120"/>
            <a:chOff x="968400" y="3430440"/>
            <a:chExt cx="5445000" cy="897120"/>
          </a:xfrm>
        </p:grpSpPr>
        <p:sp>
          <p:nvSpPr>
            <p:cNvPr id="701" name=""/>
            <p:cNvSpPr/>
            <p:nvPr/>
          </p:nvSpPr>
          <p:spPr>
            <a:xfrm>
              <a:off x="968400" y="3483000"/>
              <a:ext cx="5445000" cy="844560"/>
            </a:xfrm>
            <a:prstGeom prst="roundRect">
              <a:avLst>
                <a:gd name="adj" fmla="val 12486"/>
              </a:avLst>
            </a:prstGeom>
            <a:solidFill>
              <a:srgbClr val="cc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1337760" y="3430440"/>
              <a:ext cx="4798440" cy="804960"/>
              <a:chOff x="1337760" y="3430440"/>
              <a:chExt cx="4798440" cy="804960"/>
            </a:xfrm>
          </p:grpSpPr>
          <p:sp>
            <p:nvSpPr>
              <p:cNvPr id="703" name=""/>
              <p:cNvSpPr/>
              <p:nvPr/>
            </p:nvSpPr>
            <p:spPr>
              <a:xfrm>
                <a:off x="1337760" y="3557520"/>
                <a:ext cx="234396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Produção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84160" y="3557520"/>
                <a:ext cx="54720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Q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52440" y="3557520"/>
                <a:ext cx="31248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.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991760" y="3557520"/>
                <a:ext cx="114444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3e00"/>
                    </a:solidFill>
                    <a:latin typeface="Arial"/>
                  </a:rPr>
                  <a:t>UEP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559680" y="3557520"/>
                <a:ext cx="554760" cy="6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</a:t>
                </a:r>
                <a:endParaRPr b="0" lang="en-US" sz="3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99960" y="3430440"/>
                <a:ext cx="59760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</a:t>
                </a:r>
                <a:endParaRPr b="0" lang="en-US" sz="4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49467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usteio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90480" y="2814480"/>
            <a:ext cx="7045560" cy="1211400"/>
            <a:chOff x="690480" y="2814480"/>
            <a:chExt cx="7045560" cy="1211400"/>
          </a:xfrm>
        </p:grpSpPr>
        <p:sp>
          <p:nvSpPr>
            <p:cNvPr id="713" name=""/>
            <p:cNvSpPr/>
            <p:nvPr/>
          </p:nvSpPr>
          <p:spPr>
            <a:xfrm>
              <a:off x="690480" y="2870280"/>
              <a:ext cx="7045560" cy="1155600"/>
            </a:xfrm>
            <a:prstGeom prst="roundRect">
              <a:avLst>
                <a:gd name="adj" fmla="val 12486"/>
              </a:avLst>
            </a:prstGeom>
            <a:solidFill>
              <a:srgbClr val="e7ff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909360" y="2814480"/>
              <a:ext cx="6677280" cy="1203480"/>
              <a:chOff x="909360" y="2814480"/>
              <a:chExt cx="6677280" cy="1203480"/>
            </a:xfrm>
          </p:grpSpPr>
          <p:sp>
            <p:nvSpPr>
              <p:cNvPr id="715" name=""/>
              <p:cNvSpPr/>
              <p:nvPr/>
            </p:nvSpPr>
            <p:spPr>
              <a:xfrm>
                <a:off x="2217600" y="3403440"/>
                <a:ext cx="5369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09360" y="3084480"/>
                <a:ext cx="46944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V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125800" y="2814480"/>
                <a:ext cx="152424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Custos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05480" y="2814480"/>
                <a:ext cx="65988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344120" y="2814480"/>
                <a:ext cx="30801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Transformação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98000" y="3411360"/>
                <a:ext cx="202536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Arial"/>
                  </a:rPr>
                  <a:t>Produção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64240" y="3379680"/>
                <a:ext cx="62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3e00"/>
                    </a:solidFill>
                    <a:latin typeface="Arial"/>
                  </a:rPr>
                  <a:t>UEP</a:t>
                </a:r>
                <a:endParaRPr b="0" lang="en-US" sz="17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701000" y="3084480"/>
                <a:ext cx="524520" cy="6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3e00"/>
                    </a:solidFill>
                    <a:latin typeface="Symbol"/>
                    <a:ea typeface="Symbol"/>
                  </a:rPr>
                  <a:t></a:t>
                </a:r>
                <a:endParaRPr b="0" lang="en-US" sz="3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2065320" y="5075280"/>
            <a:ext cx="4302000" cy="852480"/>
            <a:chOff x="2065320" y="5075280"/>
            <a:chExt cx="4302000" cy="852480"/>
          </a:xfrm>
        </p:grpSpPr>
        <p:sp>
          <p:nvSpPr>
            <p:cNvPr id="724" name=""/>
            <p:cNvSpPr/>
            <p:nvPr/>
          </p:nvSpPr>
          <p:spPr>
            <a:xfrm>
              <a:off x="2065320" y="5075280"/>
              <a:ext cx="4302000" cy="852480"/>
            </a:xfrm>
            <a:prstGeom prst="roundRect">
              <a:avLst>
                <a:gd name="adj" fmla="val 12486"/>
              </a:avLst>
            </a:prstGeom>
            <a:solidFill>
              <a:srgbClr val="e0ffcd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56200" y="5099040"/>
              <a:ext cx="856440" cy="69840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T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762000" y="509904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91240" y="5099040"/>
              <a:ext cx="12240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06720" y="5472000"/>
              <a:ext cx="350640" cy="39384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67640" y="5472000"/>
              <a:ext cx="704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6000" y="5472000"/>
              <a:ext cx="350640" cy="39384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79240" y="5099040"/>
              <a:ext cx="585360" cy="698400"/>
            </a:xfrm>
            <a:prstGeom prst="rect">
              <a:avLst/>
            </a:prstGeom>
            <a:solidFill>
              <a:srgbClr val="e0f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40040" y="509904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394200" y="6019920"/>
            <a:ext cx="7202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Custo de Transformação do Produto P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7520" y="4114800"/>
            <a:ext cx="679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Valor monetário da UEP no período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77880" y="2635200"/>
            <a:ext cx="5102280" cy="1330200"/>
          </a:xfrm>
          <a:prstGeom prst="roundRect">
            <a:avLst>
              <a:gd name="adj" fmla="val 12486"/>
            </a:avLst>
          </a:prstGeom>
          <a:solidFill>
            <a:srgbClr val="fcfeb9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Lucratividade dos 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525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Rotação do Produto 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Preço (despesas variáveis descontadas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811160" y="2693880"/>
            <a:ext cx="4584240" cy="1261080"/>
            <a:chOff x="1811160" y="2693880"/>
            <a:chExt cx="4584240" cy="1261080"/>
          </a:xfrm>
        </p:grpSpPr>
        <p:sp>
          <p:nvSpPr>
            <p:cNvPr id="741" name=""/>
            <p:cNvSpPr/>
            <p:nvPr/>
          </p:nvSpPr>
          <p:spPr>
            <a:xfrm>
              <a:off x="2874960" y="32940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11160" y="2968560"/>
              <a:ext cx="4924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775960" y="2693880"/>
              <a:ext cx="4694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170160" y="2693880"/>
              <a:ext cx="301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370320" y="2693880"/>
              <a:ext cx="3247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28800" y="2693880"/>
              <a:ext cx="301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57680" y="2693880"/>
              <a:ext cx="3247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(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03480" y="2693880"/>
              <a:ext cx="8290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MP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59120" y="2693880"/>
              <a:ext cx="3016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73680" y="2693880"/>
              <a:ext cx="43308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+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13160" y="2693880"/>
              <a:ext cx="8762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CT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70680" y="2693880"/>
              <a:ext cx="3247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)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36760" y="3301920"/>
              <a:ext cx="7560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Arial"/>
                </a:rPr>
                <a:t>CT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136240" y="327168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03120" y="299880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92080" y="299880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81320" y="299880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81080" y="3606840"/>
              <a:ext cx="326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1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42160" y="2968560"/>
              <a:ext cx="5245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3e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3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incípio do Valor Agregado 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6840" y="3025800"/>
            <a:ext cx="6829560" cy="1206360"/>
            <a:chOff x="996840" y="3025800"/>
            <a:chExt cx="6829560" cy="1206360"/>
          </a:xfrm>
        </p:grpSpPr>
        <p:sp>
          <p:nvSpPr>
            <p:cNvPr id="55" name=""/>
            <p:cNvSpPr/>
            <p:nvPr/>
          </p:nvSpPr>
          <p:spPr>
            <a:xfrm>
              <a:off x="5499000" y="3705120"/>
              <a:ext cx="16606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76600" y="3025800"/>
              <a:ext cx="3117600" cy="1206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16560" y="3365640"/>
              <a:ext cx="2913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Transformaçã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6840" y="3705120"/>
              <a:ext cx="16606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44520" y="3137040"/>
              <a:ext cx="790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8840" y="313704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O método da UEP trabalha apenas os custos de transformação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35080" y="3206880"/>
            <a:ext cx="8673840" cy="1330200"/>
          </a:xfrm>
          <a:prstGeom prst="roundRect">
            <a:avLst>
              <a:gd name="adj" fmla="val 12486"/>
            </a:avLst>
          </a:prstGeom>
          <a:solidFill>
            <a:srgbClr val="e0ffc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Rotação a Lucro Zer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340560" y="3216240"/>
            <a:ext cx="8251200" cy="1323000"/>
            <a:chOff x="340560" y="3216240"/>
            <a:chExt cx="8251200" cy="1323000"/>
          </a:xfrm>
        </p:grpSpPr>
        <p:sp>
          <p:nvSpPr>
            <p:cNvPr id="765" name=""/>
            <p:cNvSpPr/>
            <p:nvPr/>
          </p:nvSpPr>
          <p:spPr>
            <a:xfrm>
              <a:off x="2614680" y="3817800"/>
              <a:ext cx="593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0560" y="3490920"/>
              <a:ext cx="1880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Rotação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8560" y="3216240"/>
              <a:ext cx="60732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Despesas de Estrutura Fixas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3440" y="3825720"/>
              <a:ext cx="54986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ustos de Transformação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081880" y="3490920"/>
              <a:ext cx="52452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18560" y="3780000"/>
              <a:ext cx="57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06480" y="5121360"/>
            <a:ext cx="4873680" cy="930240"/>
          </a:xfrm>
          <a:prstGeom prst="roundRect">
            <a:avLst>
              <a:gd name="adj" fmla="val 12486"/>
            </a:avLst>
          </a:prstGeom>
          <a:solidFill>
            <a:srgbClr val="e0ffc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34960" y="2664000"/>
            <a:ext cx="5245200" cy="1044360"/>
          </a:xfrm>
          <a:prstGeom prst="roundRect">
            <a:avLst>
              <a:gd name="adj" fmla="val 12486"/>
            </a:avLst>
          </a:prstGeom>
          <a:solidFill>
            <a:srgbClr val="e0ffc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Lucratividade do produto P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0">
              <a:spcBef>
                <a:spcPts val="31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RL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Rotação Lucrativa do Produto P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644840" y="2817720"/>
            <a:ext cx="4892400" cy="749520"/>
            <a:chOff x="1644840" y="2817720"/>
            <a:chExt cx="4892400" cy="749520"/>
          </a:xfrm>
        </p:grpSpPr>
        <p:sp>
          <p:nvSpPr>
            <p:cNvPr id="778" name=""/>
            <p:cNvSpPr/>
            <p:nvPr/>
          </p:nvSpPr>
          <p:spPr>
            <a:xfrm>
              <a:off x="1644840" y="2817720"/>
              <a:ext cx="856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L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84480" y="281772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69840" y="281772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08520" y="2817720"/>
              <a:ext cx="3506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14520" y="2817720"/>
              <a:ext cx="2322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otação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62320" y="31734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71840" y="31734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06040" y="2817720"/>
              <a:ext cx="5853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4e47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1970640" y="5219640"/>
            <a:ext cx="4536360" cy="750960"/>
            <a:chOff x="1970640" y="5219640"/>
            <a:chExt cx="4536360" cy="750960"/>
          </a:xfrm>
        </p:grpSpPr>
        <p:sp>
          <p:nvSpPr>
            <p:cNvPr id="787" name=""/>
            <p:cNvSpPr/>
            <p:nvPr/>
          </p:nvSpPr>
          <p:spPr>
            <a:xfrm>
              <a:off x="1970640" y="5219640"/>
              <a:ext cx="15897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Lucro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134240" y="5219640"/>
              <a:ext cx="8564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RL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49360" y="5219640"/>
              <a:ext cx="323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57880" y="5219640"/>
              <a:ext cx="998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4e47"/>
                  </a:solidFill>
                  <a:latin typeface="Arial"/>
                </a:rPr>
                <a:t>CT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08480" y="5576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49920" y="5576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156360" y="5576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4e47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93360" y="5413320"/>
              <a:ext cx="3445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4e47"/>
                  </a:solidFill>
                  <a:latin typeface="Arial"/>
                </a:rPr>
                <a:t>x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54000" y="5219640"/>
              <a:ext cx="5853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4e47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apacidades de 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17320" y="2971800"/>
            <a:ext cx="8055000" cy="3733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apacidade Teórica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Total de produção que pode ser obtida em um período de trabalho, considerando-se o tempo potencial disponível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 algn="just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apacidade Prática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- Total de produção que pode ser obtida em um período de trabalho, considerando-se apenas o tempo real disponível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1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das de Desempenh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34880" y="2606760"/>
            <a:ext cx="7245360" cy="1272960"/>
            <a:chOff x="434880" y="2606760"/>
            <a:chExt cx="7245360" cy="1272960"/>
          </a:xfrm>
        </p:grpSpPr>
        <p:sp>
          <p:nvSpPr>
            <p:cNvPr id="804" name=""/>
            <p:cNvSpPr/>
            <p:nvPr/>
          </p:nvSpPr>
          <p:spPr>
            <a:xfrm>
              <a:off x="434880" y="2606760"/>
              <a:ext cx="7245360" cy="1272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642240" y="2676600"/>
              <a:ext cx="6803280" cy="1149480"/>
              <a:chOff x="642240" y="2676600"/>
              <a:chExt cx="6803280" cy="114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3062160" y="3243240"/>
                <a:ext cx="438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2240" y="2936880"/>
                <a:ext cx="1920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Eficiência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224600" y="2676600"/>
                <a:ext cx="1920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Produçã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966760" y="3249720"/>
                <a:ext cx="3680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Capacidade teórica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56000" y="2936880"/>
                <a:ext cx="504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457200" y="3962520"/>
            <a:ext cx="7245360" cy="1272960"/>
            <a:chOff x="457200" y="3962520"/>
            <a:chExt cx="7245360" cy="1272960"/>
          </a:xfrm>
        </p:grpSpPr>
        <p:sp>
          <p:nvSpPr>
            <p:cNvPr id="812" name=""/>
            <p:cNvSpPr/>
            <p:nvPr/>
          </p:nvSpPr>
          <p:spPr>
            <a:xfrm>
              <a:off x="457200" y="3962520"/>
              <a:ext cx="7245360" cy="12729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668160" y="4003560"/>
              <a:ext cx="6161040" cy="1170720"/>
              <a:chOff x="668160" y="4003560"/>
              <a:chExt cx="6161040" cy="117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765520" y="4584240"/>
                <a:ext cx="406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68160" y="4263480"/>
                <a:ext cx="16491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Arial"/>
                  </a:rPr>
                  <a:t>Eficácia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52640" y="4003560"/>
                <a:ext cx="19767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Arial"/>
                  </a:rPr>
                  <a:t>Produção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671920" y="4582800"/>
                <a:ext cx="37947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Arial"/>
                  </a:rPr>
                  <a:t>Capacidade prática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269080" y="4263480"/>
                <a:ext cx="515160" cy="59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4e47"/>
                    </a:solidFill>
                    <a:latin typeface="Symbol"/>
                    <a:ea typeface="Symbol"/>
                  </a:rPr>
                  <a:t></a:t>
                </a:r>
                <a:endParaRPr b="0" lang="en-US" sz="33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501480" y="5410080"/>
            <a:ext cx="7245360" cy="1393560"/>
            <a:chOff x="501480" y="5410080"/>
            <a:chExt cx="7245360" cy="1393560"/>
          </a:xfrm>
        </p:grpSpPr>
        <p:sp>
          <p:nvSpPr>
            <p:cNvPr id="820" name=""/>
            <p:cNvSpPr/>
            <p:nvPr/>
          </p:nvSpPr>
          <p:spPr>
            <a:xfrm>
              <a:off x="501480" y="5410080"/>
              <a:ext cx="7245360" cy="139356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635760" y="5470920"/>
              <a:ext cx="6738120" cy="1199880"/>
              <a:chOff x="635760" y="5470920"/>
              <a:chExt cx="6738120" cy="1199880"/>
            </a:xfrm>
          </p:grpSpPr>
          <p:sp>
            <p:nvSpPr>
              <p:cNvPr id="822" name=""/>
              <p:cNvSpPr/>
              <p:nvPr/>
            </p:nvSpPr>
            <p:spPr>
              <a:xfrm>
                <a:off x="3873600" y="6092640"/>
                <a:ext cx="35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5760" y="5752080"/>
                <a:ext cx="2664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Produtividade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591440" y="5470920"/>
                <a:ext cx="1920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Produçã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750480" y="6094440"/>
                <a:ext cx="3500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Arial"/>
                  </a:rPr>
                  <a:t>Horas trabalhadas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382560" y="5752080"/>
                <a:ext cx="504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4e47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 - Operacionaliza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28" name=""/>
          <p:cNvSpPr/>
          <p:nvPr/>
        </p:nvSpPr>
        <p:spPr>
          <a:xfrm>
            <a:off x="6249960" y="320688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363920" y="320688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583000" y="322596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49320" y="243360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1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87560" y="246204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2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10080" y="243360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3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91440" y="2405160"/>
            <a:ext cx="79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PO4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797040" y="2711520"/>
            <a:ext cx="6779880" cy="483120"/>
            <a:chOff x="797040" y="2711520"/>
            <a:chExt cx="6779880" cy="483120"/>
          </a:xfrm>
        </p:grpSpPr>
        <p:sp>
          <p:nvSpPr>
            <p:cNvPr id="836" name=""/>
            <p:cNvSpPr/>
            <p:nvPr/>
          </p:nvSpPr>
          <p:spPr>
            <a:xfrm>
              <a:off x="797040" y="2739960"/>
              <a:ext cx="1170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47800" y="2739960"/>
              <a:ext cx="1170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56000" y="2739960"/>
              <a:ext cx="1339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37360" y="2711520"/>
              <a:ext cx="1339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/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773280" y="3216240"/>
            <a:ext cx="1317600" cy="3511440"/>
          </a:xfrm>
          <a:custGeom>
            <a:avLst/>
            <a:gdLst>
              <a:gd name="textAreaLeft" fmla="*/ 56880 w 1317600"/>
              <a:gd name="textAreaRight" fmla="*/ 1260720 w 1317600"/>
              <a:gd name="textAreaTop" fmla="*/ 56880 h 3511440"/>
              <a:gd name="textAreaBottom" fmla="*/ 3454560 h 3511440"/>
            </a:gdLst>
            <a:ahLst/>
            <a:rect l="textAreaLeft" t="textAreaTop" r="textAreaRight" b="textAreaBottom"/>
            <a:pathLst>
              <a:path w="21600" h="57555">
                <a:moveTo>
                  <a:pt x="3183" y="0"/>
                </a:moveTo>
                <a:arcTo wR="3183" hR="3183" stAng="16200000" swAng="-5400000"/>
                <a:lnTo>
                  <a:pt x="0" y="54372"/>
                </a:lnTo>
                <a:arcTo wR="3183" hR="3183" stAng="10800000" swAng="-5400000"/>
                <a:lnTo>
                  <a:pt x="18417" y="57555"/>
                </a:lnTo>
                <a:arcTo wR="3183" hR="3183" stAng="5400000" swAng="-5400000"/>
                <a:lnTo>
                  <a:pt x="21600" y="3183"/>
                </a:lnTo>
                <a:arcTo wR="3183" hR="3183" stAng="0" swAng="-5400000"/>
                <a:close/>
              </a:path>
            </a:pathLst>
          </a:cu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97040" y="35035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00800" y="327168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20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90920" y="35053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2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504480" y="32432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04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35053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43800" y="320040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3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48240" y="32432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03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28960" y="3112920"/>
            <a:ext cx="8426160" cy="3430800"/>
            <a:chOff x="228960" y="3112920"/>
            <a:chExt cx="8426160" cy="3430800"/>
          </a:xfrm>
        </p:grpSpPr>
        <p:sp>
          <p:nvSpPr>
            <p:cNvPr id="851" name=""/>
            <p:cNvSpPr/>
            <p:nvPr/>
          </p:nvSpPr>
          <p:spPr>
            <a:xfrm>
              <a:off x="399960" y="3695760"/>
              <a:ext cx="4032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228960" y="3112920"/>
              <a:ext cx="8426160" cy="3430800"/>
              <a:chOff x="228960" y="3112920"/>
              <a:chExt cx="8426160" cy="3430800"/>
            </a:xfrm>
          </p:grpSpPr>
          <p:sp>
            <p:nvSpPr>
              <p:cNvPr id="853" name=""/>
              <p:cNvSpPr/>
              <p:nvPr/>
            </p:nvSpPr>
            <p:spPr>
              <a:xfrm>
                <a:off x="228960" y="311292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994200" y="3724200"/>
                <a:ext cx="3268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157480" y="3724200"/>
                <a:ext cx="32544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775480" y="3724200"/>
                <a:ext cx="3934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651800" y="3695760"/>
                <a:ext cx="9334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149560" y="461016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006800" y="463860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778360" y="4638600"/>
                <a:ext cx="41436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77000" y="4610160"/>
                <a:ext cx="9781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80880" y="4572000"/>
                <a:ext cx="4240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8960" y="403056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49560" y="651528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006800" y="654372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778360" y="6543720"/>
                <a:ext cx="41436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677000" y="6515280"/>
                <a:ext cx="9781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0880" y="6477120"/>
                <a:ext cx="4240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28960" y="586728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4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149560" y="560088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06800" y="5629320"/>
                <a:ext cx="3445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778360" y="5629320"/>
                <a:ext cx="41436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77000" y="5600880"/>
                <a:ext cx="97812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0880" y="5562720"/>
                <a:ext cx="424080" cy="0"/>
              </a:xfrm>
              <a:prstGeom prst="line">
                <a:avLst/>
              </a:prstGeom>
              <a:ln w="3816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28960" y="494820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279f"/>
                    </a:solidFill>
                    <a:latin typeface="Arial"/>
                  </a:rPr>
                  <a:t>P3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6" name=""/>
          <p:cNvSpPr/>
          <p:nvPr/>
        </p:nvSpPr>
        <p:spPr>
          <a:xfrm>
            <a:off x="4553280" y="327672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043"/>
                </a:solidFill>
                <a:latin typeface="Arial"/>
              </a:rPr>
              <a:t>0,03 h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343400" y="3505320"/>
            <a:ext cx="138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4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P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948240" y="4162320"/>
            <a:ext cx="6474600" cy="2259360"/>
            <a:chOff x="948240" y="4162320"/>
            <a:chExt cx="6474600" cy="2259360"/>
          </a:xfrm>
        </p:grpSpPr>
        <p:sp>
          <p:nvSpPr>
            <p:cNvPr id="879" name=""/>
            <p:cNvSpPr/>
            <p:nvPr/>
          </p:nvSpPr>
          <p:spPr>
            <a:xfrm>
              <a:off x="948240" y="41623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3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94680" y="41623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3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00800" y="41911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4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48240" y="59990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594680" y="59990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04480" y="59990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00800" y="602784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11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48240" y="507996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5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94680" y="507996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5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504480" y="507996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10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00800" y="51055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5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34360" y="419112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e0043"/>
                  </a:solidFill>
                  <a:latin typeface="Arial"/>
                </a:rPr>
                <a:t>0,04 h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97040" y="4114800"/>
            <a:ext cx="8205480" cy="2616840"/>
            <a:chOff x="797040" y="4114800"/>
            <a:chExt cx="8205480" cy="2616840"/>
          </a:xfrm>
        </p:grpSpPr>
        <p:sp>
          <p:nvSpPr>
            <p:cNvPr id="892" name=""/>
            <p:cNvSpPr/>
            <p:nvPr/>
          </p:nvSpPr>
          <p:spPr>
            <a:xfrm>
              <a:off x="797040" y="442116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21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590920" y="4495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24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43400" y="441972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4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20120" y="411480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,47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7040" y="6259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07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90920" y="627696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66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289400" y="6259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14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99200" y="6259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13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20120" y="594360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,0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" y="534024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35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41680" y="534024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7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65800" y="534024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,3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20120" y="502920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,65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90920" y="54100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30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48520" y="44956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,52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EP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9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9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5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5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17520" y="2247840"/>
            <a:ext cx="4911840" cy="6667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Quantidades Produzida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14200" y="3286080"/>
          <a:ext cx="814860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3286080"/>
                    <a:ext cx="814860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47167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ção da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çã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14" name=""/>
          <p:cNvSpPr/>
          <p:nvPr/>
        </p:nvSpPr>
        <p:spPr>
          <a:xfrm>
            <a:off x="5761080" y="2924280"/>
            <a:ext cx="14400" cy="468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761080" y="3392640"/>
            <a:ext cx="14400" cy="45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61080" y="384804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761080" y="388620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61080" y="3905280"/>
            <a:ext cx="14400" cy="455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61080" y="4361040"/>
            <a:ext cx="14400" cy="45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61080" y="4816440"/>
            <a:ext cx="14400" cy="455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61080" y="5272200"/>
            <a:ext cx="14400" cy="45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61080" y="572760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61080" y="5765760"/>
            <a:ext cx="1440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61080" y="5784840"/>
            <a:ext cx="14400" cy="4557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4132440" y="3392640"/>
            <a:ext cx="1643040" cy="2904840"/>
            <a:chOff x="4132440" y="3392640"/>
            <a:chExt cx="1643040" cy="2904840"/>
          </a:xfrm>
        </p:grpSpPr>
        <p:sp>
          <p:nvSpPr>
            <p:cNvPr id="926" name=""/>
            <p:cNvSpPr/>
            <p:nvPr/>
          </p:nvSpPr>
          <p:spPr>
            <a:xfrm>
              <a:off x="4132440" y="384804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32440" y="38862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132440" y="57276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132440" y="576576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2440" y="62406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32440" y="6278400"/>
              <a:ext cx="4572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32440" y="3392640"/>
              <a:ext cx="1598400" cy="455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56160" y="340524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UEP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178160" y="384804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178160" y="38862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32440" y="3905280"/>
              <a:ext cx="159840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951800" y="388620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94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32440" y="434196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32440" y="4361040"/>
              <a:ext cx="159840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624920" y="43736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2.776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32440" y="479736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32440" y="4816440"/>
              <a:ext cx="159840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24920" y="48290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06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32440" y="525312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32440" y="5272200"/>
              <a:ext cx="159840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24920" y="528480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2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32440" y="5708520"/>
              <a:ext cx="159840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78160" y="57276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78160" y="576576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78160" y="62406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78160" y="6278400"/>
              <a:ext cx="1552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32440" y="5784840"/>
              <a:ext cx="1598400" cy="4557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47240" y="57913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5.976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30840" y="3392640"/>
              <a:ext cx="1440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30840" y="384804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30840" y="388620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30840" y="3905280"/>
              <a:ext cx="1440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30840" y="4361040"/>
              <a:ext cx="1440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4816440"/>
              <a:ext cx="1440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30840" y="5272200"/>
              <a:ext cx="1440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730840" y="572760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730840" y="5765760"/>
              <a:ext cx="144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730840" y="5784840"/>
              <a:ext cx="1440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730840" y="6240600"/>
              <a:ext cx="446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730840" y="6278400"/>
              <a:ext cx="446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158760" y="2867040"/>
            <a:ext cx="8859960" cy="3838680"/>
            <a:chOff x="158760" y="2867040"/>
            <a:chExt cx="8859960" cy="3838680"/>
          </a:xfrm>
        </p:grpSpPr>
        <p:sp>
          <p:nvSpPr>
            <p:cNvPr id="967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5876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00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9552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04840" y="3392640"/>
              <a:ext cx="2290680" cy="45540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2440" y="3405240"/>
              <a:ext cx="146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rodut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3392640"/>
              <a:ext cx="1590840" cy="4554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84600" y="340524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Físic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8900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5876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04840" y="384804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4840" y="38862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95520" y="384804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95520" y="38862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41600" y="384804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41600" y="38862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876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8900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9552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04840" y="3905280"/>
              <a:ext cx="2290680" cy="45576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4920" y="391788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1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41600" y="3905280"/>
              <a:ext cx="159084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11760" y="391788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4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41600" y="434196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5876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900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9552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4840" y="4361040"/>
              <a:ext cx="2290680" cy="45540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94920" y="437364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2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41600" y="4361040"/>
              <a:ext cx="159084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11760" y="43736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41600" y="479736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876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8900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9552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04840" y="4816440"/>
              <a:ext cx="2290680" cy="45576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94920" y="482904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3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541600" y="4816440"/>
              <a:ext cx="1590840" cy="436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11760" y="48290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4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41600" y="525312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876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900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552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04840" y="5272200"/>
              <a:ext cx="2290680" cy="45540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94920" y="528480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P4 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41600" y="5272200"/>
              <a:ext cx="1590840" cy="436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17720" y="5257800"/>
              <a:ext cx="848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2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41600" y="5708520"/>
              <a:ext cx="1590840" cy="190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900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876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4840" y="57276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4840" y="576576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95520" y="5727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95520" y="576576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41600" y="57276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41600" y="576576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876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900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8760" y="6240600"/>
              <a:ext cx="15840" cy="56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8760" y="62784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900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900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4840" y="62406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4840" y="6278400"/>
              <a:ext cx="22906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49552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95520" y="62406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95520" y="62784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41600" y="62406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541600" y="6278400"/>
              <a:ext cx="1590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04840" y="5784840"/>
              <a:ext cx="2290680" cy="455760"/>
            </a:xfrm>
            <a:prstGeom prst="rect">
              <a:avLst/>
            </a:prstGeom>
            <a:solidFill>
              <a:srgbClr val="cb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89200" y="5797440"/>
              <a:ext cx="910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Total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41600" y="5784840"/>
              <a:ext cx="1590840" cy="4557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13200" y="57974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-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2576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25760" y="384804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25760" y="38862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2576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2576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52576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2576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965160" y="3917880"/>
              <a:ext cx="1508040" cy="1733040"/>
              <a:chOff x="965160" y="3917880"/>
              <a:chExt cx="1508040" cy="1733040"/>
            </a:xfrm>
          </p:grpSpPr>
          <p:sp>
            <p:nvSpPr>
              <p:cNvPr id="1049" name=""/>
              <p:cNvSpPr/>
              <p:nvPr/>
            </p:nvSpPr>
            <p:spPr>
              <a:xfrm>
                <a:off x="965160" y="391788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2,35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965160" y="437364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3,47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965160" y="482904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2,65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965160" y="5284800"/>
                <a:ext cx="1508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(1,00 UEP)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525760" y="5727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25760" y="576576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2576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75480" y="3392640"/>
              <a:ext cx="1592280" cy="4554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19920" y="3405240"/>
              <a:ext cx="107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Físic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75480" y="384804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75480" y="38862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75480" y="3905280"/>
              <a:ext cx="15922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47080" y="391788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75480" y="434196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75480" y="4361040"/>
              <a:ext cx="15922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47080" y="43736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4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75480" y="479736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775480" y="4816440"/>
              <a:ext cx="15922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247080" y="482904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775480" y="525312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75480" y="5272200"/>
              <a:ext cx="15922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47080" y="528480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75480" y="5708520"/>
              <a:ext cx="15922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75480" y="57276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75480" y="576576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75480" y="62406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75480" y="6278400"/>
              <a:ext cx="1592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75480" y="5784840"/>
              <a:ext cx="1592280" cy="4557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248520" y="57974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-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158760" y="2867040"/>
              <a:ext cx="8859960" cy="527040"/>
              <a:chOff x="158760" y="2867040"/>
              <a:chExt cx="8859960" cy="527040"/>
            </a:xfrm>
          </p:grpSpPr>
          <p:sp>
            <p:nvSpPr>
              <p:cNvPr id="1079" name=""/>
              <p:cNvSpPr/>
              <p:nvPr/>
            </p:nvSpPr>
            <p:spPr>
              <a:xfrm>
                <a:off x="2541600" y="2867040"/>
                <a:ext cx="31892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41600" y="2905200"/>
                <a:ext cx="31892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775480" y="2867040"/>
                <a:ext cx="319716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775480" y="2905200"/>
                <a:ext cx="319716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52576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541600" y="2924280"/>
                <a:ext cx="3189240" cy="45540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58760" y="2867040"/>
                <a:ext cx="15840" cy="57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58760" y="286704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8900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900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04840" y="2867040"/>
                <a:ext cx="22906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4840" y="2905200"/>
                <a:ext cx="22906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495520" y="286704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495520" y="290520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5876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8900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49552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04840" y="2924280"/>
                <a:ext cx="2290680" cy="468360"/>
              </a:xfrm>
              <a:prstGeom prst="rect">
                <a:avLst/>
              </a:prstGeom>
              <a:solidFill>
                <a:srgbClr val="cb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41600" y="2936880"/>
                <a:ext cx="294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279f"/>
                    </a:solidFill>
                    <a:latin typeface="Arial"/>
                  </a:rPr>
                  <a:t>Produção (Nov.)</a:t>
                </a:r>
                <a:endParaRPr b="0" lang="en-US" sz="3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75480" y="2924280"/>
                <a:ext cx="3197160" cy="455400"/>
              </a:xfrm>
              <a:prstGeom prst="rect">
                <a:avLst/>
              </a:prstGeom>
              <a:solidFill>
                <a:srgbClr val="db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75120" y="2936880"/>
                <a:ext cx="2900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279f"/>
                    </a:solidFill>
                    <a:latin typeface="Arial"/>
                  </a:rPr>
                  <a:t>Produção (Dez.)</a:t>
                </a:r>
                <a:endParaRPr b="0" lang="en-US" sz="3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730840" y="2867040"/>
                <a:ext cx="446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730840" y="2905200"/>
                <a:ext cx="446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730840" y="2924280"/>
                <a:ext cx="1440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9002880" y="2867040"/>
                <a:ext cx="15840" cy="57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972640" y="2867040"/>
                <a:ext cx="4608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97264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972640" y="2905200"/>
                <a:ext cx="15840" cy="19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97264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9002880" y="2924280"/>
                <a:ext cx="15840" cy="4683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7367760" y="3392640"/>
            <a:ext cx="1650960" cy="2904840"/>
            <a:chOff x="7367760" y="3392640"/>
            <a:chExt cx="1650960" cy="2904840"/>
          </a:xfrm>
        </p:grpSpPr>
        <p:sp>
          <p:nvSpPr>
            <p:cNvPr id="1110" name=""/>
            <p:cNvSpPr/>
            <p:nvPr/>
          </p:nvSpPr>
          <p:spPr>
            <a:xfrm>
              <a:off x="7367760" y="384804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367760" y="38862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67760" y="57276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67760" y="576576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67760" y="62406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67760" y="6278400"/>
              <a:ext cx="442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97264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002880" y="33926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67760" y="3392640"/>
              <a:ext cx="1604880" cy="4554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791480" y="3405240"/>
              <a:ext cx="785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UEP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12040" y="384804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12040" y="38862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900288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972640" y="384804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97264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9002880" y="390528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367760" y="3905280"/>
              <a:ext cx="16048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95000" y="39639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88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67760" y="434196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97264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002880" y="436104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367760" y="4361040"/>
              <a:ext cx="16048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95000" y="44197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1.388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367760" y="479736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7264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9002880" y="48164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67760" y="4816440"/>
              <a:ext cx="1604880" cy="4366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701480" y="48290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2.12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67760" y="525312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97264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9002880" y="5272200"/>
              <a:ext cx="15840" cy="45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67760" y="5272200"/>
              <a:ext cx="1604880" cy="4363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99560" y="5257800"/>
              <a:ext cx="63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279f"/>
                  </a:solidFill>
                  <a:latin typeface="Arial"/>
                </a:rPr>
                <a:t>8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367760" y="5708520"/>
              <a:ext cx="1604880" cy="1908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412040" y="57276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412040" y="576576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900288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972640" y="5727600"/>
              <a:ext cx="15840" cy="57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12040" y="62406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2040" y="6278400"/>
              <a:ext cx="15606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97264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002880" y="5784840"/>
              <a:ext cx="15840" cy="4557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002880" y="6240600"/>
              <a:ext cx="15840" cy="56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972640" y="627840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97264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2640" y="6240600"/>
              <a:ext cx="1584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367760" y="5784840"/>
              <a:ext cx="1604880" cy="45576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701480" y="579744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279f"/>
                  </a:solidFill>
                  <a:latin typeface="Arial"/>
                </a:rPr>
                <a:t>6.188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9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03120" y="676440"/>
            <a:ext cx="464976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Valor Monetário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da UEP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61" name=""/>
          <p:cNvSpPr/>
          <p:nvPr/>
        </p:nvSpPr>
        <p:spPr>
          <a:xfrm>
            <a:off x="444960" y="3054240"/>
            <a:ext cx="4207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e0043"/>
                </a:solidFill>
                <a:latin typeface="Arial"/>
              </a:rPr>
              <a:t>Dados Operacionais</a:t>
            </a:r>
            <a:endParaRPr b="0" lang="en-US" sz="35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574960" y="3497400"/>
            <a:ext cx="964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Nov.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47320" y="3497400"/>
            <a:ext cx="85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Dez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9880" y="3954600"/>
            <a:ext cx="45615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Custos de Transforma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027400" y="3962520"/>
            <a:ext cx="1769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$597.6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932160" y="3962520"/>
            <a:ext cx="1769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$649.74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51920" y="5256360"/>
            <a:ext cx="8990280" cy="14493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597600 / 5976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$100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(Nov.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649740 / 6188 = 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$105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(Dez.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400" fill="hold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400" fill="hold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57070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Custeio dos </a:t>
            </a:r>
            <a:br>
              <a:rPr sz="4400"/>
            </a:b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Produtos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6626160" cy="1066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$100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(Nov.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226040" y="3556080"/>
            <a:ext cx="319536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226040" y="3592440"/>
            <a:ext cx="319536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210200" y="3611520"/>
            <a:ext cx="15840" cy="4381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421400" y="3611520"/>
            <a:ext cx="8280" cy="43812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421400" y="3611520"/>
            <a:ext cx="8280" cy="43812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21400" y="3611520"/>
            <a:ext cx="8280" cy="43812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66880" y="4049640"/>
            <a:ext cx="7920" cy="5400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421400" y="4049640"/>
            <a:ext cx="8280" cy="17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421400" y="4067280"/>
            <a:ext cx="8280" cy="190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421400" y="4086360"/>
            <a:ext cx="8280" cy="17280"/>
          </a:xfrm>
          <a:prstGeom prst="rect">
            <a:avLst/>
          </a:pr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766880" y="3556080"/>
            <a:ext cx="2497320" cy="3003480"/>
            <a:chOff x="1766880" y="3556080"/>
            <a:chExt cx="2497320" cy="3003480"/>
          </a:xfrm>
        </p:grpSpPr>
        <p:sp>
          <p:nvSpPr>
            <p:cNvPr id="1183" name=""/>
            <p:cNvSpPr/>
            <p:nvPr/>
          </p:nvSpPr>
          <p:spPr>
            <a:xfrm>
              <a:off x="1774800" y="355608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74800" y="359244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79960" y="355608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9960" y="359244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9960" y="3611520"/>
              <a:ext cx="15840" cy="4381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82720" y="3611520"/>
              <a:ext cx="2397240" cy="43812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774800" y="4049640"/>
              <a:ext cx="2397240" cy="540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72040" y="4049640"/>
              <a:ext cx="15840" cy="540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72040" y="40496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02280" y="40863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0863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18120" y="40496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8120" y="4086360"/>
              <a:ext cx="460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103640"/>
              <a:ext cx="15840" cy="4698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02280" y="4103640"/>
              <a:ext cx="15840" cy="4698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74800" y="4103640"/>
              <a:ext cx="2397240" cy="4698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530440" y="4116240"/>
              <a:ext cx="1509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roduto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66880" y="4573440"/>
              <a:ext cx="240516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766880" y="4610160"/>
              <a:ext cx="24051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72040" y="4573440"/>
              <a:ext cx="1584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172040" y="46101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2280" y="4573440"/>
              <a:ext cx="1584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2280" y="4610160"/>
              <a:ext cx="158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72040" y="462744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02280" y="462744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774800" y="4627440"/>
              <a:ext cx="2397240" cy="47016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165400" y="464040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1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73280" y="465300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2,35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72040" y="5097600"/>
              <a:ext cx="15840" cy="4680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02280" y="5097600"/>
              <a:ext cx="15840" cy="4680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774800" y="5097600"/>
              <a:ext cx="2397240" cy="46800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65400" y="510840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2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73280" y="512136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3,47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172040" y="556560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02280" y="5565600"/>
              <a:ext cx="15840" cy="470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774800" y="5565600"/>
              <a:ext cx="2397240" cy="47016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165400" y="557856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3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573280" y="559116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2,65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766880" y="650412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66880" y="6540480"/>
              <a:ext cx="240516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72040" y="6035760"/>
              <a:ext cx="15840" cy="468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02280" y="6035760"/>
              <a:ext cx="15840" cy="468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72040" y="650412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172040" y="654048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774800" y="6035760"/>
              <a:ext cx="2397240" cy="46836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165400" y="604692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P4 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73280" y="605952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(1,00 UEP)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218120" y="3611520"/>
            <a:ext cx="3203280" cy="2948040"/>
            <a:chOff x="4218120" y="3611520"/>
            <a:chExt cx="3203280" cy="2948040"/>
          </a:xfrm>
        </p:grpSpPr>
        <p:sp>
          <p:nvSpPr>
            <p:cNvPr id="1231" name=""/>
            <p:cNvSpPr/>
            <p:nvPr/>
          </p:nvSpPr>
          <p:spPr>
            <a:xfrm>
              <a:off x="4226040" y="3611520"/>
              <a:ext cx="3195360" cy="43812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02240" y="3622680"/>
              <a:ext cx="1047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279f"/>
                  </a:solidFill>
                  <a:latin typeface="Arial"/>
                </a:rPr>
                <a:t>CT ($)</a:t>
              </a:r>
              <a:endParaRPr b="0" lang="en-US" sz="29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4200" y="4049640"/>
              <a:ext cx="154440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64200" y="4086360"/>
              <a:ext cx="154440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08600" y="40496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08600" y="4086360"/>
              <a:ext cx="460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18120" y="4103640"/>
              <a:ext cx="1590480" cy="4698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99880" y="4116240"/>
              <a:ext cx="852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Nov.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18120" y="4573440"/>
              <a:ext cx="15904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218120" y="4610160"/>
              <a:ext cx="15904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08600" y="4573440"/>
              <a:ext cx="4608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08600" y="4610160"/>
              <a:ext cx="460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18120" y="4627440"/>
              <a:ext cx="15904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09000" y="4640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35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218120" y="5078520"/>
              <a:ext cx="15904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18120" y="5097600"/>
              <a:ext cx="15904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09000" y="5108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347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218120" y="5548320"/>
              <a:ext cx="1590480" cy="1728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18120" y="5565600"/>
              <a:ext cx="15904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09000" y="557856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65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18120" y="6016680"/>
              <a:ext cx="15904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18120" y="6504120"/>
              <a:ext cx="15904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18120" y="6540480"/>
              <a:ext cx="15904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08600" y="650412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08600" y="6540480"/>
              <a:ext cx="4608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18120" y="6035760"/>
              <a:ext cx="15904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509000" y="604692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100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218120" y="6486480"/>
              <a:ext cx="1590480" cy="1764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5808600" y="4049640"/>
            <a:ext cx="1621080" cy="2509920"/>
            <a:chOff x="5808600" y="4049640"/>
            <a:chExt cx="1621080" cy="2509920"/>
          </a:xfrm>
        </p:grpSpPr>
        <p:sp>
          <p:nvSpPr>
            <p:cNvPr id="1260" name=""/>
            <p:cNvSpPr/>
            <p:nvPr/>
          </p:nvSpPr>
          <p:spPr>
            <a:xfrm>
              <a:off x="5854680" y="4049640"/>
              <a:ext cx="156672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54680" y="4086360"/>
              <a:ext cx="15667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08600" y="4103640"/>
              <a:ext cx="1621080" cy="469800"/>
            </a:xfrm>
            <a:prstGeom prst="rect">
              <a:avLst/>
            </a:pr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27440" y="4116240"/>
              <a:ext cx="8085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279f"/>
                  </a:solidFill>
                  <a:latin typeface="Arial"/>
                </a:rPr>
                <a:t>Dez.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54680" y="4573440"/>
              <a:ext cx="1575000" cy="17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54680" y="4610160"/>
              <a:ext cx="157500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08600" y="4627440"/>
              <a:ext cx="16210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123600" y="4640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46,75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08600" y="5078520"/>
              <a:ext cx="16210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08600" y="5097600"/>
              <a:ext cx="16210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23600" y="510840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364,35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5548320"/>
              <a:ext cx="1621080" cy="1728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08600" y="5565600"/>
              <a:ext cx="1621080" cy="451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23600" y="557856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278,25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808600" y="6016680"/>
              <a:ext cx="1621080" cy="19080"/>
            </a:xfrm>
            <a:prstGeom prst="rect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54680" y="6504120"/>
              <a:ext cx="15750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54680" y="6540480"/>
              <a:ext cx="1575000" cy="19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08600" y="6035760"/>
              <a:ext cx="1621080" cy="45072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23600" y="6046920"/>
              <a:ext cx="1200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279f"/>
                  </a:solidFill>
                  <a:latin typeface="Arial"/>
                </a:rPr>
                <a:t>105,00</a:t>
              </a:r>
              <a:endParaRPr b="0" lang="en-US" sz="31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08600" y="6486480"/>
              <a:ext cx="1621080" cy="17640"/>
            </a:xfrm>
            <a:prstGeom prst="rect">
              <a:avLst/>
            </a:pr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304920" y="2895480"/>
            <a:ext cx="662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normAutofit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$105,00 / UEP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(Dez.)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8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4025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das de Desempenh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82" name=""/>
          <p:cNvSpPr/>
          <p:nvPr/>
        </p:nvSpPr>
        <p:spPr>
          <a:xfrm>
            <a:off x="171360" y="272412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27160" y="27608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687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741760" y="2760840"/>
            <a:ext cx="1444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19580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24980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6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900760" y="2760840"/>
            <a:ext cx="144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358040" y="27608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41204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13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0808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9580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2321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213080" y="2778120"/>
            <a:ext cx="6480" cy="338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0808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713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321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9580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713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808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19580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2321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808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7136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27160" y="350208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7160" y="35384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687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687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724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724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741760" y="350208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41760" y="353844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65360" y="350208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65360" y="35384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519360" y="350208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519360" y="353844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9580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19580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2321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2321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249800" y="350208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249800" y="353844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046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46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00480" y="350208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00480" y="353844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846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846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883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883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00760" y="350208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00760" y="353844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62796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2796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81960" y="350208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81960" y="353844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35804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35804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394400" y="350208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394400" y="353844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12040" y="350208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412040" y="353844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8205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205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261280" y="350208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261280" y="353844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9045720" y="272412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00900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904572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375680" y="2778120"/>
            <a:ext cx="6120" cy="338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9026640" y="2778120"/>
            <a:ext cx="6120" cy="338040"/>
          </a:xfrm>
          <a:prstGeom prst="rect">
            <a:avLst/>
          </a:prstGeom>
          <a:solidFill>
            <a:srgbClr val="b2f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04572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00900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00900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04572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04572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00900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13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0808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9580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321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13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0808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9580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2321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13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0808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9580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2321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713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0808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9580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2321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13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0808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19580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2321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13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0808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19580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321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713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0808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9580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321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713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0808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71360" y="654516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19580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2321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00900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904572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900900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904572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900900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904572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00900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04572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900900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04572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900900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04572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900900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904572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900900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904572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9045720" y="654516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900900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900900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0" y="2403360"/>
            <a:ext cx="8881560" cy="4454640"/>
            <a:chOff x="0" y="2403360"/>
            <a:chExt cx="8881560" cy="4454640"/>
          </a:xfrm>
        </p:grpSpPr>
        <p:sp>
          <p:nvSpPr>
            <p:cNvPr id="1419" name=""/>
            <p:cNvSpPr/>
            <p:nvPr/>
          </p:nvSpPr>
          <p:spPr>
            <a:xfrm>
              <a:off x="295236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0" y="287640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440" y="2876400"/>
              <a:ext cx="24505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516040" y="287640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70040" y="2876400"/>
              <a:ext cx="14439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24080" y="287640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078080" y="2876400"/>
              <a:ext cx="158724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75040" y="287640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29040" y="2876400"/>
              <a:ext cx="14475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186320" y="287640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240320" y="2876400"/>
              <a:ext cx="158724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837280" y="287640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1604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5240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7504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1140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692680" y="2930400"/>
              <a:ext cx="57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5240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1604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1140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7504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51604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55240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7504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1140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186320" y="29304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22680" y="2930400"/>
              <a:ext cx="792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5440" y="2930400"/>
              <a:ext cx="2450520" cy="338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70040" y="2930400"/>
              <a:ext cx="14439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89656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078080" y="2930400"/>
              <a:ext cx="15872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7300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29040" y="2930400"/>
              <a:ext cx="14475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5412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40320" y="2930400"/>
              <a:ext cx="15872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633800" y="2887560"/>
              <a:ext cx="790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O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5440" y="3278160"/>
              <a:ext cx="2450520" cy="1728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570040" y="3278160"/>
              <a:ext cx="7138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293640" y="3278160"/>
              <a:ext cx="1728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20640" y="3278160"/>
              <a:ext cx="691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78080" y="3278160"/>
              <a:ext cx="7869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75120" y="3278160"/>
              <a:ext cx="16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901760" y="3278160"/>
              <a:ext cx="763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729040" y="3278160"/>
              <a:ext cx="7171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456240" y="3278160"/>
              <a:ext cx="16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483240" y="3278160"/>
              <a:ext cx="691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22680" y="3278160"/>
              <a:ext cx="7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186320" y="3278160"/>
              <a:ext cx="756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240320" y="3278160"/>
              <a:ext cx="7837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034120" y="3278160"/>
              <a:ext cx="1692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61120" y="3278160"/>
              <a:ext cx="764640" cy="172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186320" y="3306600"/>
              <a:ext cx="756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222680" y="3306600"/>
              <a:ext cx="7920" cy="338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5440" y="3306600"/>
              <a:ext cx="2450520" cy="338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70040" y="3306600"/>
              <a:ext cx="71388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54160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93640" y="330660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30840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78080" y="3306600"/>
              <a:ext cx="7869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68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875120" y="3306600"/>
              <a:ext cx="79020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2120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29040" y="3306600"/>
              <a:ext cx="71712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69916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456240" y="330660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46596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240320" y="3306600"/>
              <a:ext cx="78372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242120" y="3263760"/>
              <a:ext cx="75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v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034120" y="3306600"/>
              <a:ext cx="7934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083800" y="3263760"/>
              <a:ext cx="72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Dez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51604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55240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7504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1140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5440" y="3708360"/>
              <a:ext cx="2450520" cy="35388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4640" y="3663720"/>
              <a:ext cx="2475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279f"/>
                  </a:solidFill>
                  <a:latin typeface="Arial"/>
                </a:rPr>
                <a:t>Horas Teóricas</a:t>
              </a:r>
              <a:endParaRPr b="0" lang="en-US" sz="25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570040" y="370836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5686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570040" y="4046400"/>
              <a:ext cx="71388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93640" y="3708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228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93640" y="4046400"/>
              <a:ext cx="72036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51604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55240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67504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71140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40" y="407196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4120" y="4025880"/>
              <a:ext cx="19843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Horas reais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70040" y="4071960"/>
              <a:ext cx="71388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68600" y="401796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570040" y="441000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293640" y="4071960"/>
              <a:ext cx="72036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322440" y="401796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8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93640" y="441000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1604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5240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67504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1140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5440" y="4446360"/>
              <a:ext cx="2450520" cy="3654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360" y="4400280"/>
              <a:ext cx="25376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Capac. Teóric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570040" y="444636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9588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570040" y="478476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293640" y="4446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18168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293640" y="47847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1604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5240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67504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71140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5440" y="482112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800" y="4775040"/>
              <a:ext cx="24627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Capac. Prátic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570040" y="482112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568600" y="4767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0040" y="516096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293640" y="482112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22800" y="4767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9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293640" y="51609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1604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5240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7504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71140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5440" y="519588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29120" y="5149800"/>
              <a:ext cx="17100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Produçã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70040" y="5195880"/>
              <a:ext cx="71388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68600" y="5141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4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70040" y="5535360"/>
              <a:ext cx="71388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293640" y="519588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322800" y="5141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8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93640" y="55353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51604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55240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67504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71140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5440" y="557208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21200" y="5526000"/>
              <a:ext cx="17269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Eficiênci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570040" y="5572080"/>
              <a:ext cx="71388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52720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3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70040" y="5919840"/>
              <a:ext cx="71388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293640" y="557208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28104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4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93640" y="591984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51604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55240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67504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1140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440" y="5946480"/>
              <a:ext cx="2450520" cy="36540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67720" y="5900760"/>
              <a:ext cx="14328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Eficácia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70040" y="5946480"/>
              <a:ext cx="71388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52720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8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570040" y="6294240"/>
              <a:ext cx="71388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293640" y="5946480"/>
              <a:ext cx="72036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28104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9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293640" y="6294240"/>
              <a:ext cx="72036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1604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5240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67504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71140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1408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5440" y="6697440"/>
              <a:ext cx="24505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440" y="6732360"/>
              <a:ext cx="24505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51604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51604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570040" y="6697440"/>
              <a:ext cx="7138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70040" y="6732360"/>
              <a:ext cx="7138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293640" y="669744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29364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47640" y="6697440"/>
              <a:ext cx="664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347640" y="6732360"/>
              <a:ext cx="664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02408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02408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5440" y="6321240"/>
              <a:ext cx="2450520" cy="365040"/>
            </a:xfrm>
            <a:prstGeom prst="rect">
              <a:avLst/>
            </a:pr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93960" y="6275160"/>
              <a:ext cx="23896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79f"/>
                  </a:solidFill>
                  <a:latin typeface="Arial"/>
                </a:rPr>
                <a:t>Produtividade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70040" y="6321240"/>
              <a:ext cx="71388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61072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5,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570040" y="6669000"/>
              <a:ext cx="71388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293640" y="632124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28068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6,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93640" y="666900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86320" y="3708360"/>
              <a:ext cx="756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22680" y="3708360"/>
              <a:ext cx="7920" cy="353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78080" y="370836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1192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78080" y="4046400"/>
              <a:ext cx="78696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75120" y="370836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9374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875120" y="4046400"/>
              <a:ext cx="79020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29040" y="370836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72796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729040" y="4046400"/>
              <a:ext cx="71712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56240" y="3708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8180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56240" y="4046400"/>
              <a:ext cx="720360" cy="14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40320" y="370836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7236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240320" y="4046400"/>
              <a:ext cx="78372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034120" y="3708360"/>
              <a:ext cx="79344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099640" y="36543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034120" y="4046400"/>
              <a:ext cx="793440" cy="14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6320" y="407196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222680" y="407196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078080" y="4071960"/>
              <a:ext cx="78696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11192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078080" y="441000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875120" y="4071960"/>
              <a:ext cx="79020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3740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875120" y="441000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9040" y="4071960"/>
              <a:ext cx="71712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72796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729040" y="441000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456240" y="4071960"/>
              <a:ext cx="720360" cy="328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8180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456240" y="441000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40320" y="4071960"/>
              <a:ext cx="78372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7236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40320" y="441000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034120" y="4071960"/>
              <a:ext cx="793440" cy="3283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99640" y="401796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034120" y="4410000"/>
              <a:ext cx="79344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186320" y="444636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22680" y="4446360"/>
              <a:ext cx="792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078080" y="444636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02804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78080" y="478476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875120" y="444636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5172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75120" y="478476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729040" y="444636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2032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29040" y="478476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456240" y="444636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458400" y="4419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456240" y="47847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40320" y="444636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18704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9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240320" y="478476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034120" y="4446360"/>
              <a:ext cx="79344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014320" y="439236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9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34120" y="4784760"/>
              <a:ext cx="79344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186320" y="482112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222680" y="482112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078080" y="482112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12280" y="47671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6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078080" y="516096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875120" y="482112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858200" y="4800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6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875120" y="516096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729040" y="482112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620320" y="4800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729040" y="516096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456240" y="4821120"/>
              <a:ext cx="72036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82080" y="4800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56240" y="5160960"/>
              <a:ext cx="72036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240320" y="482112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272720" y="47671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2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240320" y="516096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34120" y="4821120"/>
              <a:ext cx="79344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11080" y="47671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33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34120" y="5160960"/>
              <a:ext cx="79344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186320" y="51958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222680" y="519588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78080" y="5195880"/>
              <a:ext cx="78696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112280" y="51418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58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078080" y="5535360"/>
              <a:ext cx="78696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75120" y="5195880"/>
              <a:ext cx="79020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58200" y="51814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82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75120" y="5535360"/>
              <a:ext cx="79020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729040" y="5195880"/>
              <a:ext cx="717120" cy="328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727960" y="514188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95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729040" y="5535360"/>
              <a:ext cx="717120" cy="27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456240" y="5195880"/>
              <a:ext cx="720360" cy="268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23480" y="51418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1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456240" y="5475240"/>
              <a:ext cx="720360" cy="87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240320" y="5195880"/>
              <a:ext cx="783720" cy="3286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272720" y="514188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96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240320" y="5535360"/>
              <a:ext cx="783720" cy="270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34120" y="5195880"/>
              <a:ext cx="793440" cy="29052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020440" y="514332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6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034120" y="5495760"/>
              <a:ext cx="793440" cy="666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186320" y="557208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222680" y="557208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078080" y="5572080"/>
              <a:ext cx="7869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07016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8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78080" y="5919840"/>
              <a:ext cx="78696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875120" y="5572080"/>
              <a:ext cx="79020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89384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,0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75120" y="5919840"/>
              <a:ext cx="79020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29040" y="5572080"/>
              <a:ext cx="71712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68440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3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29040" y="5919840"/>
              <a:ext cx="71712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456240" y="557208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3860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4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456240" y="591984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40320" y="5572080"/>
              <a:ext cx="78372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2916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240320" y="5919840"/>
              <a:ext cx="78372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034120" y="5572080"/>
              <a:ext cx="7934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56440" y="55274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67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034120" y="5919840"/>
              <a:ext cx="79344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186320" y="5946480"/>
              <a:ext cx="756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222680" y="5946480"/>
              <a:ext cx="7920" cy="365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078080" y="5946480"/>
              <a:ext cx="78696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07016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9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078080" y="6294240"/>
              <a:ext cx="78696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75120" y="5946480"/>
              <a:ext cx="79020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9384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,0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75120" y="6294240"/>
              <a:ext cx="79020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729040" y="5946480"/>
              <a:ext cx="71712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68440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6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729040" y="6294240"/>
              <a:ext cx="71712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456240" y="5946480"/>
              <a:ext cx="720360" cy="338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3860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8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456240" y="6294240"/>
              <a:ext cx="720360" cy="176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40320" y="5946480"/>
              <a:ext cx="78372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2916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9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40320" y="6294240"/>
              <a:ext cx="78372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034120" y="5946480"/>
              <a:ext cx="793440" cy="33840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056440" y="590220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0,77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034120" y="6294240"/>
              <a:ext cx="793440" cy="176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78080" y="6697440"/>
              <a:ext cx="7869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078080" y="6732360"/>
              <a:ext cx="7869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7512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7512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928760" y="6697440"/>
              <a:ext cx="7347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928760" y="6732360"/>
              <a:ext cx="7347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67504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67504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29040" y="6697440"/>
              <a:ext cx="7171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729040" y="6732360"/>
              <a:ext cx="7171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45624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45624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510240" y="6697440"/>
              <a:ext cx="6645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510240" y="6732360"/>
              <a:ext cx="66456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186320" y="6321240"/>
              <a:ext cx="756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222680" y="6321240"/>
              <a:ext cx="7920" cy="3650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186320" y="669744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18632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40320" y="6697440"/>
              <a:ext cx="7837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40320" y="6732360"/>
              <a:ext cx="7837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034120" y="669744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034120" y="6732360"/>
              <a:ext cx="4392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089560" y="6697440"/>
              <a:ext cx="73800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089560" y="6732360"/>
              <a:ext cx="73800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837280" y="6732360"/>
              <a:ext cx="44280" cy="79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078080" y="6321240"/>
              <a:ext cx="78696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15404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5,7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8080" y="6669000"/>
              <a:ext cx="78696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75120" y="6321240"/>
              <a:ext cx="79020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7772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6,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875120" y="6669000"/>
              <a:ext cx="79020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729040" y="6321240"/>
              <a:ext cx="71712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768280" y="627696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9,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29040" y="6669000"/>
              <a:ext cx="71712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456240" y="6321240"/>
              <a:ext cx="720360" cy="338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38600" y="627696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1,8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456240" y="6669000"/>
              <a:ext cx="720360" cy="17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40320" y="6321240"/>
              <a:ext cx="78372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229160" y="627696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1,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240320" y="6669000"/>
              <a:ext cx="78372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034120" y="6321240"/>
              <a:ext cx="793440" cy="33804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056440" y="627696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10,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034120" y="6669000"/>
              <a:ext cx="793440" cy="17280"/>
            </a:xfrm>
            <a:prstGeom prst="rect">
              <a:avLst/>
            </a:prstGeom>
            <a:solidFill>
              <a:srgbClr val="b2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86040" y="2403360"/>
              <a:ext cx="12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7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249800" y="2438280"/>
              <a:ext cx="12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6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849640" y="2438280"/>
              <a:ext cx="137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14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373880" y="2438280"/>
              <a:ext cx="137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279f"/>
                  </a:solidFill>
                  <a:latin typeface="Times New Roman"/>
                </a:rPr>
                <a:t>13 UEP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mpresa Uniprodutor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5800" y="3190680"/>
            <a:ext cx="8769240" cy="351468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ção conhecid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Gestão simplificada. 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91960" y="4727520"/>
            <a:ext cx="8417160" cy="1476360"/>
            <a:chOff x="291960" y="4727520"/>
            <a:chExt cx="8417160" cy="1476360"/>
          </a:xfrm>
        </p:grpSpPr>
        <p:sp>
          <p:nvSpPr>
            <p:cNvPr id="67" name=""/>
            <p:cNvSpPr/>
            <p:nvPr/>
          </p:nvSpPr>
          <p:spPr>
            <a:xfrm>
              <a:off x="291960" y="4759200"/>
              <a:ext cx="8417160" cy="1444680"/>
            </a:xfrm>
            <a:prstGeom prst="roundRect">
              <a:avLst>
                <a:gd name="adj" fmla="val 12486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5402160"/>
              <a:ext cx="459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5072040"/>
              <a:ext cx="28576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Times New Roman"/>
                </a:rPr>
                <a:t>Custo unitário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9840" y="4727520"/>
              <a:ext cx="47365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Times New Roman"/>
                </a:rPr>
                <a:t>Custos totais do período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93480" y="5491080"/>
              <a:ext cx="41209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Times New Roman"/>
                </a:rPr>
                <a:t>Produção do Período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9720" y="5100480"/>
              <a:ext cx="5547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4e47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40252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Medidas de Desempenh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87" name=""/>
          <p:cNvSpPr/>
          <p:nvPr/>
        </p:nvSpPr>
        <p:spPr>
          <a:xfrm>
            <a:off x="171360" y="272412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0808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27160" y="27608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687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741760" y="2760840"/>
            <a:ext cx="1444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19580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4980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846760" y="27608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900760" y="2760840"/>
            <a:ext cx="144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358040" y="27608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412040" y="2760840"/>
            <a:ext cx="158760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9009000" y="27608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713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0808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19580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232160" y="27781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213080" y="2778120"/>
            <a:ext cx="6480" cy="338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808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13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23216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195800" y="3125880"/>
            <a:ext cx="7920" cy="17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13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808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19580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232160" y="3154320"/>
            <a:ext cx="7920" cy="338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808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1360" y="3502080"/>
            <a:ext cx="7920" cy="442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7160" y="350208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27160" y="3538440"/>
            <a:ext cx="24508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687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687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724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724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741760" y="350208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41760" y="3538440"/>
            <a:ext cx="7142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465360" y="350208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465360" y="3538440"/>
            <a:ext cx="4464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19360" y="350208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519360" y="3538440"/>
            <a:ext cx="665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19580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19580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2321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2321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249800" y="350208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249800" y="3538440"/>
            <a:ext cx="7873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046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6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100480" y="350208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00480" y="3538440"/>
            <a:ext cx="7351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84676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84676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88312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88312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900760" y="350208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900760" y="3538440"/>
            <a:ext cx="7174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62796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62796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81960" y="350208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681960" y="3538440"/>
            <a:ext cx="664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358040" y="350208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358040" y="353844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394400" y="350208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394400" y="3538440"/>
            <a:ext cx="8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7412040" y="350208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412040" y="3538440"/>
            <a:ext cx="7840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8205840" y="350208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8205840" y="3538440"/>
            <a:ext cx="4428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8261280" y="350208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261280" y="3538440"/>
            <a:ext cx="73836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713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0808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9580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232160" y="3556080"/>
            <a:ext cx="7920" cy="3538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3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0808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19580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232160" y="391968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713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0808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9580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232160" y="429408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713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0808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19580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232160" y="466884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713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0808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19580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232160" y="50436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13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20808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19580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232160" y="541980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713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0808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19580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232160" y="5794200"/>
            <a:ext cx="7920" cy="365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713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0808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71360" y="6545160"/>
            <a:ext cx="7920" cy="446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8080" y="6545160"/>
            <a:ext cx="7920" cy="7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19580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232160" y="6168960"/>
            <a:ext cx="7920" cy="365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0" y="2403360"/>
          <a:ext cx="9144000" cy="43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03360"/>
                    <a:ext cx="9144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0080" y="3630600"/>
            <a:ext cx="7512120" cy="23162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4000"/>
          </a:bodyPr>
          <a:p>
            <a:pPr marL="283320" indent="-283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usto total = $ 6.000.000,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3320" indent="-283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ção = 6.000 unidades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332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3320" indent="-28332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Custo = $ 1.000 / unidade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mpresa Multiprodutora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7320" y="3594240"/>
            <a:ext cx="7483320" cy="17301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ção conhecida ?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Gestão complexa.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02128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7696440" cy="36385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 fontScale="95000"/>
          </a:bodyPr>
          <a:p>
            <a:pPr marL="286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roduto 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  Outubro  Novembro Dezembro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3.0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1.5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1.0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3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3.0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2.600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2.3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1749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rodução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6.000 ?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6.100 ?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  6.300 ?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spcBef>
                <a:spcPts val="455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(?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286560"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840" y="39060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1680" bIns="31680" anchor="ctr">
            <a:noAutofit/>
          </a:bodyPr>
          <a:p>
            <a:pPr indent="0" algn="ctr">
              <a:buNone/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0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0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3040" y="2133360"/>
            <a:ext cx="8769600" cy="38862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41400" bIns="41400" anchor="t">
            <a:normAutofit/>
          </a:bodyPr>
          <a:p>
            <a:pPr marL="301680" indent="-3016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Ex: CT = $ 6.000.000,00  (outubro)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  <a:p>
            <a:pPr marL="301680" indent="-301680">
              <a:spcBef>
                <a:spcPts val="35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1" lang="en-US" sz="28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CT</a:t>
            </a:r>
            <a:r>
              <a:rPr b="0" lang="en-US" sz="28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CT</a:t>
            </a:r>
            <a:r>
              <a:rPr b="1" lang="en-US" sz="28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  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 = $ 1.000,00</a:t>
            </a:r>
            <a:endParaRPr b="0" lang="en-US" sz="2800" spc="-1" strike="noStrike">
              <a:solidFill>
                <a:srgbClr val="003e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8520" y="4481640"/>
          <a:ext cx="8475480" cy="21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4481640"/>
                    <a:ext cx="84754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073400" y="2719440"/>
            <a:ext cx="201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6.000.0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0160" y="325116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6.0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3360" y="3286080"/>
            <a:ext cx="1801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4T16:35:52Z</dcterms:created>
  <dc:creator>Adrian C. Ferreira</dc:creator>
  <dc:description/>
  <cp:keywords/>
  <dc:language>en-US</dc:language>
  <cp:lastModifiedBy>Rafael</cp:lastModifiedBy>
  <dcterms:modified xsi:type="dcterms:W3CDTF">2009-03-06T01:01:16Z</dcterms:modified>
  <cp:revision>21</cp:revision>
  <dc:subject/>
  <dc:title>CUSTEIO BASEADO EM ATIVIDADES</dc:title>
</cp:coreProperties>
</file>