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1076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5720" y="274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580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1076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5720" y="4812840"/>
            <a:ext cx="282348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6520" y="533520"/>
            <a:ext cx="59356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9320" y="481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580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9320" y="2742840"/>
            <a:ext cx="427932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5800" y="4812840"/>
            <a:ext cx="876924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ick to edit the title text format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5800" y="274284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1" marL="579240" indent="-222840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2" marL="89136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3" marL="124812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4" marL="1604520" indent="-178200">
              <a:spcBef>
                <a:spcPts val="2001"/>
              </a:spcBef>
              <a:buClr>
                <a:srgbClr val="fc0128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5" marL="1604520" indent="-178200">
              <a:spcBef>
                <a:spcPts val="2001"/>
              </a:spcBef>
              <a:buClr>
                <a:srgbClr val="00279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lvl="6" marL="1604520" indent="-178200">
              <a:spcBef>
                <a:spcPts val="2001"/>
              </a:spcBef>
              <a:buClr>
                <a:srgbClr val="00279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13200" y="658332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279f"/>
                </a:solidFill>
                <a:latin typeface="Arial"/>
              </a:rPr>
              <a:t>Antonio Cezar Bornia</a:t>
            </a:r>
            <a:endParaRPr b="0" lang="en-US" sz="1200" spc="-1" strike="noStrike">
              <a:solidFill>
                <a:srgbClr val="00279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738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81d58"/>
                </a:solidFill>
                <a:latin typeface="Bookman Old Style"/>
              </a:rPr>
              <a:t>Apresentação baseada no livro “Análise gerencial de custos: aplicação em empresas modernas”, de Antonio Cezar Bornia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240" y="4572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: Fabricar ou Comprar?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5800" y="3124080"/>
            <a:ext cx="8769240" cy="306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0">
              <a:spcBef>
                <a:spcPts val="2001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usto de MP :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$10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4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Custo de MOD: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$  5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4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Outros custos (fixos):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$10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001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3f00"/>
                </a:solidFill>
                <a:latin typeface="Arial"/>
              </a:rPr>
              <a:t>Custo: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$25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9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3f00"/>
                </a:solidFill>
                <a:latin typeface="Arial"/>
              </a:rPr>
              <a:t>Preço para compra: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$20,00 / un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4240" y="4572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: Fabricar ou Comprar?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5800" y="3505320"/>
            <a:ext cx="5111640" cy="3068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Custo de MP :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    $10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Custo de MOD: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    $  5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Outros custos (fixos): $10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f00"/>
                </a:solidFill>
                <a:latin typeface="Arial"/>
              </a:rPr>
              <a:t>Custo: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$25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  <a:p>
            <a:pPr marL="328680" indent="0">
              <a:spcBef>
                <a:spcPts val="1500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i="1" lang="en-US" sz="2400" spc="-1" strike="noStrike">
                <a:solidFill>
                  <a:srgbClr val="003f00"/>
                </a:solidFill>
                <a:latin typeface="Arial"/>
              </a:rPr>
              <a:t>Preço para compra: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$20,00 / un.</a:t>
            </a:r>
            <a:endParaRPr b="0" lang="en-US" sz="24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79920" y="3352680"/>
            <a:ext cx="358776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28680" indent="-328680">
              <a:lnSpc>
                <a:spcPct val="10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Quais custos são relevantes para a análise desta decisão?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  <a:p>
            <a:pPr marL="328680" indent="-328680">
              <a:lnSpc>
                <a:spcPct val="10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Qual seria a decisão?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Relação Custo/Benefíci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-2578320" y="-900000"/>
            <a:ext cx="8048520" cy="6984360"/>
            <a:chOff x="-2578320" y="-900000"/>
            <a:chExt cx="8048520" cy="6984360"/>
          </a:xfrm>
        </p:grpSpPr>
        <p:sp>
          <p:nvSpPr>
            <p:cNvPr id="90" name=""/>
            <p:cNvSpPr/>
            <p:nvPr/>
          </p:nvSpPr>
          <p:spPr>
            <a:xfrm>
              <a:off x="-2578320" y="-900000"/>
              <a:ext cx="8048520" cy="69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0880" y="2335320"/>
              <a:ext cx="124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e0043"/>
                  </a:solidFill>
                  <a:latin typeface="Arial"/>
                </a:rPr>
                <a:t>Cust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447920" y="3430440"/>
            <a:ext cx="10485720" cy="5308200"/>
            <a:chOff x="1447920" y="3430440"/>
            <a:chExt cx="10485720" cy="5308200"/>
          </a:xfrm>
        </p:grpSpPr>
        <p:sp>
          <p:nvSpPr>
            <p:cNvPr id="93" name=""/>
            <p:cNvSpPr/>
            <p:nvPr/>
          </p:nvSpPr>
          <p:spPr>
            <a:xfrm rot="10800000">
              <a:off x="1447920" y="3430080"/>
              <a:ext cx="10485720" cy="530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1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127"/>
                </a:path>
              </a:pathLst>
            </a:custGeom>
            <a:noFill/>
            <a:ln cap="rnd"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6360" y="3589200"/>
              <a:ext cx="1874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Arial"/>
                </a:rPr>
                <a:t>Benefício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93840" y="2293920"/>
            <a:ext cx="5183640" cy="4563720"/>
            <a:chOff x="1293840" y="2293920"/>
            <a:chExt cx="5183640" cy="4563720"/>
          </a:xfrm>
        </p:grpSpPr>
        <p:grpSp>
          <p:nvGrpSpPr>
            <p:cNvPr id="96" name=""/>
            <p:cNvGrpSpPr/>
            <p:nvPr/>
          </p:nvGrpSpPr>
          <p:grpSpPr>
            <a:xfrm>
              <a:off x="1425240" y="2827440"/>
              <a:ext cx="5052240" cy="4030200"/>
              <a:chOff x="1425240" y="2827440"/>
              <a:chExt cx="5052240" cy="4030200"/>
            </a:xfrm>
          </p:grpSpPr>
          <p:sp>
            <p:nvSpPr>
              <p:cNvPr id="97" name=""/>
              <p:cNvSpPr/>
              <p:nvPr/>
            </p:nvSpPr>
            <p:spPr>
              <a:xfrm>
                <a:off x="1446480" y="2827440"/>
                <a:ext cx="0" cy="326376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52600" y="6097680"/>
                <a:ext cx="486432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25240" y="6342120"/>
                <a:ext cx="50522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detalhamento das informações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293840" y="22939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$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81d58"/>
                </a:solidFill>
                <a:latin typeface="Bookman Old Style"/>
              </a:rPr>
              <a:t>Nível Ótim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17520" y="1836720"/>
            <a:ext cx="5183640" cy="4563720"/>
            <a:chOff x="1217520" y="1836720"/>
            <a:chExt cx="5183640" cy="4563720"/>
          </a:xfrm>
        </p:grpSpPr>
        <p:grpSp>
          <p:nvGrpSpPr>
            <p:cNvPr id="103" name=""/>
            <p:cNvGrpSpPr/>
            <p:nvPr/>
          </p:nvGrpSpPr>
          <p:grpSpPr>
            <a:xfrm>
              <a:off x="1348920" y="2370240"/>
              <a:ext cx="5052240" cy="4030200"/>
              <a:chOff x="1348920" y="2370240"/>
              <a:chExt cx="5052240" cy="4030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370160" y="2370240"/>
                <a:ext cx="0" cy="326376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76280" y="5640480"/>
                <a:ext cx="4864320" cy="0"/>
              </a:xfrm>
              <a:prstGeom prst="line">
                <a:avLst/>
              </a:prstGeom>
              <a:ln w="12600">
                <a:solidFill>
                  <a:srgbClr val="003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48920" y="5884920"/>
                <a:ext cx="50522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e00"/>
                    </a:solidFill>
                    <a:latin typeface="Arial"/>
                  </a:rPr>
                  <a:t>detalhamento das informações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217520" y="1836720"/>
              <a:ext cx="37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e00"/>
                  </a:solidFill>
                  <a:latin typeface="Arial"/>
                </a:rPr>
                <a:t>$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057400" y="3352680"/>
            <a:ext cx="6255360" cy="1905120"/>
            <a:chOff x="2057400" y="3352680"/>
            <a:chExt cx="6255360" cy="1905120"/>
          </a:xfrm>
        </p:grpSpPr>
        <p:sp>
          <p:nvSpPr>
            <p:cNvPr id="109" name=""/>
            <p:cNvSpPr/>
            <p:nvPr/>
          </p:nvSpPr>
          <p:spPr>
            <a:xfrm>
              <a:off x="5182200" y="4648320"/>
              <a:ext cx="3130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Arial"/>
                </a:rPr>
                <a:t>Benefício marginal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57400" y="3352680"/>
              <a:ext cx="3352680" cy="1905120"/>
            </a:xfrm>
            <a:custGeom>
              <a:avLst/>
              <a:gdLst/>
              <a:ahLst/>
              <a:rect l="l" t="t" r="r" b="b"/>
              <a:pathLst>
                <a:path w="2112" h="1200">
                  <a:moveTo>
                    <a:pt x="0" y="0"/>
                  </a:moveTo>
                  <a:cubicBezTo>
                    <a:pt x="232" y="332"/>
                    <a:pt x="464" y="664"/>
                    <a:pt x="816" y="864"/>
                  </a:cubicBezTo>
                  <a:cubicBezTo>
                    <a:pt x="1168" y="1064"/>
                    <a:pt x="1640" y="1132"/>
                    <a:pt x="2112" y="1200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28800" y="2743200"/>
            <a:ext cx="4973760" cy="2641680"/>
            <a:chOff x="1828800" y="2743200"/>
            <a:chExt cx="4973760" cy="2641680"/>
          </a:xfrm>
        </p:grpSpPr>
        <p:sp>
          <p:nvSpPr>
            <p:cNvPr id="112" name=""/>
            <p:cNvSpPr/>
            <p:nvPr/>
          </p:nvSpPr>
          <p:spPr>
            <a:xfrm>
              <a:off x="4226760" y="2743200"/>
              <a:ext cx="257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e0043"/>
                  </a:solidFill>
                  <a:latin typeface="Arial"/>
                </a:rPr>
                <a:t>Custo marginal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3657600"/>
              <a:ext cx="3733560" cy="1727280"/>
            </a:xfrm>
            <a:custGeom>
              <a:avLst/>
              <a:gdLst/>
              <a:ahLst/>
              <a:rect l="l" t="t" r="r" b="b"/>
              <a:pathLst>
                <a:path w="2352" h="1088">
                  <a:moveTo>
                    <a:pt x="0" y="1056"/>
                  </a:moveTo>
                  <a:cubicBezTo>
                    <a:pt x="308" y="1072"/>
                    <a:pt x="616" y="1088"/>
                    <a:pt x="1008" y="912"/>
                  </a:cubicBezTo>
                  <a:cubicBezTo>
                    <a:pt x="1400" y="736"/>
                    <a:pt x="1876" y="368"/>
                    <a:pt x="2352" y="0"/>
                  </a:cubicBezTo>
                </a:path>
              </a:pathLst>
            </a:custGeom>
            <a:noFill/>
            <a:ln w="1260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415320" y="4952880"/>
            <a:ext cx="1050840" cy="1545840"/>
            <a:chOff x="3415320" y="4952880"/>
            <a:chExt cx="1050840" cy="1545840"/>
          </a:xfrm>
        </p:grpSpPr>
        <p:sp>
          <p:nvSpPr>
            <p:cNvPr id="115" name=""/>
            <p:cNvSpPr/>
            <p:nvPr/>
          </p:nvSpPr>
          <p:spPr>
            <a:xfrm>
              <a:off x="3809880" y="4952880"/>
              <a:ext cx="0" cy="685800"/>
            </a:xfrm>
            <a:prstGeom prst="line">
              <a:avLst/>
            </a:prstGeom>
            <a:ln cap="rnd" w="1260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15320" y="5551560"/>
              <a:ext cx="1050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279f"/>
                  </a:solidFill>
                  <a:latin typeface="Arial"/>
                </a:rPr>
                <a:t>ótimo</a:t>
              </a: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assificação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e Cu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5800" y="2895480"/>
            <a:ext cx="8769240" cy="3810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 total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Custo para fabricar um conjunto de unidades do produto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  <a:p>
            <a:pPr marL="328680" indent="-328680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 unitário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custo para fabricar uma unidade do produto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6840" y="5416560"/>
            <a:ext cx="6381000" cy="1287000"/>
            <a:chOff x="996840" y="5416560"/>
            <a:chExt cx="6381000" cy="1287000"/>
          </a:xfrm>
        </p:grpSpPr>
        <p:grpSp>
          <p:nvGrpSpPr>
            <p:cNvPr id="44" name=""/>
            <p:cNvGrpSpPr/>
            <p:nvPr/>
          </p:nvGrpSpPr>
          <p:grpSpPr>
            <a:xfrm>
              <a:off x="1011600" y="5425920"/>
              <a:ext cx="6366240" cy="1277640"/>
              <a:chOff x="1011600" y="5425920"/>
              <a:chExt cx="6366240" cy="1277640"/>
            </a:xfrm>
          </p:grpSpPr>
          <p:sp>
            <p:nvSpPr>
              <p:cNvPr id="45" name=""/>
              <p:cNvSpPr/>
              <p:nvPr/>
            </p:nvSpPr>
            <p:spPr>
              <a:xfrm>
                <a:off x="1011600" y="5807160"/>
                <a:ext cx="28378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Custo unitário =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90720" y="5425920"/>
                <a:ext cx="19933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Custo total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663720" y="6188040"/>
                <a:ext cx="37141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279f"/>
                    </a:solidFill>
                    <a:latin typeface="Book Antiqua"/>
                  </a:rPr>
                  <a:t>Unidades produzidas</a:t>
                </a:r>
                <a:endParaRPr b="0" lang="en-US" sz="28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816360" y="6019920"/>
                <a:ext cx="341640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996840" y="5416560"/>
              <a:ext cx="6311880" cy="1282680"/>
            </a:xfrm>
            <a:prstGeom prst="rect">
              <a:avLst/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Exempl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5800" y="2895480"/>
            <a:ext cx="4298760" cy="1976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15360" indent="-31536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A empresa AAA produziu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2.000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itens e teve um custo total de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$1.000,00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6280" y="2895120"/>
            <a:ext cx="4299120" cy="2049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A empresa BBB produziu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5.000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itens e teve um custo total de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$3.000,00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791320"/>
            <a:ext cx="7239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0023"/>
                </a:solidFill>
                <a:latin typeface="Arial"/>
              </a:rPr>
              <a:t>Qual empresa foi mais eficiente?</a:t>
            </a:r>
            <a:endParaRPr b="0" lang="en-US" sz="32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4240" y="533520"/>
            <a:ext cx="585936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assificação pela Variabilidade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297180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s fixos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- independem do volume de produção, </a:t>
            </a:r>
            <a:r>
              <a:rPr b="1" lang="en-US" sz="3200" spc="-1" strike="noStrike">
                <a:solidFill>
                  <a:srgbClr val="003f00"/>
                </a:solidFill>
                <a:latin typeface="Arial"/>
              </a:rPr>
              <a:t>no curto prazo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  <a:p>
            <a:pPr marL="328680" indent="-328680" algn="just">
              <a:spcBef>
                <a:spcPts val="2001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s variáveis</a:t>
            </a:r>
            <a:r>
              <a:rPr b="0" lang="en-US" sz="3200" spc="-1" strike="noStrike">
                <a:solidFill>
                  <a:srgbClr val="003f00"/>
                </a:solidFill>
                <a:latin typeface="Arial"/>
              </a:rPr>
              <a:t> - crescem com o aumento da produção.</a:t>
            </a:r>
            <a:endParaRPr b="0" lang="en-US" sz="32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520" y="3808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Fixos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 e Variávei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905120"/>
          <a:ext cx="6899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6899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5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mis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2416320"/>
          <a:ext cx="655308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16320"/>
                    <a:ext cx="655308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520" y="9907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lassificação pela Facilidade de Alocação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5800" y="3581280"/>
            <a:ext cx="8769240" cy="3416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direto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facilmente identificáveis com os produtos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  <a:p>
            <a:pPr marL="328680" indent="-3286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indireto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necessitam de certo grau de subjetividade para serem alocados aos produtos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Custos </a:t>
            </a:r>
            <a:br>
              <a:rPr sz="4400"/>
            </a:br>
            <a:r>
              <a:rPr b="1" i="1" lang="en-US" sz="4400" spc="-1" strike="noStrike">
                <a:solidFill>
                  <a:srgbClr val="081d58"/>
                </a:solidFill>
                <a:latin typeface="Bookman Old Style"/>
              </a:rPr>
              <a:t>Diretos x Indiretos</a:t>
            </a:r>
            <a:endParaRPr b="1" i="1" lang="en-US" sz="4400" spc="-1" strike="noStrike">
              <a:solidFill>
                <a:srgbClr val="081d58"/>
              </a:solidFill>
              <a:latin typeface="Bookman Old Style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83240" y="4349880"/>
            <a:ext cx="1968480" cy="1282680"/>
            <a:chOff x="6483240" y="4349880"/>
            <a:chExt cx="1968480" cy="1282680"/>
          </a:xfrm>
        </p:grpSpPr>
        <p:sp>
          <p:nvSpPr>
            <p:cNvPr id="66" name=""/>
            <p:cNvSpPr/>
            <p:nvPr/>
          </p:nvSpPr>
          <p:spPr>
            <a:xfrm>
              <a:off x="6483240" y="4349880"/>
              <a:ext cx="1968480" cy="1282680"/>
            </a:xfrm>
            <a:prstGeom prst="roundRect">
              <a:avLst>
                <a:gd name="adj" fmla="val 12495"/>
              </a:avLst>
            </a:prstGeom>
            <a:solidFill>
              <a:srgbClr val="c8fec8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3920" y="469584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Produ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9640" y="3206880"/>
            <a:ext cx="1892520" cy="1130040"/>
            <a:chOff x="539640" y="3206880"/>
            <a:chExt cx="1892520" cy="1130040"/>
          </a:xfrm>
        </p:grpSpPr>
        <p:sp>
          <p:nvSpPr>
            <p:cNvPr id="69" name=""/>
            <p:cNvSpPr/>
            <p:nvPr/>
          </p:nvSpPr>
          <p:spPr>
            <a:xfrm>
              <a:off x="539640" y="3206880"/>
              <a:ext cx="1892520" cy="11300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480" y="3247920"/>
              <a:ext cx="14007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us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dire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15960" y="5187960"/>
            <a:ext cx="1892160" cy="1130400"/>
            <a:chOff x="615960" y="5187960"/>
            <a:chExt cx="1892160" cy="1130400"/>
          </a:xfrm>
        </p:grpSpPr>
        <p:sp>
          <p:nvSpPr>
            <p:cNvPr id="72" name=""/>
            <p:cNvSpPr/>
            <p:nvPr/>
          </p:nvSpPr>
          <p:spPr>
            <a:xfrm>
              <a:off x="615960" y="5187960"/>
              <a:ext cx="1892160" cy="113040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1840" y="5229360"/>
              <a:ext cx="17161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cus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diretos</a:t>
              </a:r>
              <a:endParaRPr b="0" lang="en-US" sz="32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451240" y="3746520"/>
            <a:ext cx="4012920" cy="1193760"/>
          </a:xfrm>
          <a:prstGeom prst="line">
            <a:avLst/>
          </a:prstGeom>
          <a:ln w="25560">
            <a:solidFill>
              <a:srgbClr val="3c00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527200" y="5016240"/>
            <a:ext cx="3936960" cy="1302120"/>
            <a:chOff x="2527200" y="5016240"/>
            <a:chExt cx="3936960" cy="1302120"/>
          </a:xfrm>
        </p:grpSpPr>
        <p:grpSp>
          <p:nvGrpSpPr>
            <p:cNvPr id="76" name=""/>
            <p:cNvGrpSpPr/>
            <p:nvPr/>
          </p:nvGrpSpPr>
          <p:grpSpPr>
            <a:xfrm>
              <a:off x="3310560" y="5187960"/>
              <a:ext cx="2304360" cy="1130400"/>
              <a:chOff x="3310560" y="5187960"/>
              <a:chExt cx="2304360" cy="1130400"/>
            </a:xfrm>
          </p:grpSpPr>
          <p:sp>
            <p:nvSpPr>
              <p:cNvPr id="77" name=""/>
              <p:cNvSpPr/>
              <p:nvPr/>
            </p:nvSpPr>
            <p:spPr>
              <a:xfrm>
                <a:off x="3359160" y="5187960"/>
                <a:ext cx="2197080" cy="1130400"/>
              </a:xfrm>
              <a:prstGeom prst="rect">
                <a:avLst/>
              </a:prstGeom>
              <a:solidFill>
                <a:srgbClr val="feffe8"/>
              </a:solidFill>
              <a:ln w="12600">
                <a:solidFill>
                  <a:srgbClr val="3c00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10560" y="5229360"/>
                <a:ext cx="2304360" cy="10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Distribuição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e00"/>
                    </a:solidFill>
                    <a:latin typeface="Arial"/>
                  </a:rPr>
                  <a:t>(rateio)</a:t>
                </a:r>
                <a:endParaRPr b="0" lang="en-US" sz="3200" spc="-1" strike="noStrike">
                  <a:solidFill>
                    <a:srgbClr val="00279f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527200" y="5715000"/>
              <a:ext cx="812880" cy="0"/>
            </a:xfrm>
            <a:prstGeom prst="line">
              <a:avLst/>
            </a:prstGeom>
            <a:ln w="2556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575320" y="5016240"/>
              <a:ext cx="888840" cy="711000"/>
            </a:xfrm>
            <a:prstGeom prst="line">
              <a:avLst/>
            </a:prstGeom>
            <a:ln w="25560">
              <a:solidFill>
                <a:srgbClr val="3c00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79f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0" y="60948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i="1" lang="en-US" sz="4000" spc="-1" strike="noStrike">
                <a:solidFill>
                  <a:srgbClr val="081d58"/>
                </a:solidFill>
                <a:latin typeface="Bookman Old Style"/>
              </a:rPr>
              <a:t>Critério pelo Auxílio à Tomada de Decisões</a:t>
            </a:r>
            <a:endParaRPr b="1" i="1" lang="en-US" sz="4000" spc="-1" strike="noStrike">
              <a:solidFill>
                <a:srgbClr val="081d58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5800" y="3034800"/>
            <a:ext cx="8769240" cy="3962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relevante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alteram-se com a tomada de decisão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  <a:p>
            <a:pPr marL="328680" indent="-328680" algn="just"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não relevante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- não se alteram com a decisão tomada.</a:t>
            </a:r>
            <a:endParaRPr b="0" lang="en-US" sz="3100" spc="-1" strike="noStrike">
              <a:solidFill>
                <a:srgbClr val="003f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1T15:16:00Z</dcterms:created>
  <dc:creator>Adrian C. Ferreira</dc:creator>
  <dc:description/>
  <cp:keywords/>
  <dc:language>en-US</dc:language>
  <cp:lastModifiedBy>Rafael</cp:lastModifiedBy>
  <dcterms:modified xsi:type="dcterms:W3CDTF">2009-03-06T01:02:07Z</dcterms:modified>
  <cp:revision>19</cp:revision>
  <dc:subject/>
  <dc:title>CUSTEIO BASEADO EM ATIVIDADES</dc:title>
</cp:coreProperties>
</file>