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AE05-1CEF-47F9-8418-079BB6A9F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5800" y="2819160"/>
            <a:ext cx="87692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5800" y="4849200"/>
            <a:ext cx="87692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AFCF-CEAF-463F-A3EE-02E4337A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5800" y="2819160"/>
            <a:ext cx="42793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819160"/>
            <a:ext cx="42793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5800" y="4849200"/>
            <a:ext cx="42793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4849200"/>
            <a:ext cx="42793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33FE-9742-4087-AAA3-C22BC90DC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5800" y="2819160"/>
            <a:ext cx="282348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0760" y="2819160"/>
            <a:ext cx="282348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5720" y="2819160"/>
            <a:ext cx="282348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5800" y="4849200"/>
            <a:ext cx="282348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0760" y="4849200"/>
            <a:ext cx="282348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5720" y="4849200"/>
            <a:ext cx="282348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7A40-2978-4594-92FF-CC04F930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5800" y="2819160"/>
            <a:ext cx="876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B315-6718-4CF3-A074-C91A15AB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5800" y="2819160"/>
            <a:ext cx="87692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6EE3-2E2A-4E22-8BB6-87A95174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5800" y="2819160"/>
            <a:ext cx="42793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819160"/>
            <a:ext cx="42793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339D-1758-40CF-8DEF-AEAE099A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6477-CC4B-424A-A3F4-54DC4245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840" y="533520"/>
            <a:ext cx="5783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35BA-859F-492D-B020-C2BA506E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5800" y="2819160"/>
            <a:ext cx="42793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819160"/>
            <a:ext cx="42793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5800" y="4849200"/>
            <a:ext cx="42793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B354-1A94-4AE7-9447-4066653B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5800" y="2819160"/>
            <a:ext cx="42793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819160"/>
            <a:ext cx="42793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4849200"/>
            <a:ext cx="42793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8D60-F4EC-4EE7-A3A9-BB00E0AD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5800" y="2819160"/>
            <a:ext cx="42793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819160"/>
            <a:ext cx="427932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5800" y="4849200"/>
            <a:ext cx="8769240" cy="185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41BA-8761-4837-8B61-2F83379E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27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27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27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D32EE4D-D8DD-4005-947A-3ECF50B4BCFE}" type="slidenum"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5984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Click to edit the title text format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45800" y="2819160"/>
            <a:ext cx="87692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lvl="1" marL="564480" indent="-217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lvl="2" marL="868680" indent="-173520">
              <a:spcBef>
                <a:spcPts val="2001"/>
              </a:spcBef>
              <a:buClr>
                <a:srgbClr val="fc0128"/>
              </a:buClr>
              <a:buSzPct val="64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lvl="3" marL="1216080" indent="-173520">
              <a:spcBef>
                <a:spcPts val="2001"/>
              </a:spcBef>
              <a:buClr>
                <a:srgbClr val="fc0128"/>
              </a:buClr>
              <a:buSzPct val="64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lvl="4" marL="1563480" indent="-173520">
              <a:spcBef>
                <a:spcPts val="2001"/>
              </a:spcBef>
              <a:buClr>
                <a:srgbClr val="fc0128"/>
              </a:buClr>
              <a:buSzPct val="64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lvl="5" marL="1563480" indent="-173520">
              <a:spcBef>
                <a:spcPts val="2001"/>
              </a:spcBef>
              <a:buClr>
                <a:srgbClr val="00279f"/>
              </a:buClr>
              <a:buSzPct val="64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lvl="6" marL="1563480" indent="-173520">
              <a:spcBef>
                <a:spcPts val="2001"/>
              </a:spcBef>
              <a:buClr>
                <a:srgbClr val="00279f"/>
              </a:buClr>
              <a:buSzPct val="64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506720" y="658332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279f"/>
                </a:solidFill>
                <a:latin typeface="Arial"/>
              </a:rPr>
              <a:t>Antonio Cezar Bornia</a:t>
            </a:r>
            <a:endParaRPr b="0" lang="en-US" sz="1200" spc="-1" strike="noStrike">
              <a:solidFill>
                <a:srgbClr val="00279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359480" y="1440"/>
            <a:ext cx="1778040" cy="237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81d58"/>
                </a:solidFill>
                <a:latin typeface="Bookman Old Style"/>
              </a:rPr>
              <a:t>Apresentação baseada no livro “Análise gerencial de custos: aplicação em empresas modernas”, de Antonio Cezar Bornia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Variaçõe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09" name=""/>
          <p:cNvSpPr/>
          <p:nvPr/>
        </p:nvSpPr>
        <p:spPr>
          <a:xfrm>
            <a:off x="3798720" y="3048120"/>
            <a:ext cx="632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98720" y="3657600"/>
            <a:ext cx="6321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31200" y="2257560"/>
            <a:ext cx="7472520" cy="4605840"/>
            <a:chOff x="331200" y="2257560"/>
            <a:chExt cx="7472520" cy="4605840"/>
          </a:xfrm>
        </p:grpSpPr>
        <p:sp>
          <p:nvSpPr>
            <p:cNvPr id="112" name=""/>
            <p:cNvSpPr/>
            <p:nvPr/>
          </p:nvSpPr>
          <p:spPr>
            <a:xfrm>
              <a:off x="399960" y="3476520"/>
              <a:ext cx="6890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pc</a:t>
              </a:r>
              <a:r>
                <a:rPr b="0" lang="en-US" sz="3200" spc="-1" strike="noStrike" baseline="-25000">
                  <a:solidFill>
                    <a:srgbClr val="003e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57720" y="6219720"/>
              <a:ext cx="57636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Q</a:t>
              </a:r>
              <a:r>
                <a:rPr b="0" lang="en-US" sz="3200" spc="-1" strike="noStrike" baseline="-25000">
                  <a:solidFill>
                    <a:srgbClr val="003e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49400" y="2895480"/>
              <a:ext cx="4286160" cy="3278160"/>
            </a:xfrm>
            <a:custGeom>
              <a:avLst/>
              <a:gdLst/>
              <a:ahLst/>
              <a:rect l="l" t="t" r="r" b="b"/>
              <a:pathLst>
                <a:path w="2700" h="2065">
                  <a:moveTo>
                    <a:pt x="0" y="0"/>
                  </a:moveTo>
                  <a:lnTo>
                    <a:pt x="0" y="2064"/>
                  </a:lnTo>
                  <a:lnTo>
                    <a:pt x="2699" y="2064"/>
                  </a:lnTo>
                </a:path>
              </a:pathLst>
            </a:custGeom>
            <a:noFill/>
            <a:ln cap="rnd" w="12600">
              <a:solidFill>
                <a:srgbClr val="003e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5520" y="2257560"/>
              <a:ext cx="1243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Preço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23840" y="5915160"/>
              <a:ext cx="2279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Quantidade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1200" y="4238640"/>
              <a:ext cx="7423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pc</a:t>
              </a:r>
              <a:r>
                <a:rPr b="0" lang="en-US" sz="3200" spc="-1" strike="noStrike" baseline="-25000">
                  <a:solidFill>
                    <a:srgbClr val="003e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12320" y="6219720"/>
              <a:ext cx="6296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Q</a:t>
              </a:r>
              <a:r>
                <a:rPr b="0" lang="en-US" sz="3200" spc="-1" strike="noStrike" baseline="-25000">
                  <a:solidFill>
                    <a:srgbClr val="003e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055520" y="3740040"/>
            <a:ext cx="3510000" cy="2425680"/>
            <a:chOff x="1055520" y="3740040"/>
            <a:chExt cx="3510000" cy="2425680"/>
          </a:xfrm>
        </p:grpSpPr>
        <p:sp>
          <p:nvSpPr>
            <p:cNvPr id="120" name=""/>
            <p:cNvSpPr/>
            <p:nvPr/>
          </p:nvSpPr>
          <p:spPr>
            <a:xfrm>
              <a:off x="1055520" y="3740040"/>
              <a:ext cx="3510000" cy="2425680"/>
            </a:xfrm>
            <a:prstGeom prst="rect">
              <a:avLst/>
            </a:prstGeom>
            <a:solidFill>
              <a:srgbClr val="e7ffe7"/>
            </a:solidFill>
            <a:ln w="1260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55520" y="4502160"/>
              <a:ext cx="2138400" cy="1663560"/>
            </a:xfrm>
            <a:prstGeom prst="rect">
              <a:avLst/>
            </a:prstGeom>
            <a:solidFill>
              <a:srgbClr val="e7ffe7"/>
            </a:solidFill>
            <a:ln w="1260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422440" y="28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073160" y="2909880"/>
            <a:ext cx="3110760" cy="1579680"/>
            <a:chOff x="1073160" y="2909880"/>
            <a:chExt cx="3110760" cy="1579680"/>
          </a:xfrm>
        </p:grpSpPr>
        <p:sp>
          <p:nvSpPr>
            <p:cNvPr id="124" name=""/>
            <p:cNvSpPr/>
            <p:nvPr/>
          </p:nvSpPr>
          <p:spPr>
            <a:xfrm>
              <a:off x="1073160" y="3740040"/>
              <a:ext cx="2120760" cy="7495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1981080" y="3276360"/>
              <a:ext cx="381240" cy="685800"/>
            </a:xfrm>
            <a:prstGeom prst="line">
              <a:avLst/>
            </a:prstGeom>
            <a:ln w="12600">
              <a:solidFill>
                <a:srgbClr val="003e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75440" y="2909880"/>
              <a:ext cx="1608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MPpreço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206880" y="4502160"/>
            <a:ext cx="3720240" cy="1663560"/>
            <a:chOff x="3206880" y="4502160"/>
            <a:chExt cx="3720240" cy="1663560"/>
          </a:xfrm>
        </p:grpSpPr>
        <p:sp>
          <p:nvSpPr>
            <p:cNvPr id="128" name=""/>
            <p:cNvSpPr/>
            <p:nvPr/>
          </p:nvSpPr>
          <p:spPr>
            <a:xfrm>
              <a:off x="3206880" y="4502160"/>
              <a:ext cx="1358640" cy="16635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267080" y="4876920"/>
              <a:ext cx="838440" cy="380880"/>
            </a:xfrm>
            <a:prstGeom prst="line">
              <a:avLst/>
            </a:prstGeom>
            <a:ln w="12600">
              <a:solidFill>
                <a:srgbClr val="003e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18640" y="4510080"/>
              <a:ext cx="1608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MPquant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886200" y="3017880"/>
            <a:ext cx="2017080" cy="1096560"/>
            <a:chOff x="3886200" y="3017880"/>
            <a:chExt cx="2017080" cy="1096560"/>
          </a:xfrm>
        </p:grpSpPr>
        <p:sp>
          <p:nvSpPr>
            <p:cNvPr id="132" name=""/>
            <p:cNvSpPr/>
            <p:nvPr/>
          </p:nvSpPr>
          <p:spPr>
            <a:xfrm flipV="1">
              <a:off x="3886200" y="3352320"/>
              <a:ext cx="1447920" cy="762120"/>
            </a:xfrm>
            <a:prstGeom prst="line">
              <a:avLst/>
            </a:prstGeom>
            <a:ln w="12600">
              <a:solidFill>
                <a:srgbClr val="6e0043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69840" y="3017880"/>
              <a:ext cx="433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e0043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55480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Variação Mista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35" name=""/>
          <p:cNvSpPr/>
          <p:nvPr/>
        </p:nvSpPr>
        <p:spPr>
          <a:xfrm>
            <a:off x="1055520" y="3740040"/>
            <a:ext cx="3510000" cy="2425680"/>
          </a:xfrm>
          <a:prstGeom prst="rect">
            <a:avLst/>
          </a:prstGeom>
          <a:solidFill>
            <a:srgbClr val="e7ffe7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8680" y="3476520"/>
            <a:ext cx="68904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pc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57720" y="6219720"/>
            <a:ext cx="57636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49400" y="2895480"/>
            <a:ext cx="4286160" cy="3278160"/>
          </a:xfrm>
          <a:custGeom>
            <a:avLst/>
            <a:gdLst/>
            <a:ahLst/>
            <a:rect l="l" t="t" r="r" b="b"/>
            <a:pathLst>
              <a:path w="2700" h="2065">
                <a:moveTo>
                  <a:pt x="0" y="0"/>
                </a:moveTo>
                <a:lnTo>
                  <a:pt x="0" y="2064"/>
                </a:lnTo>
                <a:lnTo>
                  <a:pt x="2699" y="2064"/>
                </a:lnTo>
              </a:path>
            </a:pathLst>
          </a:custGeom>
          <a:noFill/>
          <a:ln cap="rnd" w="12600">
            <a:solidFill>
              <a:srgbClr val="003e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5520" y="2257560"/>
            <a:ext cx="124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Preço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23840" y="5915160"/>
            <a:ext cx="227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Quantidade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55520" y="4502160"/>
            <a:ext cx="2138400" cy="1663560"/>
          </a:xfrm>
          <a:prstGeom prst="rect">
            <a:avLst/>
          </a:prstGeom>
          <a:solidFill>
            <a:srgbClr val="e7ffe7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1200" y="4238640"/>
            <a:ext cx="7423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pc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2320" y="6219720"/>
            <a:ext cx="62964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6880" y="3740040"/>
            <a:ext cx="1358640" cy="749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28240" y="3013200"/>
            <a:ext cx="5104080" cy="643680"/>
          </a:xfrm>
          <a:prstGeom prst="rect">
            <a:avLst/>
          </a:prstGeom>
          <a:solidFill>
            <a:srgbClr val="feffe0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MP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mista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= (Q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- Q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). (pc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- pc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55520" y="3740040"/>
            <a:ext cx="3510000" cy="2425680"/>
          </a:xfrm>
          <a:prstGeom prst="rect">
            <a:avLst/>
          </a:prstGeom>
          <a:solidFill>
            <a:srgbClr val="e7ffe7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9960" y="3476520"/>
            <a:ext cx="68904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pc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57720" y="6219720"/>
            <a:ext cx="57636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49400" y="2895480"/>
            <a:ext cx="4286160" cy="3278160"/>
          </a:xfrm>
          <a:custGeom>
            <a:avLst/>
            <a:gdLst/>
            <a:ahLst/>
            <a:rect l="l" t="t" r="r" b="b"/>
            <a:pathLst>
              <a:path w="2700" h="2065">
                <a:moveTo>
                  <a:pt x="0" y="0"/>
                </a:moveTo>
                <a:lnTo>
                  <a:pt x="0" y="2064"/>
                </a:lnTo>
                <a:lnTo>
                  <a:pt x="2699" y="2064"/>
                </a:lnTo>
              </a:path>
            </a:pathLst>
          </a:custGeom>
          <a:noFill/>
          <a:ln cap="rnd" w="12600">
            <a:solidFill>
              <a:srgbClr val="003e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5520" y="2257560"/>
            <a:ext cx="124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Preço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23840" y="5915160"/>
            <a:ext cx="227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Quantidade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55520" y="4502160"/>
            <a:ext cx="2138400" cy="1663560"/>
          </a:xfrm>
          <a:prstGeom prst="rect">
            <a:avLst/>
          </a:prstGeom>
          <a:solidFill>
            <a:srgbClr val="e7ffe7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1200" y="4238640"/>
            <a:ext cx="7423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pc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12320" y="6219720"/>
            <a:ext cx="62964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3160" y="3740040"/>
            <a:ext cx="2120760" cy="749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55480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Variação de Preç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57" name=""/>
          <p:cNvSpPr/>
          <p:nvPr/>
        </p:nvSpPr>
        <p:spPr>
          <a:xfrm>
            <a:off x="4849200" y="3241800"/>
            <a:ext cx="4163400" cy="643680"/>
          </a:xfrm>
          <a:prstGeom prst="rect">
            <a:avLst/>
          </a:prstGeom>
          <a:solidFill>
            <a:srgbClr val="feffe0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MP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reço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= Q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. (pc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- pc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073160" y="2909880"/>
            <a:ext cx="3492360" cy="1579680"/>
            <a:chOff x="1073160" y="2909880"/>
            <a:chExt cx="3492360" cy="1579680"/>
          </a:xfrm>
        </p:grpSpPr>
        <p:sp>
          <p:nvSpPr>
            <p:cNvPr id="159" name=""/>
            <p:cNvSpPr/>
            <p:nvPr/>
          </p:nvSpPr>
          <p:spPr>
            <a:xfrm>
              <a:off x="2575440" y="2909880"/>
              <a:ext cx="1608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MPpreço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73160" y="3740040"/>
              <a:ext cx="3492360" cy="7495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981080" y="3276360"/>
              <a:ext cx="381240" cy="685800"/>
            </a:xfrm>
            <a:prstGeom prst="line">
              <a:avLst/>
            </a:prstGeom>
            <a:ln w="12600">
              <a:solidFill>
                <a:srgbClr val="003e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6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55520" y="3740040"/>
            <a:ext cx="3510000" cy="2425680"/>
          </a:xfrm>
          <a:prstGeom prst="rect">
            <a:avLst/>
          </a:prstGeom>
          <a:solidFill>
            <a:srgbClr val="e7ffe7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073160" y="2562120"/>
            <a:ext cx="3492360" cy="1927440"/>
            <a:chOff x="1073160" y="2562120"/>
            <a:chExt cx="3492360" cy="1927440"/>
          </a:xfrm>
        </p:grpSpPr>
        <p:sp>
          <p:nvSpPr>
            <p:cNvPr id="164" name=""/>
            <p:cNvSpPr/>
            <p:nvPr/>
          </p:nvSpPr>
          <p:spPr>
            <a:xfrm>
              <a:off x="1073160" y="3740040"/>
              <a:ext cx="3492360" cy="7495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91000" y="2562120"/>
              <a:ext cx="137916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Arial"/>
                </a:rPr>
                <a:t>MP</a:t>
              </a:r>
              <a:r>
                <a:rPr b="0" lang="en-US" sz="3200" spc="-1" strike="noStrike" baseline="-25000">
                  <a:solidFill>
                    <a:srgbClr val="081d58"/>
                  </a:solidFill>
                  <a:latin typeface="Arial"/>
                </a:rPr>
                <a:t>preço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827440" y="3195360"/>
              <a:ext cx="366480" cy="84924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055520" y="4502160"/>
            <a:ext cx="2138400" cy="1663560"/>
          </a:xfrm>
          <a:prstGeom prst="rect">
            <a:avLst/>
          </a:prstGeom>
          <a:solidFill>
            <a:srgbClr val="e7ffe7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31200" y="2257560"/>
            <a:ext cx="7472520" cy="4605840"/>
            <a:chOff x="331200" y="2257560"/>
            <a:chExt cx="7472520" cy="4605840"/>
          </a:xfrm>
        </p:grpSpPr>
        <p:sp>
          <p:nvSpPr>
            <p:cNvPr id="169" name=""/>
            <p:cNvSpPr/>
            <p:nvPr/>
          </p:nvSpPr>
          <p:spPr>
            <a:xfrm>
              <a:off x="399960" y="3476520"/>
              <a:ext cx="6890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pc</a:t>
              </a:r>
              <a:r>
                <a:rPr b="0" lang="en-US" sz="3200" spc="-1" strike="noStrike" baseline="-25000">
                  <a:solidFill>
                    <a:srgbClr val="003e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57720" y="6219720"/>
              <a:ext cx="57636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Q</a:t>
              </a:r>
              <a:r>
                <a:rPr b="0" lang="en-US" sz="3200" spc="-1" strike="noStrike" baseline="-25000">
                  <a:solidFill>
                    <a:srgbClr val="003e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49400" y="2895480"/>
              <a:ext cx="4286160" cy="3278160"/>
            </a:xfrm>
            <a:custGeom>
              <a:avLst/>
              <a:gdLst/>
              <a:ahLst/>
              <a:rect l="l" t="t" r="r" b="b"/>
              <a:pathLst>
                <a:path w="2700" h="2065">
                  <a:moveTo>
                    <a:pt x="0" y="0"/>
                  </a:moveTo>
                  <a:lnTo>
                    <a:pt x="0" y="2064"/>
                  </a:lnTo>
                  <a:lnTo>
                    <a:pt x="2699" y="2064"/>
                  </a:lnTo>
                </a:path>
              </a:pathLst>
            </a:custGeom>
            <a:noFill/>
            <a:ln cap="rnd" w="12600">
              <a:solidFill>
                <a:srgbClr val="003e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5520" y="2257560"/>
              <a:ext cx="1243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Preço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23840" y="5915160"/>
              <a:ext cx="2279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Quantidade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1200" y="4238640"/>
              <a:ext cx="7423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pc</a:t>
              </a:r>
              <a:r>
                <a:rPr b="0" lang="en-US" sz="3200" spc="-1" strike="noStrike" baseline="-25000">
                  <a:solidFill>
                    <a:srgbClr val="003e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12320" y="6219720"/>
              <a:ext cx="6296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Q</a:t>
              </a:r>
              <a:r>
                <a:rPr b="0" lang="en-US" sz="3200" spc="-1" strike="noStrike" baseline="-25000">
                  <a:solidFill>
                    <a:srgbClr val="003e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206880" y="4502160"/>
            <a:ext cx="3911760" cy="1663560"/>
            <a:chOff x="3206880" y="4502160"/>
            <a:chExt cx="3911760" cy="1663560"/>
          </a:xfrm>
        </p:grpSpPr>
        <p:sp>
          <p:nvSpPr>
            <p:cNvPr id="177" name=""/>
            <p:cNvSpPr/>
            <p:nvPr/>
          </p:nvSpPr>
          <p:spPr>
            <a:xfrm>
              <a:off x="3206880" y="4502160"/>
              <a:ext cx="1358640" cy="16635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38040" y="4619520"/>
              <a:ext cx="138060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Arial"/>
                </a:rPr>
                <a:t>MP</a:t>
              </a:r>
              <a:r>
                <a:rPr b="0" lang="en-US" sz="3200" spc="-1" strike="noStrike" baseline="-25000">
                  <a:solidFill>
                    <a:srgbClr val="081d58"/>
                  </a:solidFill>
                  <a:latin typeface="Arial"/>
                </a:rPr>
                <a:t>quant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4046400" y="5100480"/>
              <a:ext cx="1586160" cy="23976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55480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Variações de Matéria-Prima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</p:spTree>
  </p:cSld>
  <p:transition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Exercíci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2819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A empresa </a:t>
            </a:r>
            <a:r>
              <a:rPr b="0" i="1" lang="en-US" sz="3200" spc="-1" strike="noStrike">
                <a:solidFill>
                  <a:srgbClr val="003e00"/>
                </a:solidFill>
                <a:latin typeface="Arial"/>
              </a:rPr>
              <a:t>Matéria Ltda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estabeleceu os seguintes padrões para matéria-prima e mão-de-obra direta: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MP: 2 m/un a $4/m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MOD: 1,5 horas/un a $5/h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Exercíci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5800" y="2819160"/>
            <a:ext cx="87692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A produção do período foi </a:t>
            </a: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100.000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unidades. Para isso, foram utilizados </a:t>
            </a: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220.000 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m de MP e </a:t>
            </a: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160.000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horas de MOD. O custo de MOD foi $</a:t>
            </a: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784.000,00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Durante o período, foram comprados </a:t>
            </a: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100.000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m de MP, ao custo total de $</a:t>
            </a: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405.000,00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Exercíci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5800" y="2819160"/>
            <a:ext cx="87692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Pede-se: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Determinar as variações de MP.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Determinar as variações de MOD.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Exercíci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5800" y="2819160"/>
            <a:ext cx="87692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A empresa X fabrica dois produtos (A e B) e usa o método do custo-padrão para controlar seus custos de MP. Na fabricação do produto A, é usada 1 unidade de MP, enquanto que na fabricação do produto B despendem-se 2 unidades de MP. O custo padrão da MP é $20/un.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Exercíci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5800" y="2819160"/>
            <a:ext cx="87692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Em um período, a empresa fabricou 200 produtos A e 300 produtos B. Neste período, foram compradas 900 unidades de MP, a um custo total de $19.800,00 e foram utilizadas 820 unidades de MP. 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  <a:p>
            <a:pPr marL="343080" indent="-34308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Determinar as variações de MP.</a:t>
            </a:r>
            <a:endParaRPr b="0" lang="en-US" sz="32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24120" y="3200400"/>
            <a:ext cx="404028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81d58"/>
                </a:solidFill>
                <a:latin typeface="Brush Script MT"/>
              </a:rPr>
              <a:t>Custo padrão</a:t>
            </a:r>
            <a:endParaRPr b="0" lang="en-US" sz="4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762200" y="4659480"/>
            <a:ext cx="4814640" cy="954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marL="328680" indent="-328680" algn="ctr">
              <a:spcBef>
                <a:spcPts val="2251"/>
              </a:spcBef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i="1" lang="en-US" sz="3600" spc="-1" strike="noStrike">
                <a:solidFill>
                  <a:srgbClr val="081d58"/>
                </a:solidFill>
                <a:latin typeface="Arial"/>
              </a:rPr>
              <a:t>Custos para controle</a:t>
            </a:r>
            <a:endParaRPr b="0" lang="en-US" sz="3600" spc="-1" strike="noStrike">
              <a:solidFill>
                <a:srgbClr val="003e00"/>
              </a:solidFill>
              <a:latin typeface="Arial"/>
            </a:endParaRPr>
          </a:p>
          <a:p>
            <a:pPr marL="328680" indent="-328680" algn="ctr">
              <a:spcBef>
                <a:spcPts val="2251"/>
              </a:spcBef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600" spc="-1" strike="noStrike">
              <a:solidFill>
                <a:srgbClr val="003e00"/>
              </a:solidFill>
              <a:latin typeface="Arial"/>
            </a:endParaRPr>
          </a:p>
          <a:p>
            <a:pPr marL="328680" indent="-328680" algn="ctr">
              <a:spcBef>
                <a:spcPts val="2251"/>
              </a:spcBef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6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Controle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3360" y="1752480"/>
            <a:ext cx="7549920" cy="4572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4000"/>
          </a:bodyPr>
          <a:p>
            <a:pPr marL="308880" indent="0">
              <a:spcBef>
                <a:spcPts val="1939"/>
              </a:spcBef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279f"/>
                </a:solidFill>
                <a:latin typeface="Arial"/>
              </a:rPr>
              <a:t>No que consiste o controle?</a:t>
            </a:r>
            <a:endParaRPr b="0" lang="en-US" sz="3100" spc="-1" strike="noStrike">
              <a:solidFill>
                <a:srgbClr val="003e00"/>
              </a:solidFill>
              <a:latin typeface="Arial"/>
            </a:endParaRPr>
          </a:p>
          <a:p>
            <a:pPr marL="308880" indent="-308880" algn="just">
              <a:spcBef>
                <a:spcPts val="2713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3e00"/>
                </a:solidFill>
                <a:latin typeface="Arial"/>
              </a:rPr>
              <a:t>Fixar um referencial.</a:t>
            </a:r>
            <a:endParaRPr b="0" lang="en-US" sz="3100" spc="-1" strike="noStrike">
              <a:solidFill>
                <a:srgbClr val="003e00"/>
              </a:solidFill>
              <a:latin typeface="Arial"/>
            </a:endParaRPr>
          </a:p>
          <a:p>
            <a:pPr marL="308880" indent="-308880" algn="just">
              <a:spcBef>
                <a:spcPts val="2713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3e00"/>
                </a:solidFill>
                <a:latin typeface="Arial"/>
              </a:rPr>
              <a:t>Conhecer a realidade.</a:t>
            </a:r>
            <a:endParaRPr b="0" lang="en-US" sz="3100" spc="-1" strike="noStrike">
              <a:solidFill>
                <a:srgbClr val="003e00"/>
              </a:solidFill>
              <a:latin typeface="Arial"/>
            </a:endParaRPr>
          </a:p>
          <a:p>
            <a:pPr marL="308880" indent="-308880" algn="just">
              <a:spcBef>
                <a:spcPts val="193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3e00"/>
                </a:solidFill>
                <a:latin typeface="Arial"/>
              </a:rPr>
              <a:t>Compará-la com o padrão, obtendo </a:t>
            </a:r>
            <a:r>
              <a:rPr b="0" lang="en-US" sz="3100" spc="-1" strike="noStrike">
                <a:solidFill>
                  <a:srgbClr val="6e0043"/>
                </a:solidFill>
                <a:latin typeface="Arial"/>
              </a:rPr>
              <a:t>rapidamente</a:t>
            </a:r>
            <a:r>
              <a:rPr b="0" lang="en-US" sz="3100" spc="-1" strike="noStrike">
                <a:solidFill>
                  <a:srgbClr val="003e00"/>
                </a:solidFill>
                <a:latin typeface="Arial"/>
              </a:rPr>
              <a:t> os desvios.</a:t>
            </a:r>
            <a:endParaRPr b="0" lang="en-US" sz="3100" spc="-1" strike="noStrike">
              <a:solidFill>
                <a:srgbClr val="003e00"/>
              </a:solidFill>
              <a:latin typeface="Arial"/>
            </a:endParaRPr>
          </a:p>
          <a:p>
            <a:pPr marL="308880" indent="-308880" algn="just">
              <a:spcBef>
                <a:spcPts val="193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3e00"/>
                </a:solidFill>
                <a:latin typeface="Arial"/>
              </a:rPr>
              <a:t>Determinar </a:t>
            </a:r>
            <a:r>
              <a:rPr b="0" lang="en-US" sz="3100" spc="-1" strike="noStrike">
                <a:solidFill>
                  <a:srgbClr val="6e0043"/>
                </a:solidFill>
                <a:latin typeface="Arial"/>
              </a:rPr>
              <a:t>prontamente</a:t>
            </a:r>
            <a:r>
              <a:rPr b="0" lang="en-US" sz="3100" spc="-1" strike="noStrike">
                <a:solidFill>
                  <a:srgbClr val="003e00"/>
                </a:solidFill>
                <a:latin typeface="Arial"/>
              </a:rPr>
              <a:t> as causas.</a:t>
            </a:r>
            <a:endParaRPr b="0" lang="en-US" sz="3100" spc="-1" strike="noStrike">
              <a:solidFill>
                <a:srgbClr val="003e00"/>
              </a:solidFill>
              <a:latin typeface="Arial"/>
            </a:endParaRPr>
          </a:p>
          <a:p>
            <a:pPr marL="308880" indent="-308880" algn="just">
              <a:spcBef>
                <a:spcPts val="193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6e0043"/>
                </a:solidFill>
                <a:latin typeface="Arial"/>
              </a:rPr>
              <a:t>Rápida</a:t>
            </a:r>
            <a:r>
              <a:rPr b="0" lang="en-US" sz="3100" spc="-1" strike="noStrike">
                <a:solidFill>
                  <a:srgbClr val="003e00"/>
                </a:solidFill>
                <a:latin typeface="Arial"/>
              </a:rPr>
              <a:t> ação corretiva.</a:t>
            </a:r>
            <a:endParaRPr b="0" lang="en-US" sz="31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Custo Padrã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24379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4000"/>
          </a:bodyPr>
          <a:p>
            <a:pPr marL="308880" indent="0">
              <a:spcBef>
                <a:spcPts val="1939"/>
              </a:spcBef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279f"/>
                </a:solidFill>
                <a:latin typeface="Arial"/>
              </a:rPr>
              <a:t>O método do custo padrão vai:</a:t>
            </a:r>
            <a:endParaRPr b="0" lang="en-US" sz="3100" spc="-1" strike="noStrike">
              <a:solidFill>
                <a:srgbClr val="003e00"/>
              </a:solidFill>
              <a:latin typeface="Arial"/>
            </a:endParaRPr>
          </a:p>
          <a:p>
            <a:pPr marL="308880" indent="-308880" algn="just">
              <a:spcBef>
                <a:spcPts val="2713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3e00"/>
                </a:solidFill>
                <a:latin typeface="Arial"/>
              </a:rPr>
              <a:t>Fixar um custo padrão.</a:t>
            </a:r>
            <a:endParaRPr b="0" lang="en-US" sz="3100" spc="-1" strike="noStrike">
              <a:solidFill>
                <a:srgbClr val="003e00"/>
              </a:solidFill>
              <a:latin typeface="Arial"/>
            </a:endParaRPr>
          </a:p>
          <a:p>
            <a:pPr marL="308880" indent="-308880" algn="just">
              <a:spcBef>
                <a:spcPts val="2713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3e00"/>
                </a:solidFill>
                <a:latin typeface="Arial"/>
              </a:rPr>
              <a:t>Determinar o custo real.</a:t>
            </a:r>
            <a:endParaRPr b="0" lang="en-US" sz="3100" spc="-1" strike="noStrike">
              <a:solidFill>
                <a:srgbClr val="003e00"/>
              </a:solidFill>
              <a:latin typeface="Arial"/>
            </a:endParaRPr>
          </a:p>
          <a:p>
            <a:pPr marL="308880" indent="-308880" algn="just">
              <a:spcBef>
                <a:spcPts val="193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3e00"/>
                </a:solidFill>
                <a:latin typeface="Arial"/>
              </a:rPr>
              <a:t>Levantar a variação (desvio).</a:t>
            </a:r>
            <a:endParaRPr b="0" lang="en-US" sz="3100" spc="-1" strike="noStrike">
              <a:solidFill>
                <a:srgbClr val="003e00"/>
              </a:solidFill>
              <a:latin typeface="Arial"/>
            </a:endParaRPr>
          </a:p>
          <a:p>
            <a:pPr marL="308880" indent="-308880" algn="just">
              <a:spcBef>
                <a:spcPts val="193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3e00"/>
                </a:solidFill>
                <a:latin typeface="Arial"/>
              </a:rPr>
              <a:t>Analisar a variação, auxiliando na procura pelas causas.</a:t>
            </a:r>
            <a:endParaRPr b="0" lang="en-US" sz="3100" spc="-1" strike="noStrike">
              <a:solidFill>
                <a:srgbClr val="003e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Padrão de Matéria-Prima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51" name=""/>
          <p:cNvSpPr/>
          <p:nvPr/>
        </p:nvSpPr>
        <p:spPr>
          <a:xfrm>
            <a:off x="5543280" y="3927600"/>
            <a:ext cx="2732400" cy="643680"/>
          </a:xfrm>
          <a:prstGeom prst="rect">
            <a:avLst/>
          </a:prstGeom>
          <a:solidFill>
            <a:srgbClr val="feffe0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MP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= pc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. Q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49400" y="3200400"/>
            <a:ext cx="4286160" cy="2973240"/>
          </a:xfrm>
          <a:custGeom>
            <a:avLst/>
            <a:gdLst/>
            <a:ahLst/>
            <a:rect l="l" t="t" r="r" b="b"/>
            <a:pathLst>
              <a:path w="2700" h="1873">
                <a:moveTo>
                  <a:pt x="0" y="0"/>
                </a:moveTo>
                <a:lnTo>
                  <a:pt x="0" y="1872"/>
                </a:lnTo>
                <a:lnTo>
                  <a:pt x="2699" y="1872"/>
                </a:lnTo>
              </a:path>
            </a:pathLst>
          </a:custGeom>
          <a:noFill/>
          <a:ln cap="rnd" w="12600">
            <a:solidFill>
              <a:srgbClr val="003e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26000" y="5915160"/>
            <a:ext cx="227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Quantidade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6240" y="2638440"/>
            <a:ext cx="124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Preço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12320" y="6219720"/>
            <a:ext cx="62964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1200" y="4238640"/>
            <a:ext cx="7423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pc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55520" y="4502160"/>
            <a:ext cx="2138400" cy="1663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Custos Reais</a:t>
            </a:r>
            <a:br>
              <a:rPr sz="4400"/>
            </a:b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de MP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59" name=""/>
          <p:cNvSpPr/>
          <p:nvPr/>
        </p:nvSpPr>
        <p:spPr>
          <a:xfrm>
            <a:off x="5839920" y="4079880"/>
            <a:ext cx="2572560" cy="643680"/>
          </a:xfrm>
          <a:prstGeom prst="rect">
            <a:avLst/>
          </a:prstGeom>
          <a:solidFill>
            <a:srgbClr val="feffe0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MP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= pc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. Q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06240" y="2257560"/>
            <a:ext cx="7199640" cy="4233960"/>
            <a:chOff x="606240" y="2257560"/>
            <a:chExt cx="7199640" cy="4233960"/>
          </a:xfrm>
        </p:grpSpPr>
        <p:sp>
          <p:nvSpPr>
            <p:cNvPr id="61" name=""/>
            <p:cNvSpPr/>
            <p:nvPr/>
          </p:nvSpPr>
          <p:spPr>
            <a:xfrm>
              <a:off x="1049400" y="2971800"/>
              <a:ext cx="4286160" cy="3201840"/>
            </a:xfrm>
            <a:custGeom>
              <a:avLst/>
              <a:gdLst/>
              <a:ahLst/>
              <a:rect l="l" t="t" r="r" b="b"/>
              <a:pathLst>
                <a:path w="2700" h="2017">
                  <a:moveTo>
                    <a:pt x="0" y="0"/>
                  </a:moveTo>
                  <a:lnTo>
                    <a:pt x="0" y="2016"/>
                  </a:lnTo>
                  <a:lnTo>
                    <a:pt x="2699" y="2016"/>
                  </a:lnTo>
                </a:path>
              </a:pathLst>
            </a:custGeom>
            <a:noFill/>
            <a:ln cap="rnd" w="12600">
              <a:solidFill>
                <a:srgbClr val="003e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6240" y="2257560"/>
              <a:ext cx="1243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Preço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526000" y="5915160"/>
              <a:ext cx="2279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Quantidade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99960" y="3476520"/>
            <a:ext cx="4454640" cy="3386880"/>
            <a:chOff x="399960" y="3476520"/>
            <a:chExt cx="4454640" cy="3386880"/>
          </a:xfrm>
        </p:grpSpPr>
        <p:sp>
          <p:nvSpPr>
            <p:cNvPr id="65" name=""/>
            <p:cNvSpPr/>
            <p:nvPr/>
          </p:nvSpPr>
          <p:spPr>
            <a:xfrm>
              <a:off x="399960" y="3476520"/>
              <a:ext cx="6890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pc</a:t>
              </a:r>
              <a:r>
                <a:rPr b="0" lang="en-US" sz="3200" spc="-1" strike="noStrike" baseline="-25000">
                  <a:solidFill>
                    <a:srgbClr val="003e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278240" y="6219720"/>
              <a:ext cx="57636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Q</a:t>
              </a:r>
              <a:r>
                <a:rPr b="0" lang="en-US" sz="3200" spc="-1" strike="noStrike" baseline="-25000">
                  <a:solidFill>
                    <a:srgbClr val="003e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1055520" y="3740040"/>
            <a:ext cx="3510000" cy="2425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Variação de Matéria-Prima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69" name=""/>
          <p:cNvSpPr/>
          <p:nvPr/>
        </p:nvSpPr>
        <p:spPr>
          <a:xfrm>
            <a:off x="5709960" y="4232160"/>
            <a:ext cx="3057480" cy="643680"/>
          </a:xfrm>
          <a:prstGeom prst="rect">
            <a:avLst/>
          </a:prstGeom>
          <a:solidFill>
            <a:srgbClr val="feffe0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MP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= MP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- MP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06240" y="2257560"/>
            <a:ext cx="7199640" cy="4233960"/>
            <a:chOff x="606240" y="2257560"/>
            <a:chExt cx="7199640" cy="4233960"/>
          </a:xfrm>
        </p:grpSpPr>
        <p:sp>
          <p:nvSpPr>
            <p:cNvPr id="71" name=""/>
            <p:cNvSpPr/>
            <p:nvPr/>
          </p:nvSpPr>
          <p:spPr>
            <a:xfrm>
              <a:off x="1049400" y="2895480"/>
              <a:ext cx="4286160" cy="3278160"/>
            </a:xfrm>
            <a:custGeom>
              <a:avLst/>
              <a:gdLst/>
              <a:ahLst/>
              <a:rect l="l" t="t" r="r" b="b"/>
              <a:pathLst>
                <a:path w="2700" h="2065">
                  <a:moveTo>
                    <a:pt x="0" y="0"/>
                  </a:moveTo>
                  <a:lnTo>
                    <a:pt x="0" y="2064"/>
                  </a:lnTo>
                  <a:lnTo>
                    <a:pt x="2699" y="2064"/>
                  </a:lnTo>
                </a:path>
              </a:pathLst>
            </a:custGeom>
            <a:noFill/>
            <a:ln cap="rnd" w="12600">
              <a:solidFill>
                <a:srgbClr val="003e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6240" y="2257560"/>
              <a:ext cx="1243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Preço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26000" y="5915160"/>
              <a:ext cx="2279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Quantidade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59640" y="3476520"/>
            <a:ext cx="4568040" cy="3386880"/>
            <a:chOff x="359640" y="3476520"/>
            <a:chExt cx="4568040" cy="3386880"/>
          </a:xfrm>
        </p:grpSpPr>
        <p:sp>
          <p:nvSpPr>
            <p:cNvPr id="75" name=""/>
            <p:cNvSpPr/>
            <p:nvPr/>
          </p:nvSpPr>
          <p:spPr>
            <a:xfrm>
              <a:off x="399960" y="3476520"/>
              <a:ext cx="6890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pc</a:t>
              </a:r>
              <a:r>
                <a:rPr b="0" lang="en-US" sz="3200" spc="-1" strike="noStrike" baseline="-25000">
                  <a:solidFill>
                    <a:srgbClr val="003e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351320" y="6219720"/>
              <a:ext cx="57636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Q</a:t>
              </a:r>
              <a:r>
                <a:rPr b="0" lang="en-US" sz="3200" spc="-1" strike="noStrike" baseline="-25000">
                  <a:solidFill>
                    <a:srgbClr val="003e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9640" y="4238640"/>
              <a:ext cx="7423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pc</a:t>
              </a:r>
              <a:r>
                <a:rPr b="0" lang="en-US" sz="3200" spc="-1" strike="noStrike" baseline="-25000">
                  <a:solidFill>
                    <a:srgbClr val="003e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84040" y="6219720"/>
              <a:ext cx="6296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Q</a:t>
              </a:r>
              <a:r>
                <a:rPr b="0" lang="en-US" sz="3200" spc="-1" strike="noStrike" baseline="-25000">
                  <a:solidFill>
                    <a:srgbClr val="003e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1055520" y="3740040"/>
            <a:ext cx="3510000" cy="2425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55520" y="4502160"/>
            <a:ext cx="2138400" cy="1663560"/>
          </a:xfrm>
          <a:prstGeom prst="rect">
            <a:avLst/>
          </a:prstGeom>
          <a:solidFill>
            <a:srgbClr val="e7ffe7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55480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Variação de Preç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31200" y="2257560"/>
            <a:ext cx="7472520" cy="4605840"/>
            <a:chOff x="331200" y="2257560"/>
            <a:chExt cx="7472520" cy="4605840"/>
          </a:xfrm>
        </p:grpSpPr>
        <p:sp>
          <p:nvSpPr>
            <p:cNvPr id="83" name=""/>
            <p:cNvSpPr/>
            <p:nvPr/>
          </p:nvSpPr>
          <p:spPr>
            <a:xfrm>
              <a:off x="399960" y="3476520"/>
              <a:ext cx="6890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pc</a:t>
              </a:r>
              <a:r>
                <a:rPr b="0" lang="en-US" sz="3200" spc="-1" strike="noStrike" baseline="-25000">
                  <a:solidFill>
                    <a:srgbClr val="003e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257720" y="6219720"/>
              <a:ext cx="57636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Q</a:t>
              </a:r>
              <a:r>
                <a:rPr b="0" lang="en-US" sz="3200" spc="-1" strike="noStrike" baseline="-25000">
                  <a:solidFill>
                    <a:srgbClr val="003e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049400" y="2895480"/>
              <a:ext cx="4286160" cy="3278160"/>
            </a:xfrm>
            <a:custGeom>
              <a:avLst/>
              <a:gdLst/>
              <a:ahLst/>
              <a:rect l="l" t="t" r="r" b="b"/>
              <a:pathLst>
                <a:path w="2700" h="2065">
                  <a:moveTo>
                    <a:pt x="0" y="0"/>
                  </a:moveTo>
                  <a:lnTo>
                    <a:pt x="0" y="2064"/>
                  </a:lnTo>
                  <a:lnTo>
                    <a:pt x="2699" y="2064"/>
                  </a:lnTo>
                </a:path>
              </a:pathLst>
            </a:custGeom>
            <a:noFill/>
            <a:ln cap="rnd" w="12600">
              <a:solidFill>
                <a:srgbClr val="003e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6240" y="2257560"/>
              <a:ext cx="1243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Preço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23840" y="5915160"/>
              <a:ext cx="2279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Quantidade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1200" y="4238640"/>
              <a:ext cx="74232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pc</a:t>
              </a:r>
              <a:r>
                <a:rPr b="0" lang="en-US" sz="3200" spc="-1" strike="noStrike" baseline="-25000">
                  <a:solidFill>
                    <a:srgbClr val="003e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12320" y="6219720"/>
              <a:ext cx="6296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Q</a:t>
              </a:r>
              <a:r>
                <a:rPr b="0" lang="en-US" sz="3200" spc="-1" strike="noStrike" baseline="-25000">
                  <a:solidFill>
                    <a:srgbClr val="003e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055520" y="3740040"/>
            <a:ext cx="3510000" cy="2425680"/>
          </a:xfrm>
          <a:prstGeom prst="rect">
            <a:avLst/>
          </a:prstGeom>
          <a:solidFill>
            <a:srgbClr val="e7ffe7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55520" y="4502160"/>
            <a:ext cx="2138400" cy="1663560"/>
          </a:xfrm>
          <a:prstGeom prst="rect">
            <a:avLst/>
          </a:prstGeom>
          <a:solidFill>
            <a:srgbClr val="e7ffe7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73160" y="3740040"/>
            <a:ext cx="2120760" cy="749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15360" y="3241800"/>
            <a:ext cx="4216680" cy="643680"/>
          </a:xfrm>
          <a:prstGeom prst="rect">
            <a:avLst/>
          </a:prstGeom>
          <a:solidFill>
            <a:srgbClr val="feffe0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MP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reço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= Q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. (pc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- pc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9840" y="533520"/>
            <a:ext cx="578340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Variação de Quantidade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95" name=""/>
          <p:cNvSpPr/>
          <p:nvPr/>
        </p:nvSpPr>
        <p:spPr>
          <a:xfrm>
            <a:off x="3798720" y="3048120"/>
            <a:ext cx="632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98720" y="3657600"/>
            <a:ext cx="6321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9960" y="3476520"/>
            <a:ext cx="68904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pc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57720" y="6219720"/>
            <a:ext cx="57636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49400" y="2895480"/>
            <a:ext cx="4286160" cy="3278160"/>
          </a:xfrm>
          <a:custGeom>
            <a:avLst/>
            <a:gdLst/>
            <a:ahLst/>
            <a:rect l="l" t="t" r="r" b="b"/>
            <a:pathLst>
              <a:path w="2700" h="2065">
                <a:moveTo>
                  <a:pt x="0" y="0"/>
                </a:moveTo>
                <a:lnTo>
                  <a:pt x="0" y="2064"/>
                </a:lnTo>
                <a:lnTo>
                  <a:pt x="2699" y="2064"/>
                </a:lnTo>
              </a:path>
            </a:pathLst>
          </a:custGeom>
          <a:noFill/>
          <a:ln cap="rnd" w="12600">
            <a:solidFill>
              <a:srgbClr val="003e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6240" y="2257560"/>
            <a:ext cx="124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Preço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23840" y="5915160"/>
            <a:ext cx="227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Quantidade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1200" y="4238640"/>
            <a:ext cx="7423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pc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2320" y="6219720"/>
            <a:ext cx="62964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55520" y="3740040"/>
            <a:ext cx="3510000" cy="2425680"/>
          </a:xfrm>
          <a:prstGeom prst="rect">
            <a:avLst/>
          </a:prstGeom>
          <a:solidFill>
            <a:srgbClr val="e7ffe7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55520" y="4502160"/>
            <a:ext cx="2138400" cy="1663560"/>
          </a:xfrm>
          <a:prstGeom prst="rect">
            <a:avLst/>
          </a:prstGeom>
          <a:solidFill>
            <a:srgbClr val="e7ffe7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6880" y="4502160"/>
            <a:ext cx="1358640" cy="1663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03920" y="3241800"/>
            <a:ext cx="4232160" cy="643680"/>
          </a:xfrm>
          <a:prstGeom prst="rect">
            <a:avLst/>
          </a:prstGeom>
          <a:solidFill>
            <a:srgbClr val="feffe0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MP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quant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= pc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. (Q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- Q</a:t>
            </a:r>
            <a:r>
              <a:rPr b="0" lang="en-US" sz="3200" spc="-1" strike="noStrike" baseline="-25000">
                <a:solidFill>
                  <a:srgbClr val="003e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8T06:46:00Z</dcterms:created>
  <dc:creator>Adrian C. Ferreira</dc:creator>
  <dc:description/>
  <cp:keywords/>
  <dc:language>en-US</dc:language>
  <cp:lastModifiedBy>Rafael</cp:lastModifiedBy>
  <cp:lastPrinted>1997-08-14T21:52:50Z</cp:lastPrinted>
  <dcterms:modified xsi:type="dcterms:W3CDTF">2009-03-06T01:01:23Z</dcterms:modified>
  <cp:revision>18529</cp:revision>
  <dc:subject/>
  <dc:title>CUSTEIO BASEADO EM ATIVIDADES</dc:title>
</cp:coreProperties>
</file>