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C93-CD7A-4912-BB47-39185CC1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A80-B429-492F-9F7E-E3906BA2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A85-C45D-4E6D-8D5A-10140424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9C4-D04A-4889-8F81-6EB44855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EA6-5CE9-4991-90F7-D91314FC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758-56FF-4C1A-8A98-12CFE459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E84-AC9F-4F31-AB79-ECC28A2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875-38E5-4215-B452-F11A3351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21B-BB5B-4750-A626-C9A60097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21D-68B7-435A-832C-05EAD6C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9AF-F050-4300-B85A-A973EE9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B1F-0E25-4206-BD37-9C0ECB8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BE61DD-7519-4F00-845B-DE0AF7AF1DF3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3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46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8" name=""/>
          <p:cNvSpPr/>
          <p:nvPr/>
        </p:nvSpPr>
        <p:spPr>
          <a:xfrm>
            <a:off x="1312920" y="420696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95360" y="3368520"/>
            <a:ext cx="3425760" cy="180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380000">
            <a:off x="1882800" y="341424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4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8440" y="4282920"/>
            <a:ext cx="0" cy="885960"/>
          </a:xfrm>
          <a:prstGeom prst="line">
            <a:avLst/>
          </a:prstGeom>
          <a:ln w="1260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379520" y="3368520"/>
            <a:ext cx="3611520" cy="1800360"/>
          </a:xfrm>
          <a:prstGeom prst="line">
            <a:avLst/>
          </a:prstGeom>
          <a:ln w="12600">
            <a:solidFill>
              <a:srgbClr val="00279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134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312920" y="33685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81640" y="38718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</a:rPr>
              <a:t>$40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0280000">
            <a:off x="3635640" y="34146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78440" y="3265200"/>
            <a:ext cx="0" cy="55548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143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00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515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882720" y="37958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0</a:t>
            </a:r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8400" y="403236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8960" y="1606680"/>
            <a:ext cx="5542200" cy="1739880"/>
          </a:xfrm>
          <a:prstGeom prst="rect">
            <a:avLst/>
          </a:prstGeom>
          <a:solidFill>
            <a:srgbClr val="fcfeb9"/>
          </a:solidFill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82960" y="1616040"/>
            <a:ext cx="0" cy="1724040"/>
          </a:xfrm>
          <a:prstGeom prst="line">
            <a:avLst/>
          </a:prstGeom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7160" y="17240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7240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6400" y="1724040"/>
            <a:ext cx="47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2632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$ 5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2912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e0043"/>
                </a:solidFill>
                <a:latin typeface="Arial"/>
              </a:rPr>
              <a:t>$ 3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360" y="2508120"/>
            <a:ext cx="16628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$ 2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87720" y="1616040"/>
            <a:ext cx="0" cy="1724040"/>
          </a:xfrm>
          <a:prstGeom prst="line">
            <a:avLst/>
          </a:prstGeom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Centro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Arial"/>
              </a:rPr>
              <a:t>Centros diretos</a:t>
            </a: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: envolvem-se com os produtos. Há como encontrar “boas” bases de distribuiçã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Arial"/>
              </a:rPr>
              <a:t>Centros indiretos</a:t>
            </a:r>
            <a:r>
              <a:rPr b="0" lang="pt-BR" sz="3200" spc="-1" strike="noStrike">
                <a:solidFill>
                  <a:srgbClr val="003f00"/>
                </a:solidFill>
                <a:latin typeface="Arial"/>
              </a:rPr>
              <a:t>: não se envolvem com os produtos. Prestam apoio a outros centros. Seus custos não podem ser “bem” distribuídos aos produtos, mas sim a outros centr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3000" y="1835280"/>
            <a:ext cx="5465520" cy="1739880"/>
            <a:chOff x="243000" y="1835280"/>
            <a:chExt cx="5465520" cy="1739880"/>
          </a:xfrm>
        </p:grpSpPr>
        <p:sp>
          <p:nvSpPr>
            <p:cNvPr id="164" name=""/>
            <p:cNvSpPr/>
            <p:nvPr/>
          </p:nvSpPr>
          <p:spPr>
            <a:xfrm>
              <a:off x="243000" y="1835280"/>
              <a:ext cx="546552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3840" y="202896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Empres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81160" y="2660760"/>
              <a:ext cx="3598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Custos = $ 1.0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46520" y="3889440"/>
            <a:ext cx="3896640" cy="687240"/>
            <a:chOff x="2846520" y="3889440"/>
            <a:chExt cx="3896640" cy="687240"/>
          </a:xfrm>
        </p:grpSpPr>
        <p:sp>
          <p:nvSpPr>
            <p:cNvPr id="168" name=""/>
            <p:cNvSpPr/>
            <p:nvPr/>
          </p:nvSpPr>
          <p:spPr>
            <a:xfrm>
              <a:off x="2846520" y="3889440"/>
              <a:ext cx="1440" cy="687240"/>
            </a:xfrm>
            <a:prstGeom prst="line">
              <a:avLst/>
            </a:prstGeom>
            <a:ln w="7632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8440" y="3956040"/>
              <a:ext cx="36547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c0023"/>
                  </a:solidFill>
                  <a:latin typeface="Arial"/>
                </a:rPr>
                <a:t>Distribuição primári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171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182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36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192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779800" y="3803760"/>
            <a:ext cx="3039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. secundária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22680" y="1163160"/>
            <a:ext cx="2987280" cy="2979360"/>
            <a:chOff x="922680" y="1163160"/>
            <a:chExt cx="2987280" cy="2979360"/>
          </a:xfrm>
        </p:grpSpPr>
        <p:sp>
          <p:nvSpPr>
            <p:cNvPr id="198" name=""/>
            <p:cNvSpPr/>
            <p:nvPr/>
          </p:nvSpPr>
          <p:spPr>
            <a:xfrm rot="8220000">
              <a:off x="1320840" y="1636920"/>
              <a:ext cx="2190240" cy="20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81800" y="35672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-1686240" y="-2657880"/>
            <a:ext cx="8308440" cy="8050320"/>
            <a:chOff x="-1686240" y="-2657880"/>
            <a:chExt cx="8308440" cy="8050320"/>
          </a:xfrm>
        </p:grpSpPr>
        <p:sp>
          <p:nvSpPr>
            <p:cNvPr id="201" name=""/>
            <p:cNvSpPr/>
            <p:nvPr/>
          </p:nvSpPr>
          <p:spPr>
            <a:xfrm rot="7680000">
              <a:off x="-71280" y="-1920240"/>
              <a:ext cx="5078880" cy="657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81640" y="38718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204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65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5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213" name=""/>
            <p:cNvSpPr/>
            <p:nvPr/>
          </p:nvSpPr>
          <p:spPr>
            <a:xfrm>
              <a:off x="318960" y="5187960"/>
              <a:ext cx="23590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04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640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8" name=""/>
          <p:cNvSpPr/>
          <p:nvPr/>
        </p:nvSpPr>
        <p:spPr>
          <a:xfrm>
            <a:off x="5277240" y="4032360"/>
            <a:ext cx="238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220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21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379520" y="3265200"/>
            <a:ext cx="3960360" cy="1903680"/>
            <a:chOff x="1379520" y="3265200"/>
            <a:chExt cx="3960360" cy="1903680"/>
          </a:xfrm>
        </p:grpSpPr>
        <p:sp>
          <p:nvSpPr>
            <p:cNvPr id="225" name=""/>
            <p:cNvSpPr/>
            <p:nvPr/>
          </p:nvSpPr>
          <p:spPr>
            <a:xfrm>
              <a:off x="4978440" y="4282920"/>
              <a:ext cx="0" cy="885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379520" y="3368520"/>
              <a:ext cx="3611520" cy="1800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81640" y="38718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5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280000">
              <a:off x="3635640" y="3414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13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78440" y="3265200"/>
              <a:ext cx="0" cy="5554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7320" y="5937120"/>
            <a:ext cx="5041080" cy="545760"/>
            <a:chOff x="697320" y="5937120"/>
            <a:chExt cx="5041080" cy="545760"/>
          </a:xfrm>
        </p:grpSpPr>
        <p:sp>
          <p:nvSpPr>
            <p:cNvPr id="231" name=""/>
            <p:cNvSpPr/>
            <p:nvPr/>
          </p:nvSpPr>
          <p:spPr>
            <a:xfrm>
              <a:off x="6973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556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KW - Etap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5800" y="2590920"/>
            <a:ext cx="876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Separar os custos em iten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Dividir a empresa em centros de custo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Identificar os custos com os centros (distribuição primária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Redistribuir os custos dos centros indiretos aos diretos (distribuição secundária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3f00"/>
                </a:solidFill>
                <a:latin typeface="Arial"/>
              </a:rPr>
              <a:t>Identificar os custos dos centros diretos com os produtos (distribuição final)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Distribuição Prim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ases de distribuição primárias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devem refletir a efetiva utilização dos recursos pelos centr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960" y="716040"/>
            <a:ext cx="585612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Bases de Distribuição Primárias - 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34880" y="2876400"/>
          <a:ext cx="8174160" cy="38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876400"/>
                    <a:ext cx="81741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Distribuição Secundár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ases de distribuição secundárias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devem refletir a efetiva utilização dos serviços dos centros indiretos pelos centros dire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434880" y="2743200"/>
          <a:ext cx="8278920" cy="395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3200"/>
                    <a:ext cx="82789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320" y="71604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Bases de Distribuição Secundárias - </a:t>
            </a:r>
            <a:r>
              <a:rPr b="1" i="1" lang="en-US" sz="36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r>
              <a:rPr b="1" i="1" lang="en-US" sz="3600" spc="-1" strike="noStrike">
                <a:solidFill>
                  <a:srgbClr val="081d58"/>
                </a:solidFill>
                <a:latin typeface="Bookman Old Style"/>
              </a:rPr>
              <a:t> </a:t>
            </a:r>
            <a:endParaRPr b="1" i="1" lang="en-US" sz="36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520" y="3878280"/>
            <a:ext cx="846000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800" spc="-1" strike="noStrike">
                <a:solidFill>
                  <a:srgbClr val="081d58"/>
                </a:solidFill>
                <a:latin typeface="Bookman Old Style"/>
              </a:rPr>
              <a:t>Método dos Centros de Custos, </a:t>
            </a:r>
            <a:r>
              <a:rPr b="1" i="1" lang="en-US" sz="4800" spc="-1" strike="noStrike">
                <a:solidFill>
                  <a:srgbClr val="003e00"/>
                </a:solidFill>
                <a:latin typeface="Bookman Old Style"/>
              </a:rPr>
              <a:t>das Seções Homogêneas</a:t>
            </a:r>
            <a:r>
              <a:rPr b="1" i="1" lang="en-US" sz="4800" spc="-1" strike="noStrike">
                <a:solidFill>
                  <a:srgbClr val="081d58"/>
                </a:solidFill>
                <a:latin typeface="Bookman Old Style"/>
              </a:rPr>
              <a:t> ou RKW</a:t>
            </a:r>
            <a:endParaRPr b="1" i="1" lang="en-US" sz="48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Matriz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1240" y="2749680"/>
            <a:ext cx="8585280" cy="3744360"/>
            <a:chOff x="111240" y="2749680"/>
            <a:chExt cx="8585280" cy="3744360"/>
          </a:xfrm>
        </p:grpSpPr>
        <p:sp>
          <p:nvSpPr>
            <p:cNvPr id="247" name=""/>
            <p:cNvSpPr/>
            <p:nvPr/>
          </p:nvSpPr>
          <p:spPr>
            <a:xfrm>
              <a:off x="3992400" y="5159520"/>
              <a:ext cx="733680" cy="220680"/>
            </a:xfrm>
            <a:custGeom>
              <a:avLst/>
              <a:gdLst/>
              <a:ahLst/>
              <a:rect l="l" t="t" r="r" b="b"/>
              <a:pathLst>
                <a:path w="462" h="139">
                  <a:moveTo>
                    <a:pt x="0" y="0"/>
                  </a:moveTo>
                  <a:lnTo>
                    <a:pt x="0" y="138"/>
                  </a:lnTo>
                  <a:lnTo>
                    <a:pt x="461" y="138"/>
                  </a:lnTo>
                </a:path>
              </a:pathLst>
            </a:custGeom>
            <a:noFill/>
            <a:ln cap="rnd" w="50760">
              <a:solidFill>
                <a:srgbClr val="00353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33360" y="2749680"/>
              <a:ext cx="8346960" cy="2403360"/>
              <a:chOff x="333360" y="2749680"/>
              <a:chExt cx="8346960" cy="2403360"/>
            </a:xfrm>
          </p:grpSpPr>
          <p:sp>
            <p:nvSpPr>
              <p:cNvPr id="249" name=""/>
              <p:cNvSpPr/>
              <p:nvPr/>
            </p:nvSpPr>
            <p:spPr>
              <a:xfrm>
                <a:off x="333360" y="2749680"/>
                <a:ext cx="8346960" cy="240336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3080" y="3914640"/>
                <a:ext cx="8331120" cy="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711680" y="5165640"/>
              <a:ext cx="3968640" cy="4269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278320" y="5599080"/>
              <a:ext cx="3402000" cy="432000"/>
              <a:chOff x="5278320" y="5599080"/>
              <a:chExt cx="3402000" cy="432000"/>
            </a:xfrm>
          </p:grpSpPr>
          <p:sp>
            <p:nvSpPr>
              <p:cNvPr id="253" name=""/>
              <p:cNvSpPr/>
              <p:nvPr/>
            </p:nvSpPr>
            <p:spPr>
              <a:xfrm>
                <a:off x="5997600" y="5605560"/>
                <a:ext cx="2682720" cy="42552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78320" y="5599080"/>
                <a:ext cx="719280" cy="220680"/>
              </a:xfrm>
              <a:custGeom>
                <a:avLst/>
                <a:gdLst/>
                <a:ahLst/>
                <a:rect l="l" t="t" r="r" b="b"/>
                <a:pathLst>
                  <a:path w="453" h="139">
                    <a:moveTo>
                      <a:pt x="0" y="0"/>
                    </a:moveTo>
                    <a:lnTo>
                      <a:pt x="0" y="138"/>
                    </a:lnTo>
                    <a:lnTo>
                      <a:pt x="452" y="138"/>
                    </a:lnTo>
                  </a:path>
                </a:pathLst>
              </a:custGeom>
              <a:noFill/>
              <a:ln cap="rnd" w="50760">
                <a:solidFill>
                  <a:srgbClr val="00353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11240" y="5440320"/>
              <a:ext cx="5032440" cy="1053720"/>
              <a:chOff x="111240" y="5440320"/>
              <a:chExt cx="5032440" cy="1053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11240" y="5978520"/>
                <a:ext cx="31320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1d58"/>
                    </a:solidFill>
                    <a:latin typeface="Arial"/>
                  </a:rPr>
                  <a:t>Distrib. secundária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46400" y="5440320"/>
                <a:ext cx="766800" cy="68112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3146400" y="5880240"/>
                <a:ext cx="1997280" cy="38880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16440" y="2759040"/>
              <a:ext cx="1162800" cy="2387520"/>
              <a:chOff x="316440" y="2759040"/>
              <a:chExt cx="1162800" cy="2387520"/>
            </a:xfrm>
          </p:grpSpPr>
          <p:sp>
            <p:nvSpPr>
              <p:cNvPr id="260" name=""/>
              <p:cNvSpPr/>
              <p:nvPr/>
            </p:nvSpPr>
            <p:spPr>
              <a:xfrm>
                <a:off x="141912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6440" y="2800440"/>
                <a:ext cx="11628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Iten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ust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350440" y="2759040"/>
              <a:ext cx="1077480" cy="2387520"/>
              <a:chOff x="2350440" y="2759040"/>
              <a:chExt cx="1077480" cy="2387520"/>
            </a:xfrm>
          </p:grpSpPr>
          <p:sp>
            <p:nvSpPr>
              <p:cNvPr id="263" name=""/>
              <p:cNvSpPr/>
              <p:nvPr/>
            </p:nvSpPr>
            <p:spPr>
              <a:xfrm>
                <a:off x="341316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50440" y="2800440"/>
                <a:ext cx="107748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Base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ratei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369800" y="2759040"/>
              <a:ext cx="965520" cy="2387520"/>
              <a:chOff x="1369800" y="2759040"/>
              <a:chExt cx="965520" cy="2387520"/>
            </a:xfrm>
          </p:grpSpPr>
          <p:sp>
            <p:nvSpPr>
              <p:cNvPr id="266" name=""/>
              <p:cNvSpPr/>
              <p:nvPr/>
            </p:nvSpPr>
            <p:spPr>
              <a:xfrm>
                <a:off x="2335320" y="2759040"/>
                <a:ext cx="0" cy="23875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69800" y="3021120"/>
                <a:ext cx="9435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Valor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705200" y="2763720"/>
              <a:ext cx="0" cy="2822760"/>
            </a:xfrm>
            <a:prstGeom prst="line">
              <a:avLst/>
            </a:prstGeom>
            <a:ln w="12600">
              <a:solidFill>
                <a:srgbClr val="003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2800440"/>
              <a:ext cx="1348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ent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omun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645080" y="2759040"/>
              <a:ext cx="1351080" cy="2827440"/>
              <a:chOff x="4645080" y="2759040"/>
              <a:chExt cx="1351080" cy="2827440"/>
            </a:xfrm>
          </p:grpSpPr>
          <p:sp>
            <p:nvSpPr>
              <p:cNvPr id="271" name=""/>
              <p:cNvSpPr/>
              <p:nvPr/>
            </p:nvSpPr>
            <p:spPr>
              <a:xfrm>
                <a:off x="5994360" y="2759040"/>
                <a:ext cx="1800" cy="282744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45080" y="2800440"/>
                <a:ext cx="133200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entr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auxilia-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re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64520" y="2800440"/>
              <a:ext cx="133200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Centr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de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venda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003280" y="6022800"/>
              <a:ext cx="3677040" cy="454680"/>
              <a:chOff x="5003280" y="6022800"/>
              <a:chExt cx="3677040" cy="454680"/>
            </a:xfrm>
          </p:grpSpPr>
          <p:sp>
            <p:nvSpPr>
              <p:cNvPr id="275" name=""/>
              <p:cNvSpPr/>
              <p:nvPr/>
            </p:nvSpPr>
            <p:spPr>
              <a:xfrm>
                <a:off x="5997600" y="6043680"/>
                <a:ext cx="2682720" cy="3538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03280" y="6022800"/>
                <a:ext cx="10789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Totai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95840" y="5221440"/>
              <a:ext cx="2777400" cy="686880"/>
              <a:chOff x="195840" y="5221440"/>
              <a:chExt cx="2777400" cy="686880"/>
            </a:xfrm>
          </p:grpSpPr>
          <p:sp>
            <p:nvSpPr>
              <p:cNvPr id="278" name=""/>
              <p:cNvSpPr/>
              <p:nvPr/>
            </p:nvSpPr>
            <p:spPr>
              <a:xfrm>
                <a:off x="195840" y="5392800"/>
                <a:ext cx="267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81d58"/>
                    </a:solidFill>
                    <a:latin typeface="Arial"/>
                  </a:rPr>
                  <a:t>Distrib. primária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784600" y="5221440"/>
                <a:ext cx="188640" cy="388800"/>
              </a:xfrm>
              <a:prstGeom prst="line">
                <a:avLst/>
              </a:prstGeom>
              <a:ln w="12600">
                <a:solidFill>
                  <a:srgbClr val="081d58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000840" y="2759040"/>
              <a:ext cx="1431720" cy="3625920"/>
              <a:chOff x="6000840" y="2759040"/>
              <a:chExt cx="1431720" cy="3625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00840" y="2800440"/>
                <a:ext cx="143172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Centr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produ-tivos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7397640" y="2759040"/>
                <a:ext cx="23760" cy="3625920"/>
              </a:xfrm>
              <a:prstGeom prst="line">
                <a:avLst/>
              </a:prstGeom>
              <a:ln w="12600">
                <a:solidFill>
                  <a:srgbClr val="003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4240" y="42696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stribuição Final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3120" y="2819160"/>
            <a:ext cx="8460000" cy="3817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A atividade de cada seção produtiva é medida por uma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unidade de trabalho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, assim, os custos da seção podem ser acompanhados e alocados aos produtos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7" dur="1" fill="hold"/>
                                  <p:tgtEl>
                                    <p:spTgt spid="2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Unidades de </a:t>
            </a:r>
            <a:br>
              <a:rPr sz="4000"/>
            </a:b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Trabalho - </a:t>
            </a:r>
            <a:r>
              <a:rPr b="1" i="1" lang="en-US" sz="4000" spc="-1" strike="noStrike">
                <a:solidFill>
                  <a:srgbClr val="cc0000"/>
                </a:solidFill>
                <a:latin typeface="Bookman Old Style"/>
              </a:rPr>
              <a:t>Exempl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1880" y="2712960"/>
          <a:ext cx="8479080" cy="39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712960"/>
                    <a:ext cx="84790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4240" y="42696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3120" y="2674440"/>
            <a:ext cx="846000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lnSpc>
                <a:spcPct val="120000"/>
              </a:lnSpc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Se uma seção é 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homogênea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os custos unitários dos elementos que constituem a seção são aproximadamente iguais ao custo unitário médio da seção. Então, </a:t>
            </a:r>
            <a:r>
              <a:rPr b="1" lang="en-US" sz="3000" spc="-1" strike="noStrike">
                <a:solidFill>
                  <a:srgbClr val="081d58"/>
                </a:solidFill>
                <a:latin typeface="Arial"/>
              </a:rPr>
              <a:t>a distribuição dos custos torna-se mais correta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2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 de Seçõ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44520" y="1593720"/>
            <a:ext cx="2900160" cy="4496040"/>
            <a:chOff x="344520" y="1593720"/>
            <a:chExt cx="2900160" cy="4496040"/>
          </a:xfrm>
        </p:grpSpPr>
        <p:sp>
          <p:nvSpPr>
            <p:cNvPr id="292" name=""/>
            <p:cNvSpPr/>
            <p:nvPr/>
          </p:nvSpPr>
          <p:spPr>
            <a:xfrm>
              <a:off x="628560" y="1593720"/>
              <a:ext cx="2257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Homogêne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44520" y="2292480"/>
              <a:ext cx="2900160" cy="3797280"/>
              <a:chOff x="344520" y="2292480"/>
              <a:chExt cx="2900160" cy="379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344520" y="2292480"/>
                <a:ext cx="2900160" cy="3797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480960" y="2444760"/>
                <a:ext cx="1069920" cy="1130400"/>
                <a:chOff x="480960" y="2444760"/>
                <a:chExt cx="1069920" cy="11304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80960" y="2444760"/>
                  <a:ext cx="1069920" cy="1130400"/>
                </a:xfrm>
                <a:prstGeom prst="ellipse">
                  <a:avLst/>
                </a:prstGeom>
                <a:solidFill>
                  <a:srgbClr val="b3b9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0480" y="2805120"/>
                  <a:ext cx="10303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279f"/>
                      </a:solidFill>
                      <a:latin typeface="Arial"/>
                    </a:rPr>
                    <a:t>$ 5 / h</a:t>
                  </a:r>
                  <a:endParaRPr b="0" lang="en-US" sz="2400" spc="-1" strike="noStrike">
                    <a:solidFill>
                      <a:srgbClr val="00279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1969920" y="3587760"/>
                <a:ext cx="107172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99440" y="3948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960" y="4807080"/>
                <a:ext cx="1069920" cy="113004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0480" y="516744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21440" y="257652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9960" y="379584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45120" y="501480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279f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>
            <a:off x="342720" y="6242040"/>
            <a:ext cx="2708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Média = $ 5 / h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62640" y="1593720"/>
            <a:ext cx="3061800" cy="4496040"/>
            <a:chOff x="3662640" y="1593720"/>
            <a:chExt cx="3061800" cy="4496040"/>
          </a:xfrm>
        </p:grpSpPr>
        <p:sp>
          <p:nvSpPr>
            <p:cNvPr id="307" name=""/>
            <p:cNvSpPr/>
            <p:nvPr/>
          </p:nvSpPr>
          <p:spPr>
            <a:xfrm>
              <a:off x="3662640" y="1593720"/>
              <a:ext cx="30618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Não Homogênea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790800" y="2292480"/>
              <a:ext cx="2908440" cy="3797280"/>
              <a:chOff x="3790800" y="2292480"/>
              <a:chExt cx="2908440" cy="379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3790800" y="2292480"/>
                <a:ext cx="2908440" cy="3797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25800" y="2444760"/>
                <a:ext cx="107640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56760" y="2805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5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9800" y="3587760"/>
                <a:ext cx="1074600" cy="113040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50760" y="3948120"/>
                <a:ext cx="1030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7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25800" y="4807080"/>
                <a:ext cx="1076400" cy="1130040"/>
              </a:xfrm>
              <a:prstGeom prst="ellipse">
                <a:avLst/>
              </a:prstGeom>
              <a:solidFill>
                <a:srgbClr val="b3b9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98440" y="5167440"/>
                <a:ext cx="1199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 12 / 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72400" y="2576520"/>
                <a:ext cx="139896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niversal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33640" y="3795840"/>
                <a:ext cx="16718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utomátic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38640" y="5014800"/>
                <a:ext cx="12650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rn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vólver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" name=""/>
          <p:cNvSpPr/>
          <p:nvPr/>
        </p:nvSpPr>
        <p:spPr>
          <a:xfrm>
            <a:off x="3865320" y="6242040"/>
            <a:ext cx="27082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79f"/>
                </a:solidFill>
                <a:latin typeface="Arial"/>
              </a:rPr>
              <a:t>Média = $ 8 / h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Exemplo Ilustrativ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8080" y="25142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1 centro comum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nistração geral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1 centro auxiliar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2 centros produtiv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agem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agem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4 itens de cust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ários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reciação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i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étrica 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is de consumo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>
              <a:spcBef>
                <a:spcPts val="1874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2 produto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en-US" sz="3000" spc="-1" strike="noStrike">
                <a:solidFill>
                  <a:srgbClr val="003f00"/>
                </a:solidFill>
                <a:latin typeface="Arial"/>
              </a:rPr>
              <a:t> (200 un. P1 e 100 un. P2)</a:t>
            </a:r>
            <a:endParaRPr b="0" lang="en-US" sz="30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3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Rateio Primári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3" name=""/>
          <p:cNvSpPr/>
          <p:nvPr/>
        </p:nvSpPr>
        <p:spPr>
          <a:xfrm>
            <a:off x="441360" y="432288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360" y="4648320"/>
            <a:ext cx="1393920" cy="42696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35280" y="432288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4637160"/>
            <a:ext cx="1168200" cy="426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03480" y="432288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03480" y="4637160"/>
            <a:ext cx="1122480" cy="6429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25960" y="432288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25960" y="4637160"/>
            <a:ext cx="1146240" cy="566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72200" y="432288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2200" y="4637160"/>
            <a:ext cx="1135080" cy="4525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07280" y="432288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7280" y="463716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6240" y="432288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6240" y="4637160"/>
            <a:ext cx="1128960" cy="4903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360" y="502776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360" y="535320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1360" y="567864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360" y="6004080"/>
            <a:ext cx="1393920" cy="2966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48920" y="4332240"/>
            <a:ext cx="1366920" cy="1969200"/>
            <a:chOff x="448920" y="4332240"/>
            <a:chExt cx="1366920" cy="1969200"/>
          </a:xfrm>
        </p:grpSpPr>
        <p:sp>
          <p:nvSpPr>
            <p:cNvPr id="342" name=""/>
            <p:cNvSpPr/>
            <p:nvPr/>
          </p:nvSpPr>
          <p:spPr>
            <a:xfrm>
              <a:off x="658080" y="4332240"/>
              <a:ext cx="979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530"/>
                  </a:solidFill>
                  <a:latin typeface="Arial"/>
                </a:rPr>
                <a:t>Item de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4000" y="465768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cust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9280" y="5035680"/>
              <a:ext cx="108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Salários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920" y="5362560"/>
              <a:ext cx="118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En. elétr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640" y="5688000"/>
              <a:ext cx="1024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Deprec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9640" y="5965920"/>
              <a:ext cx="1366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e00"/>
                  </a:solidFill>
                  <a:latin typeface="Arial"/>
                </a:rPr>
                <a:t>Mat. cons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835280" y="5027760"/>
            <a:ext cx="116820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5280" y="534024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35280" y="5654520"/>
            <a:ext cx="116820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35280" y="5969160"/>
            <a:ext cx="116820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25960" y="5027760"/>
            <a:ext cx="114624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5960" y="534024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25960" y="5654520"/>
            <a:ext cx="114624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5969160"/>
            <a:ext cx="1146240" cy="4140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5027760"/>
            <a:ext cx="11350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72200" y="534024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72200" y="5654520"/>
            <a:ext cx="113508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72200" y="5969160"/>
            <a:ext cx="1135080" cy="4014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7280" y="5027760"/>
            <a:ext cx="1218960" cy="312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07280" y="534024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7280" y="5654520"/>
            <a:ext cx="1218960" cy="31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7280" y="596916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38560" y="6383160"/>
            <a:ext cx="11336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72200" y="6326280"/>
            <a:ext cx="1135080" cy="414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07280" y="6383160"/>
            <a:ext cx="1218960" cy="401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03480" y="5027760"/>
            <a:ext cx="11224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03480" y="534024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03480" y="5654520"/>
            <a:ext cx="112248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03480" y="5969160"/>
            <a:ext cx="112248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6240" y="5027760"/>
            <a:ext cx="1128960" cy="3124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6240" y="53402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6240" y="5654520"/>
            <a:ext cx="1128960" cy="3146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6240" y="5969160"/>
            <a:ext cx="1128960" cy="439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6240" y="6383160"/>
            <a:ext cx="1128960" cy="376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867680" y="4332240"/>
            <a:ext cx="1108080" cy="1980360"/>
            <a:chOff x="1867680" y="4332240"/>
            <a:chExt cx="1108080" cy="1980360"/>
          </a:xfrm>
        </p:grpSpPr>
        <p:sp>
          <p:nvSpPr>
            <p:cNvPr id="377" name=""/>
            <p:cNvSpPr/>
            <p:nvPr/>
          </p:nvSpPr>
          <p:spPr>
            <a:xfrm>
              <a:off x="2106360" y="433224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Valor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57200" y="4645080"/>
              <a:ext cx="342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6768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94840" y="53499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6760" y="56642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77400" y="597708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0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68280" y="4332240"/>
            <a:ext cx="1026360" cy="648360"/>
            <a:chOff x="3068280" y="4332240"/>
            <a:chExt cx="1026360" cy="648360"/>
          </a:xfrm>
        </p:grpSpPr>
        <p:sp>
          <p:nvSpPr>
            <p:cNvPr id="384" name=""/>
            <p:cNvSpPr/>
            <p:nvPr/>
          </p:nvSpPr>
          <p:spPr>
            <a:xfrm>
              <a:off x="3068280" y="4332240"/>
              <a:ext cx="1026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Base de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28120" y="4645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161520" y="504504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direto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86560" y="5349960"/>
            <a:ext cx="1136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potência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27760" y="5664240"/>
            <a:ext cx="60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valor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99240" y="5977080"/>
            <a:ext cx="840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requis.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35440" y="1968480"/>
            <a:ext cx="6366960" cy="1722960"/>
            <a:chOff x="235440" y="1968480"/>
            <a:chExt cx="6366960" cy="1722960"/>
          </a:xfrm>
        </p:grpSpPr>
        <p:sp>
          <p:nvSpPr>
            <p:cNvPr id="391" name=""/>
            <p:cNvSpPr/>
            <p:nvPr/>
          </p:nvSpPr>
          <p:spPr>
            <a:xfrm>
              <a:off x="27144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144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9080" y="2000160"/>
              <a:ext cx="260964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987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16360" y="2000160"/>
              <a:ext cx="9349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5128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0360" y="2000160"/>
              <a:ext cx="98280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53160" y="2000160"/>
              <a:ext cx="187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71880" y="2000160"/>
              <a:ext cx="80352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7540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92680" y="2000160"/>
              <a:ext cx="88920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833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83320" y="2000160"/>
              <a:ext cx="19080" cy="1764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440" y="2017800"/>
              <a:ext cx="1908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8720" y="2017800"/>
              <a:ext cx="972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5128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5316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75400" y="2017800"/>
              <a:ext cx="936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3320" y="2017800"/>
              <a:ext cx="19080" cy="6429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4160" y="1968480"/>
              <a:ext cx="21283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Bases de 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54440" y="1968480"/>
              <a:ext cx="10537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Admin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5400" y="2290680"/>
              <a:ext cx="806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geral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41560" y="1968480"/>
              <a:ext cx="10386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anut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58560" y="1968480"/>
              <a:ext cx="822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Usin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92320" y="1968480"/>
              <a:ext cx="883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ont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1440" y="2660760"/>
              <a:ext cx="190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080" y="2660760"/>
              <a:ext cx="260964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8720" y="2660760"/>
              <a:ext cx="972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8440" y="2660760"/>
              <a:ext cx="9442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128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60640" y="2660760"/>
              <a:ext cx="99252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5316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2520" y="2660760"/>
              <a:ext cx="8128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75400" y="2660760"/>
              <a:ext cx="93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84760" y="2660760"/>
              <a:ext cx="89856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83320" y="2660760"/>
              <a:ext cx="19080" cy="936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1440" y="2670120"/>
              <a:ext cx="1908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144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144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9080" y="3633840"/>
              <a:ext cx="260964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8720" y="2670120"/>
              <a:ext cx="972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987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916360" y="3633840"/>
              <a:ext cx="9349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5128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5128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70360" y="3633840"/>
              <a:ext cx="98280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5316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3160" y="3633840"/>
              <a:ext cx="187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71880" y="3633840"/>
              <a:ext cx="80352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75400" y="2670120"/>
              <a:ext cx="936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7540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2680" y="3633840"/>
              <a:ext cx="88920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83320" y="2670120"/>
              <a:ext cx="19080" cy="96372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833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83320" y="3633840"/>
              <a:ext cx="19080" cy="17280"/>
            </a:xfrm>
            <a:prstGeom prst="rect">
              <a:avLst/>
            </a:prstGeom>
            <a:solidFill>
              <a:srgbClr val="00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5440" y="2620800"/>
              <a:ext cx="270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potência instal. (HP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5200" y="2941560"/>
              <a:ext cx="25794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valor dos equip. 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4960" y="3263760"/>
              <a:ext cx="24526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mater. requisit. ($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11200" y="262080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5680" y="29415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5568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12640" y="262080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16800" y="2941560"/>
              <a:ext cx="884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7.2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344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2360" y="262080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26520" y="2941560"/>
              <a:ext cx="884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.0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4316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963760" y="262080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63760" y="2941560"/>
              <a:ext cx="3405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08240" y="3263760"/>
              <a:ext cx="6512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280040" y="4332240"/>
            <a:ext cx="4311720" cy="648360"/>
            <a:chOff x="4280040" y="4332240"/>
            <a:chExt cx="4311720" cy="648360"/>
          </a:xfrm>
        </p:grpSpPr>
        <p:grpSp>
          <p:nvGrpSpPr>
            <p:cNvPr id="462" name=""/>
            <p:cNvGrpSpPr/>
            <p:nvPr/>
          </p:nvGrpSpPr>
          <p:grpSpPr>
            <a:xfrm>
              <a:off x="4280040" y="4332240"/>
              <a:ext cx="869400" cy="648360"/>
              <a:chOff x="4280040" y="4332240"/>
              <a:chExt cx="869400" cy="648360"/>
            </a:xfrm>
          </p:grpSpPr>
          <p:sp>
            <p:nvSpPr>
              <p:cNvPr id="463" name=""/>
              <p:cNvSpPr/>
              <p:nvPr/>
            </p:nvSpPr>
            <p:spPr>
              <a:xfrm>
                <a:off x="4280040" y="433224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Admin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98120" y="4645080"/>
                <a:ext cx="62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ral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434560" y="4332240"/>
              <a:ext cx="840600" cy="648360"/>
              <a:chOff x="5434560" y="4332240"/>
              <a:chExt cx="840600" cy="648360"/>
            </a:xfrm>
          </p:grpSpPr>
          <p:sp>
            <p:nvSpPr>
              <p:cNvPr id="466" name=""/>
              <p:cNvSpPr/>
              <p:nvPr/>
            </p:nvSpPr>
            <p:spPr>
              <a:xfrm>
                <a:off x="5457960" y="4332240"/>
                <a:ext cx="7916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anu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34560" y="4645080"/>
                <a:ext cx="840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ençã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6627600" y="4332240"/>
              <a:ext cx="808560" cy="648360"/>
              <a:chOff x="6627600" y="4332240"/>
              <a:chExt cx="808560" cy="648360"/>
            </a:xfrm>
          </p:grpSpPr>
          <p:sp>
            <p:nvSpPr>
              <p:cNvPr id="469" name=""/>
              <p:cNvSpPr/>
              <p:nvPr/>
            </p:nvSpPr>
            <p:spPr>
              <a:xfrm>
                <a:off x="6627600" y="4332240"/>
                <a:ext cx="8085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Usina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54680" y="4645080"/>
                <a:ext cx="543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7815240" y="4332240"/>
              <a:ext cx="776520" cy="648360"/>
              <a:chOff x="7815240" y="4332240"/>
              <a:chExt cx="776520" cy="648360"/>
            </a:xfrm>
          </p:grpSpPr>
          <p:sp>
            <p:nvSpPr>
              <p:cNvPr id="472" name=""/>
              <p:cNvSpPr/>
              <p:nvPr/>
            </p:nvSpPr>
            <p:spPr>
              <a:xfrm>
                <a:off x="7890120" y="4332240"/>
                <a:ext cx="636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on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5240" y="4645080"/>
                <a:ext cx="776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a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4133160" y="5045040"/>
            <a:ext cx="4570560" cy="335520"/>
            <a:chOff x="4133160" y="5045040"/>
            <a:chExt cx="4570560" cy="335520"/>
          </a:xfrm>
        </p:grpSpPr>
        <p:sp>
          <p:nvSpPr>
            <p:cNvPr id="475" name=""/>
            <p:cNvSpPr/>
            <p:nvPr/>
          </p:nvSpPr>
          <p:spPr>
            <a:xfrm>
              <a:off x="413316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95040" y="5045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0440" y="50450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848000" y="5045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510800" y="5349960"/>
            <a:ext cx="700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50,00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95040" y="5349960"/>
            <a:ext cx="855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e00"/>
                </a:solidFill>
                <a:latin typeface="Arial"/>
              </a:rPr>
              <a:t>100,00</a:t>
            </a:r>
            <a:endParaRPr b="0" lang="en-US" sz="2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717600" y="5349960"/>
            <a:ext cx="1981440" cy="335520"/>
            <a:chOff x="6717600" y="5349960"/>
            <a:chExt cx="1981440" cy="335520"/>
          </a:xfrm>
        </p:grpSpPr>
        <p:sp>
          <p:nvSpPr>
            <p:cNvPr id="482" name=""/>
            <p:cNvSpPr/>
            <p:nvPr/>
          </p:nvSpPr>
          <p:spPr>
            <a:xfrm>
              <a:off x="7998840" y="534996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17600" y="53499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529880" y="5664240"/>
            <a:ext cx="3664800" cy="335520"/>
            <a:chOff x="4529880" y="5664240"/>
            <a:chExt cx="3664800" cy="335520"/>
          </a:xfrm>
        </p:grpSpPr>
        <p:sp>
          <p:nvSpPr>
            <p:cNvPr id="485" name=""/>
            <p:cNvSpPr/>
            <p:nvPr/>
          </p:nvSpPr>
          <p:spPr>
            <a:xfrm>
              <a:off x="8101080" y="56642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9880" y="56642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14120" y="56642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36680" y="56642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69680" y="5977080"/>
            <a:ext cx="4343400" cy="335520"/>
            <a:chOff x="4369680" y="5977080"/>
            <a:chExt cx="4343400" cy="335520"/>
          </a:xfrm>
        </p:grpSpPr>
        <p:sp>
          <p:nvSpPr>
            <p:cNvPr id="490" name=""/>
            <p:cNvSpPr/>
            <p:nvPr/>
          </p:nvSpPr>
          <p:spPr>
            <a:xfrm>
              <a:off x="78573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968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047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26960" y="597708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152240" y="6391440"/>
            <a:ext cx="4576680" cy="335520"/>
            <a:chOff x="4152240" y="6391440"/>
            <a:chExt cx="4576680" cy="335520"/>
          </a:xfrm>
        </p:grpSpPr>
        <p:sp>
          <p:nvSpPr>
            <p:cNvPr id="495" name=""/>
            <p:cNvSpPr/>
            <p:nvPr/>
          </p:nvSpPr>
          <p:spPr>
            <a:xfrm>
              <a:off x="76399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1.4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5224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2.8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855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09520" y="6391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2.8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5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3760" y="133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Rateio Secundário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00" name=""/>
          <p:cNvSpPr/>
          <p:nvPr/>
        </p:nvSpPr>
        <p:spPr>
          <a:xfrm>
            <a:off x="441360" y="287496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1360" y="3200400"/>
            <a:ext cx="1393920" cy="42696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35280" y="287496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35280" y="3189240"/>
            <a:ext cx="1168200" cy="426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03480" y="287496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03480" y="3189240"/>
            <a:ext cx="1122480" cy="6429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25960" y="287496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25960" y="3189240"/>
            <a:ext cx="1146240" cy="566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72200" y="287496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2200" y="3189240"/>
            <a:ext cx="1135080" cy="45252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7280" y="287496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7280" y="3189240"/>
            <a:ext cx="1218960" cy="4399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6240" y="287496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6240" y="3189240"/>
            <a:ext cx="1128960" cy="4906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360" y="357984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1360" y="390528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360" y="4230720"/>
            <a:ext cx="1393920" cy="32544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1360" y="4556160"/>
            <a:ext cx="1393920" cy="297000"/>
          </a:xfrm>
          <a:prstGeom prst="rect">
            <a:avLst/>
          </a:prstGeom>
          <a:solidFill>
            <a:srgbClr val="fd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35280" y="3579840"/>
            <a:ext cx="116820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35280" y="389268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5280" y="4206960"/>
            <a:ext cx="11682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35280" y="4521240"/>
            <a:ext cx="116820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5960" y="3579840"/>
            <a:ext cx="11462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25960" y="389268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25960" y="4206960"/>
            <a:ext cx="114624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25960" y="4521240"/>
            <a:ext cx="1146240" cy="414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72200" y="3579840"/>
            <a:ext cx="11350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72200" y="389268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72200" y="4206960"/>
            <a:ext cx="11350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72200" y="4521240"/>
            <a:ext cx="1135080" cy="4017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07280" y="3579840"/>
            <a:ext cx="121896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07280" y="389268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07280" y="420696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07280" y="4521240"/>
            <a:ext cx="1218960" cy="43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38560" y="4935600"/>
            <a:ext cx="1133640" cy="3128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2200" y="4878360"/>
            <a:ext cx="1135080" cy="4143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7280" y="4935600"/>
            <a:ext cx="1218960" cy="4014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84800" y="527544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07280" y="527544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284800" y="561492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07280" y="5614920"/>
            <a:ext cx="121896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8440" y="5886360"/>
            <a:ext cx="1207800" cy="3826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18440" y="6296040"/>
            <a:ext cx="1207800" cy="3142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03480" y="3579840"/>
            <a:ext cx="11224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03480" y="389268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03480" y="4206960"/>
            <a:ext cx="112248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03480" y="4521240"/>
            <a:ext cx="112248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26240" y="3579840"/>
            <a:ext cx="1128960" cy="31284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6240" y="389268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6240" y="420696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26240" y="4521240"/>
            <a:ext cx="1128960" cy="43956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26240" y="4935600"/>
            <a:ext cx="1128960" cy="3762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6240" y="52754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26240" y="561492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26240" y="5905440"/>
            <a:ext cx="1128960" cy="36360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6240" y="6296040"/>
            <a:ext cx="1128960" cy="314280"/>
          </a:xfrm>
          <a:prstGeom prst="rect">
            <a:avLst/>
          </a:prstGeom>
          <a:solidFill>
            <a:srgbClr val="db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02240" y="6286680"/>
            <a:ext cx="233208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38120" y="2859120"/>
            <a:ext cx="8305920" cy="3760920"/>
            <a:chOff x="438120" y="2859120"/>
            <a:chExt cx="8305920" cy="3760920"/>
          </a:xfrm>
        </p:grpSpPr>
        <p:grpSp>
          <p:nvGrpSpPr>
            <p:cNvPr id="558" name=""/>
            <p:cNvGrpSpPr/>
            <p:nvPr/>
          </p:nvGrpSpPr>
          <p:grpSpPr>
            <a:xfrm>
              <a:off x="438120" y="2859120"/>
              <a:ext cx="8296200" cy="3760920"/>
              <a:chOff x="438120" y="2859120"/>
              <a:chExt cx="8296200" cy="3760920"/>
            </a:xfrm>
          </p:grpSpPr>
          <p:sp>
            <p:nvSpPr>
              <p:cNvPr id="559" name=""/>
              <p:cNvSpPr/>
              <p:nvPr/>
            </p:nvSpPr>
            <p:spPr>
              <a:xfrm>
                <a:off x="438120" y="286848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819440" y="287820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76880" y="2887560"/>
                <a:ext cx="0" cy="30369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4800" y="2868480"/>
                <a:ext cx="0" cy="2398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00240" y="2859120"/>
                <a:ext cx="0" cy="199872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400800" y="287820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629480" y="289728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734320" y="2878200"/>
                <a:ext cx="0" cy="37227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9280" y="2867040"/>
                <a:ext cx="828504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9560" y="4848120"/>
                <a:ext cx="82854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16240" y="5257800"/>
                <a:ext cx="460872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278320" y="5591160"/>
                <a:ext cx="345600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288040" y="5925600"/>
                <a:ext cx="3446280" cy="8280"/>
              </a:xfrm>
              <a:prstGeom prst="line">
                <a:avLst/>
              </a:prstGeom>
              <a:ln w="255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02240" y="6600960"/>
                <a:ext cx="233208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49280" y="3562200"/>
              <a:ext cx="829476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48920" y="2884320"/>
            <a:ext cx="8280000" cy="2394720"/>
            <a:chOff x="448920" y="2884320"/>
            <a:chExt cx="8280000" cy="2394720"/>
          </a:xfrm>
        </p:grpSpPr>
        <p:grpSp>
          <p:nvGrpSpPr>
            <p:cNvPr id="575" name=""/>
            <p:cNvGrpSpPr/>
            <p:nvPr/>
          </p:nvGrpSpPr>
          <p:grpSpPr>
            <a:xfrm>
              <a:off x="3068280" y="2884320"/>
              <a:ext cx="1026360" cy="648360"/>
              <a:chOff x="3068280" y="2884320"/>
              <a:chExt cx="1026360" cy="648360"/>
            </a:xfrm>
          </p:grpSpPr>
          <p:sp>
            <p:nvSpPr>
              <p:cNvPr id="576" name=""/>
              <p:cNvSpPr/>
              <p:nvPr/>
            </p:nvSpPr>
            <p:spPr>
              <a:xfrm>
                <a:off x="3068280" y="2884320"/>
                <a:ext cx="10263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Base de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228120" y="3197160"/>
                <a:ext cx="700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ratei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280040" y="2884320"/>
              <a:ext cx="869400" cy="648360"/>
              <a:chOff x="4280040" y="2884320"/>
              <a:chExt cx="869400" cy="648360"/>
            </a:xfrm>
          </p:grpSpPr>
          <p:sp>
            <p:nvSpPr>
              <p:cNvPr id="579" name=""/>
              <p:cNvSpPr/>
              <p:nvPr/>
            </p:nvSpPr>
            <p:spPr>
              <a:xfrm>
                <a:off x="4280040" y="288432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Admin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98120" y="3197160"/>
                <a:ext cx="622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ral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434560" y="2884320"/>
              <a:ext cx="840600" cy="648360"/>
              <a:chOff x="5434560" y="2884320"/>
              <a:chExt cx="840600" cy="648360"/>
            </a:xfrm>
          </p:grpSpPr>
          <p:sp>
            <p:nvSpPr>
              <p:cNvPr id="582" name=""/>
              <p:cNvSpPr/>
              <p:nvPr/>
            </p:nvSpPr>
            <p:spPr>
              <a:xfrm>
                <a:off x="5457960" y="2884320"/>
                <a:ext cx="7916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anu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34560" y="3197160"/>
                <a:ext cx="840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ençã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627600" y="2884320"/>
              <a:ext cx="808560" cy="648360"/>
              <a:chOff x="6627600" y="2884320"/>
              <a:chExt cx="808560" cy="648360"/>
            </a:xfrm>
          </p:grpSpPr>
          <p:sp>
            <p:nvSpPr>
              <p:cNvPr id="585" name=""/>
              <p:cNvSpPr/>
              <p:nvPr/>
            </p:nvSpPr>
            <p:spPr>
              <a:xfrm>
                <a:off x="6627600" y="2884320"/>
                <a:ext cx="8085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Usina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54680" y="3197160"/>
                <a:ext cx="543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7815240" y="2884320"/>
              <a:ext cx="776520" cy="648360"/>
              <a:chOff x="7815240" y="2884320"/>
              <a:chExt cx="776520" cy="648360"/>
            </a:xfrm>
          </p:grpSpPr>
          <p:sp>
            <p:nvSpPr>
              <p:cNvPr id="588" name=""/>
              <p:cNvSpPr/>
              <p:nvPr/>
            </p:nvSpPr>
            <p:spPr>
              <a:xfrm>
                <a:off x="7890120" y="2884320"/>
                <a:ext cx="636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Mon-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15240" y="3197160"/>
                <a:ext cx="776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tagem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448920" y="2884320"/>
              <a:ext cx="1366920" cy="1969200"/>
              <a:chOff x="448920" y="2884320"/>
              <a:chExt cx="1366920" cy="1969200"/>
            </a:xfrm>
          </p:grpSpPr>
          <p:sp>
            <p:nvSpPr>
              <p:cNvPr id="591" name=""/>
              <p:cNvSpPr/>
              <p:nvPr/>
            </p:nvSpPr>
            <p:spPr>
              <a:xfrm>
                <a:off x="658080" y="2884320"/>
                <a:ext cx="979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530"/>
                    </a:solidFill>
                    <a:latin typeface="Arial"/>
                  </a:rPr>
                  <a:t>Item de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74000" y="3209760"/>
                <a:ext cx="745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custo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280" y="3587760"/>
                <a:ext cx="1087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Salários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8920" y="3914640"/>
                <a:ext cx="1180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En. elétr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49640" y="4240080"/>
                <a:ext cx="1024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Deprec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49640" y="4518000"/>
                <a:ext cx="1366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e00"/>
                    </a:solidFill>
                    <a:latin typeface="Arial"/>
                  </a:rPr>
                  <a:t>Mat. cons.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161520" y="359712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diret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33160" y="3597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95040" y="3597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90440" y="3597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.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48000" y="3597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998840" y="39020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86560" y="3902040"/>
              <a:ext cx="113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potência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0800" y="390204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95040" y="3902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1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7600" y="39020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3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01080" y="421632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7760" y="4216320"/>
              <a:ext cx="607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valor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29880" y="421632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4120" y="42163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36680" y="42163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573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8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867680" y="2884320"/>
              <a:ext cx="1108080" cy="1980360"/>
              <a:chOff x="1867680" y="2884320"/>
              <a:chExt cx="1108080" cy="1980360"/>
            </a:xfrm>
          </p:grpSpPr>
          <p:sp>
            <p:nvSpPr>
              <p:cNvPr id="614" name=""/>
              <p:cNvSpPr/>
              <p:nvPr/>
            </p:nvSpPr>
            <p:spPr>
              <a:xfrm>
                <a:off x="2106360" y="2884320"/>
                <a:ext cx="653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Valor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57200" y="3197160"/>
                <a:ext cx="342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($)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67680" y="35971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5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94840" y="3902040"/>
                <a:ext cx="855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5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86760" y="42163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1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7400" y="452916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3e00"/>
                    </a:solidFill>
                    <a:latin typeface="Arial"/>
                  </a:rPr>
                  <a:t>2.0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099240" y="4529160"/>
              <a:ext cx="840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requis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6968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2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047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45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26960" y="452916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e00"/>
                  </a:solidFill>
                  <a:latin typeface="Arial"/>
                </a:rPr>
                <a:t>50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4152240" y="4943520"/>
              <a:ext cx="4576680" cy="335520"/>
              <a:chOff x="4152240" y="4943520"/>
              <a:chExt cx="4576680" cy="3355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399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1.4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15224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2.8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2855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1.5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09520" y="4943520"/>
                <a:ext cx="1089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279f"/>
                    </a:solidFill>
                    <a:latin typeface="Arial"/>
                  </a:rPr>
                  <a:t>2.800,00</a:t>
                </a:r>
                <a:endParaRPr b="0" lang="en-US" sz="2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1078200" y="5235480"/>
            <a:ext cx="4205160" cy="454680"/>
            <a:chOff x="1078200" y="5235480"/>
            <a:chExt cx="4205160" cy="454680"/>
          </a:xfrm>
        </p:grpSpPr>
        <p:sp>
          <p:nvSpPr>
            <p:cNvPr id="630" name=""/>
            <p:cNvSpPr/>
            <p:nvPr/>
          </p:nvSpPr>
          <p:spPr>
            <a:xfrm>
              <a:off x="1078200" y="5235480"/>
              <a:ext cx="341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número de empregados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60840" y="5262480"/>
              <a:ext cx="722520" cy="187560"/>
            </a:xfrm>
            <a:custGeom>
              <a:avLst/>
              <a:gdLst/>
              <a:ahLst/>
              <a:rect l="l" t="t" r="r" b="b"/>
              <a:pathLst>
                <a:path w="455" h="118">
                  <a:moveTo>
                    <a:pt x="0" y="0"/>
                  </a:moveTo>
                  <a:lnTo>
                    <a:pt x="0" y="117"/>
                  </a:lnTo>
                  <a:lnTo>
                    <a:pt x="454" y="117"/>
                  </a:lnTo>
                </a:path>
              </a:pathLst>
            </a:custGeom>
            <a:noFill/>
            <a:ln cap="rnd" w="25560">
              <a:solidFill>
                <a:srgbClr val="081d5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978360" y="1389240"/>
            <a:ext cx="9360" cy="64260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78360" y="2031840"/>
            <a:ext cx="9360" cy="792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78360" y="2039760"/>
            <a:ext cx="9360" cy="64296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07800" y="1371600"/>
            <a:ext cx="5573880" cy="1334160"/>
            <a:chOff x="307800" y="1371600"/>
            <a:chExt cx="5573880" cy="1334160"/>
          </a:xfrm>
        </p:grpSpPr>
        <p:sp>
          <p:nvSpPr>
            <p:cNvPr id="636" name=""/>
            <p:cNvSpPr/>
            <p:nvPr/>
          </p:nvSpPr>
          <p:spPr>
            <a:xfrm>
              <a:off x="307800" y="137160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7800" y="137160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440" y="1371600"/>
              <a:ext cx="26640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89440" y="1371600"/>
              <a:ext cx="1872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08160" y="1371600"/>
              <a:ext cx="9702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78360" y="137160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97440" y="1371600"/>
              <a:ext cx="8794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876920" y="137160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96000" y="1371600"/>
              <a:ext cx="9684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4400" y="137160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64400" y="137160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7800" y="1389240"/>
              <a:ext cx="1764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989440" y="1389240"/>
              <a:ext cx="936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76920" y="1389240"/>
              <a:ext cx="936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64400" y="1389240"/>
              <a:ext cx="17280" cy="64260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4120" y="1398600"/>
              <a:ext cx="19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Bases de ratei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93480" y="1398600"/>
              <a:ext cx="791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Manu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27680" y="1719360"/>
              <a:ext cx="840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tenção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88880" y="1398600"/>
              <a:ext cx="808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Usina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59800" y="1719360"/>
              <a:ext cx="543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gem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60160" y="1398600"/>
              <a:ext cx="636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Mon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83840" y="171936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81d58"/>
                  </a:solidFill>
                  <a:latin typeface="Arial"/>
                </a:rPr>
                <a:t>tagem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7800" y="2031840"/>
              <a:ext cx="1764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5440" y="2031840"/>
              <a:ext cx="266400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89440" y="2031840"/>
              <a:ext cx="93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98800" y="2031840"/>
              <a:ext cx="9795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87720" y="2031840"/>
              <a:ext cx="88920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76920" y="2031840"/>
              <a:ext cx="936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86280" y="2031840"/>
              <a:ext cx="97812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64400" y="2031840"/>
              <a:ext cx="17280" cy="792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7800" y="2039760"/>
              <a:ext cx="1764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7800" y="268272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7800" y="2682720"/>
              <a:ext cx="1764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5440" y="2682720"/>
              <a:ext cx="26640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89440" y="2039760"/>
              <a:ext cx="936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89440" y="2682720"/>
              <a:ext cx="1872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08160" y="2682720"/>
              <a:ext cx="9702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8360" y="268272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97440" y="2682720"/>
              <a:ext cx="8794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2039760"/>
              <a:ext cx="936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76920" y="2682720"/>
              <a:ext cx="190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896000" y="2682720"/>
              <a:ext cx="96840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64400" y="2039760"/>
              <a:ext cx="17280" cy="64296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64400" y="268272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64400" y="2682720"/>
              <a:ext cx="17280" cy="17640"/>
            </a:xfrm>
            <a:prstGeom prst="rect">
              <a:avLst/>
            </a:prstGeom>
            <a:solidFill>
              <a:srgbClr val="003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1680" y="2049480"/>
              <a:ext cx="25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tempo de manut. (h)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86800" y="2370240"/>
              <a:ext cx="2126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número de empr.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02800" y="20494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71480" y="2370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99040" y="20494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08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8360" y="2370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5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21080" y="20494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12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83000" y="23702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530"/>
                  </a:solidFill>
                  <a:latin typeface="Arial"/>
                </a:rPr>
                <a:t>3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495040" y="5275440"/>
            <a:ext cx="3214800" cy="335520"/>
            <a:chOff x="5495040" y="5275440"/>
            <a:chExt cx="3214800" cy="335520"/>
          </a:xfrm>
        </p:grpSpPr>
        <p:sp>
          <p:nvSpPr>
            <p:cNvPr id="690" name=""/>
            <p:cNvSpPr/>
            <p:nvPr/>
          </p:nvSpPr>
          <p:spPr>
            <a:xfrm>
              <a:off x="7620840" y="52754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.6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95040" y="52754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17600" y="527544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4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285520" y="5624640"/>
            <a:ext cx="3443400" cy="335520"/>
            <a:chOff x="5285520" y="5624640"/>
            <a:chExt cx="3443400" cy="335520"/>
          </a:xfrm>
        </p:grpSpPr>
        <p:sp>
          <p:nvSpPr>
            <p:cNvPr id="694" name=""/>
            <p:cNvSpPr/>
            <p:nvPr/>
          </p:nvSpPr>
          <p:spPr>
            <a:xfrm>
              <a:off x="76399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0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855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.78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09520" y="562464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640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454480" y="5884920"/>
            <a:ext cx="3963960" cy="454680"/>
            <a:chOff x="2454480" y="5884920"/>
            <a:chExt cx="3963960" cy="454680"/>
          </a:xfrm>
        </p:grpSpPr>
        <p:sp>
          <p:nvSpPr>
            <p:cNvPr id="698" name=""/>
            <p:cNvSpPr/>
            <p:nvPr/>
          </p:nvSpPr>
          <p:spPr>
            <a:xfrm>
              <a:off x="2454480" y="5884920"/>
              <a:ext cx="321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tempo de manutençã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59560" y="5956200"/>
              <a:ext cx="758880" cy="179640"/>
            </a:xfrm>
            <a:custGeom>
              <a:avLst/>
              <a:gdLst/>
              <a:ahLst/>
              <a:rect l="l" t="t" r="r" b="b"/>
              <a:pathLst>
                <a:path w="478" h="113">
                  <a:moveTo>
                    <a:pt x="0" y="0"/>
                  </a:moveTo>
                  <a:lnTo>
                    <a:pt x="0" y="112"/>
                  </a:lnTo>
                  <a:lnTo>
                    <a:pt x="477" y="112"/>
                  </a:lnTo>
                </a:path>
              </a:pathLst>
            </a:custGeom>
            <a:noFill/>
            <a:ln cap="rnd" w="25560">
              <a:solidFill>
                <a:srgbClr val="081d5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509520" y="5964120"/>
            <a:ext cx="2213280" cy="335520"/>
            <a:chOff x="6509520" y="5964120"/>
            <a:chExt cx="2213280" cy="335520"/>
          </a:xfrm>
        </p:grpSpPr>
        <p:sp>
          <p:nvSpPr>
            <p:cNvPr id="701" name=""/>
            <p:cNvSpPr/>
            <p:nvPr/>
          </p:nvSpPr>
          <p:spPr>
            <a:xfrm>
              <a:off x="7867080" y="5964120"/>
              <a:ext cx="855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78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9520" y="596412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c0023"/>
                  </a:solidFill>
                  <a:latin typeface="Arial"/>
                </a:rPr>
                <a:t>1.602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490440" y="6305400"/>
            <a:ext cx="2219400" cy="335520"/>
            <a:chOff x="6490440" y="6305400"/>
            <a:chExt cx="2219400" cy="335520"/>
          </a:xfrm>
        </p:grpSpPr>
        <p:sp>
          <p:nvSpPr>
            <p:cNvPr id="704" name=""/>
            <p:cNvSpPr/>
            <p:nvPr/>
          </p:nvSpPr>
          <p:spPr>
            <a:xfrm>
              <a:off x="7620840" y="630540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3.258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90440" y="6305400"/>
              <a:ext cx="1089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279f"/>
                  </a:solidFill>
                  <a:latin typeface="Arial"/>
                </a:rPr>
                <a:t>5.242,00</a:t>
              </a:r>
              <a:endParaRPr b="0" lang="en-US" sz="2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4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Unidades de Trabalh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07" name=""/>
          <p:cNvSpPr/>
          <p:nvPr/>
        </p:nvSpPr>
        <p:spPr>
          <a:xfrm>
            <a:off x="849240" y="3968640"/>
            <a:ext cx="27000" cy="82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49240" y="3968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05040" y="40226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05040" y="40226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32040" y="3968640"/>
            <a:ext cx="8348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32040" y="4022640"/>
            <a:ext cx="8348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765440" y="3968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65440" y="4022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47880" y="39686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847880" y="40226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43280" y="3968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3280" y="40226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6080" y="3968640"/>
            <a:ext cx="2882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6080" y="4022640"/>
            <a:ext cx="2882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08960" y="3968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08960" y="40226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49240" y="405144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05040" y="405144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6544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0180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64328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8000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0896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645320" y="405144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32040" y="4051440"/>
            <a:ext cx="83484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32040" y="4408560"/>
            <a:ext cx="83484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20880" y="4051440"/>
            <a:ext cx="282240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20880" y="4398840"/>
            <a:ext cx="282240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699080" y="4051440"/>
            <a:ext cx="2911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699080" y="4398840"/>
            <a:ext cx="291132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49240" y="443880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05040" y="4438800"/>
            <a:ext cx="2700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76220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985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64040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767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0896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45320" y="4438800"/>
            <a:ext cx="19080" cy="388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32040" y="4438800"/>
            <a:ext cx="8316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32040" y="4797360"/>
            <a:ext cx="83160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817640" y="44388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817640" y="4788000"/>
            <a:ext cx="95904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76680" y="4438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76680" y="4788000"/>
            <a:ext cx="8985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75240" y="44388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675240" y="4788000"/>
            <a:ext cx="9651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95840" y="44388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95840" y="4788000"/>
            <a:ext cx="95868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54520" y="4438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654520" y="4788000"/>
            <a:ext cx="89856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3080" y="44388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53080" y="4788000"/>
            <a:ext cx="105732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05040" y="48276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9240" y="48276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32040" y="482760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32040" y="488160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220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6220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44640" y="482760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44640" y="488160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7668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7668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59120" y="48276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59120" y="48816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67524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7524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57680" y="482760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57680" y="488160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64040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4040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722840" y="48276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22840" y="48816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54520" y="4827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54520" y="4881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37320" y="48276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37320" y="48816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53080" y="4827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553080" y="48816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634080" y="48276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34080" y="48816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08960" y="4827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08960" y="48816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49240" y="49086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05040" y="49086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49240" y="5684760"/>
            <a:ext cx="27000" cy="828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4924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05040" y="56847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05040" y="56847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932040" y="568476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932040" y="5740560"/>
            <a:ext cx="8316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6220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7985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76220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6220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844640" y="568476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44640" y="5740560"/>
            <a:ext cx="9320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7668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7668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9120" y="56847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859120" y="57405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67524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67524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57680" y="568476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57680" y="5740560"/>
            <a:ext cx="8827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64040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767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64040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64040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722840" y="56847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722840" y="57405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54520" y="56847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5452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37320" y="56847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7320" y="57405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553080" y="56847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553080" y="57405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34080" y="56847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34080" y="57405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0896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45320" y="49086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08960" y="56847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08960" y="57405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932040" y="4908600"/>
            <a:ext cx="8316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932040" y="5267160"/>
            <a:ext cx="831600" cy="357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32040" y="5624640"/>
            <a:ext cx="831600" cy="60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817640" y="49086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817640" y="5257800"/>
            <a:ext cx="95904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817640" y="5607000"/>
            <a:ext cx="95904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76680" y="49086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776680" y="5257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776680" y="5607000"/>
            <a:ext cx="8985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675240" y="49086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75240" y="52578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75240" y="5607000"/>
            <a:ext cx="9651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695840" y="49086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695840" y="52848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695840" y="5661000"/>
            <a:ext cx="958680" cy="23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54520" y="49086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54520" y="52578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54520" y="5607000"/>
            <a:ext cx="89856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553080" y="49086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553080" y="52578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607000"/>
            <a:ext cx="1057320" cy="7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08640" y="4006800"/>
            <a:ext cx="844920" cy="1674360"/>
            <a:chOff x="908640" y="4006800"/>
            <a:chExt cx="844920" cy="1674360"/>
          </a:xfrm>
        </p:grpSpPr>
        <p:sp>
          <p:nvSpPr>
            <p:cNvPr id="851" name=""/>
            <p:cNvSpPr/>
            <p:nvPr/>
          </p:nvSpPr>
          <p:spPr>
            <a:xfrm>
              <a:off x="933120" y="4006800"/>
              <a:ext cx="794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Pr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08640" y="439560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du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49400" y="486540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49400" y="52228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438640" y="3962520"/>
            <a:ext cx="4595760" cy="458280"/>
            <a:chOff x="2438640" y="3962520"/>
            <a:chExt cx="4595760" cy="458280"/>
          </a:xfrm>
        </p:grpSpPr>
        <p:sp>
          <p:nvSpPr>
            <p:cNvPr id="856" name=""/>
            <p:cNvSpPr/>
            <p:nvPr/>
          </p:nvSpPr>
          <p:spPr>
            <a:xfrm>
              <a:off x="2438640" y="3962520"/>
              <a:ext cx="164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Usin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25480" y="3962520"/>
              <a:ext cx="1708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Mont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752120" y="4386240"/>
            <a:ext cx="3977280" cy="1306080"/>
            <a:chOff x="1752120" y="4386240"/>
            <a:chExt cx="3977280" cy="1306080"/>
          </a:xfrm>
        </p:grpSpPr>
        <p:grpSp>
          <p:nvGrpSpPr>
            <p:cNvPr id="859" name=""/>
            <p:cNvGrpSpPr/>
            <p:nvPr/>
          </p:nvGrpSpPr>
          <p:grpSpPr>
            <a:xfrm>
              <a:off x="1752120" y="4386240"/>
              <a:ext cx="1099440" cy="1277280"/>
              <a:chOff x="1752120" y="4386240"/>
              <a:chExt cx="1099440" cy="1277280"/>
            </a:xfrm>
          </p:grpSpPr>
          <p:sp>
            <p:nvSpPr>
              <p:cNvPr id="860" name=""/>
              <p:cNvSpPr/>
              <p:nvPr/>
            </p:nvSpPr>
            <p:spPr>
              <a:xfrm>
                <a:off x="1752120" y="4386240"/>
                <a:ext cx="1099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64520" y="48560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9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64520" y="52052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1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4629960" y="4386240"/>
              <a:ext cx="1099440" cy="1306080"/>
              <a:chOff x="4629960" y="4386240"/>
              <a:chExt cx="1099440" cy="1306080"/>
            </a:xfrm>
          </p:grpSpPr>
          <p:sp>
            <p:nvSpPr>
              <p:cNvPr id="864" name=""/>
              <p:cNvSpPr/>
              <p:nvPr/>
            </p:nvSpPr>
            <p:spPr>
              <a:xfrm>
                <a:off x="4629960" y="4386240"/>
                <a:ext cx="1099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tempo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26880" y="485748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0,1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826880" y="523404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e00"/>
                    </a:solidFill>
                    <a:latin typeface="Arial"/>
                  </a:rPr>
                  <a:t>1,4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3563640" y="4378320"/>
            <a:ext cx="4033080" cy="1277280"/>
            <a:chOff x="3563640" y="4378320"/>
            <a:chExt cx="4033080" cy="1277280"/>
          </a:xfrm>
        </p:grpSpPr>
        <p:grpSp>
          <p:nvGrpSpPr>
            <p:cNvPr id="868" name=""/>
            <p:cNvGrpSpPr/>
            <p:nvPr/>
          </p:nvGrpSpPr>
          <p:grpSpPr>
            <a:xfrm>
              <a:off x="6716880" y="4378320"/>
              <a:ext cx="879840" cy="1277280"/>
              <a:chOff x="6716880" y="4378320"/>
              <a:chExt cx="879840" cy="1277280"/>
            </a:xfrm>
          </p:grpSpPr>
          <p:sp>
            <p:nvSpPr>
              <p:cNvPr id="869" name=""/>
              <p:cNvSpPr/>
              <p:nvPr/>
            </p:nvSpPr>
            <p:spPr>
              <a:xfrm>
                <a:off x="6736680" y="4378320"/>
                <a:ext cx="590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UT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716880" y="48481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718320" y="5197320"/>
                <a:ext cx="8784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4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3563640" y="4378320"/>
              <a:ext cx="1070280" cy="1277280"/>
              <a:chOff x="3563640" y="4378320"/>
              <a:chExt cx="1070280" cy="1277280"/>
            </a:xfrm>
          </p:grpSpPr>
          <p:sp>
            <p:nvSpPr>
              <p:cNvPr id="873" name=""/>
              <p:cNvSpPr/>
              <p:nvPr/>
            </p:nvSpPr>
            <p:spPr>
              <a:xfrm>
                <a:off x="3563640" y="4378320"/>
                <a:ext cx="846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UT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70200" y="4848120"/>
                <a:ext cx="963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8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68760" y="5197320"/>
                <a:ext cx="9651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h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6" name=""/>
          <p:cNvGrpSpPr/>
          <p:nvPr/>
        </p:nvGrpSpPr>
        <p:grpSpPr>
          <a:xfrm>
            <a:off x="2756160" y="4378320"/>
            <a:ext cx="3960000" cy="1277280"/>
            <a:chOff x="2756160" y="4378320"/>
            <a:chExt cx="3960000" cy="1277280"/>
          </a:xfrm>
        </p:grpSpPr>
        <p:grpSp>
          <p:nvGrpSpPr>
            <p:cNvPr id="877" name=""/>
            <p:cNvGrpSpPr/>
            <p:nvPr/>
          </p:nvGrpSpPr>
          <p:grpSpPr>
            <a:xfrm>
              <a:off x="2756160" y="4378320"/>
              <a:ext cx="1064520" cy="1277280"/>
              <a:chOff x="2756160" y="4378320"/>
              <a:chExt cx="1064520" cy="1277280"/>
            </a:xfrm>
          </p:grpSpPr>
          <p:sp>
            <p:nvSpPr>
              <p:cNvPr id="878" name=""/>
              <p:cNvSpPr/>
              <p:nvPr/>
            </p:nvSpPr>
            <p:spPr>
              <a:xfrm>
                <a:off x="2773800" y="43783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Qt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56160" y="48481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756160" y="51973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5651640" y="4378320"/>
              <a:ext cx="1064520" cy="1277280"/>
              <a:chOff x="5651640" y="4378320"/>
              <a:chExt cx="1064520" cy="1277280"/>
            </a:xfrm>
          </p:grpSpPr>
          <p:sp>
            <p:nvSpPr>
              <p:cNvPr id="882" name=""/>
              <p:cNvSpPr/>
              <p:nvPr/>
            </p:nvSpPr>
            <p:spPr>
              <a:xfrm>
                <a:off x="5669280" y="4378320"/>
                <a:ext cx="87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</a:rPr>
                  <a:t>Qtde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651640" y="48481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651640" y="5197320"/>
                <a:ext cx="106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100un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3727800" y="5726160"/>
            <a:ext cx="3921840" cy="465840"/>
            <a:chOff x="3727800" y="5726160"/>
            <a:chExt cx="3921840" cy="465840"/>
          </a:xfrm>
        </p:grpSpPr>
        <p:sp>
          <p:nvSpPr>
            <p:cNvPr id="886" name=""/>
            <p:cNvSpPr/>
            <p:nvPr/>
          </p:nvSpPr>
          <p:spPr>
            <a:xfrm>
              <a:off x="3727800" y="5732280"/>
              <a:ext cx="95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90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613920" y="5726160"/>
              <a:ext cx="103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60 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762120" y="2514600"/>
            <a:ext cx="556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79f"/>
                </a:solidFill>
                <a:latin typeface="Arial"/>
              </a:rPr>
              <a:t>A unidade de trabalho é o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pt-BR" sz="2800" spc="-1" strike="noStrike">
                <a:solidFill>
                  <a:srgbClr val="00279f"/>
                </a:solidFill>
                <a:latin typeface="Arial"/>
              </a:rPr>
              <a:t> em ambos os centros</a:t>
            </a:r>
            <a:endParaRPr b="0" lang="en-US" sz="2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ustos dos Produto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90" name=""/>
          <p:cNvSpPr/>
          <p:nvPr/>
        </p:nvSpPr>
        <p:spPr>
          <a:xfrm>
            <a:off x="379440" y="446724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944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3488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3488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61880" y="4467240"/>
            <a:ext cx="8352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1880" y="4521240"/>
            <a:ext cx="8352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95280" y="44672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95280" y="452124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78080" y="44672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378080" y="4521240"/>
            <a:ext cx="27954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17348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73480" y="4521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255920" y="4467240"/>
            <a:ext cx="28832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255920" y="4521240"/>
            <a:ext cx="28832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13916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39160" y="4521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21600" y="446724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21600" y="452124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6960" y="446724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832960" y="446724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83296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832960" y="452124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44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3488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9528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33200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7348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21020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139160" y="454968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75520" y="454968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83296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886960" y="454968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1880" y="4549680"/>
            <a:ext cx="83520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61880" y="4906800"/>
            <a:ext cx="83520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51080" y="4549680"/>
            <a:ext cx="282240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51080" y="4897440"/>
            <a:ext cx="282240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29280" y="4549680"/>
            <a:ext cx="2911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229280" y="4897440"/>
            <a:ext cx="2911320" cy="39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194600" y="4549680"/>
            <a:ext cx="1638360" cy="3891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7944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3488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292400" y="493704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2876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17024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20696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39160" y="4937040"/>
            <a:ext cx="1872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175520" y="4937040"/>
            <a:ext cx="1908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83296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886960" y="4937040"/>
            <a:ext cx="27000" cy="389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61880" y="493704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1880" y="5295960"/>
            <a:ext cx="831960" cy="30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347840" y="493704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347840" y="5286240"/>
            <a:ext cx="95868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06520" y="493704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06520" y="5286240"/>
            <a:ext cx="8985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5080" y="493704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05080" y="5286240"/>
            <a:ext cx="9651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226040" y="493704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26040" y="5286240"/>
            <a:ext cx="95868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84720" y="493704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84720" y="5286240"/>
            <a:ext cx="89856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83280" y="493704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83280" y="5286240"/>
            <a:ext cx="1057320" cy="399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194600" y="4937040"/>
            <a:ext cx="1638360" cy="3891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488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944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1880" y="53262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1880" y="53802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9240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240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74840" y="5326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374840" y="5380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0652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0652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89320" y="53262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389320" y="53802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0508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0508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87880" y="53262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287880" y="53802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70240" y="5326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70240" y="53802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253040" y="5326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253040" y="53802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472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18472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67160" y="53262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267160" y="53802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08328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164280" y="53262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64280" y="53802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39160" y="5326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39160" y="53802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21600" y="53262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21600" y="53802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88696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832960" y="532620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944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488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9440" y="618336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944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488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3488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61880" y="618336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1880" y="6238800"/>
            <a:ext cx="8319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292400" y="5407200"/>
            <a:ext cx="1872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32876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9240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9240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374840" y="61833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374840" y="62388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0652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30652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389320" y="618336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389320" y="6238800"/>
            <a:ext cx="8157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20508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0508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87880" y="618336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287880" y="6238800"/>
            <a:ext cx="882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17024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20696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70240" y="618336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170240" y="6238800"/>
            <a:ext cx="828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53040" y="618336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253040" y="6238800"/>
            <a:ext cx="9316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8472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472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267160" y="618336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267160" y="6238800"/>
            <a:ext cx="81612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8328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8328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64280" y="618336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164280" y="6238800"/>
            <a:ext cx="97488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139160" y="5407200"/>
            <a:ext cx="1872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175520" y="5407200"/>
            <a:ext cx="1908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39160" y="618336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13916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21600" y="618336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21600" y="6238800"/>
            <a:ext cx="161136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83296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886960" y="5407200"/>
            <a:ext cx="27000" cy="77616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886960" y="6183360"/>
            <a:ext cx="27000" cy="8244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832960" y="6238800"/>
            <a:ext cx="8244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83296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832960" y="6183360"/>
            <a:ext cx="27000" cy="27000"/>
          </a:xfrm>
          <a:prstGeom prst="rect">
            <a:avLst/>
          </a:prstGeom>
          <a:solidFill>
            <a:srgbClr val="003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1880" y="540720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1880" y="5765760"/>
            <a:ext cx="831960" cy="3571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1880" y="6122880"/>
            <a:ext cx="831960" cy="604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347840" y="54072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347840" y="5756400"/>
            <a:ext cx="95868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347840" y="6105600"/>
            <a:ext cx="95868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306520" y="54072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06520" y="57564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306520" y="6105600"/>
            <a:ext cx="8985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205080" y="54072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205080" y="5756400"/>
            <a:ext cx="9651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205080" y="6105600"/>
            <a:ext cx="9651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226040" y="54072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226040" y="5783400"/>
            <a:ext cx="958680" cy="376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226040" y="6159600"/>
            <a:ext cx="958680" cy="237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84720" y="54072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4720" y="5756400"/>
            <a:ext cx="89856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184720" y="6105600"/>
            <a:ext cx="89856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83280" y="54072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83280" y="5756400"/>
            <a:ext cx="1057320" cy="34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83280" y="6105600"/>
            <a:ext cx="1057320" cy="792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194600" y="5407200"/>
            <a:ext cx="1638360" cy="388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94600" y="5796000"/>
            <a:ext cx="1638360" cy="388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9760" y="2762280"/>
            <a:ext cx="8773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00"/>
                </a:solidFill>
                <a:latin typeface="Arial"/>
              </a:rPr>
              <a:t>Custo unitário (usinagem)  = $ 5.242,00 / 190 h = $27,59/h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7680" y="3486240"/>
            <a:ext cx="881028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e00"/>
                </a:solidFill>
                <a:latin typeface="Arial"/>
              </a:rPr>
              <a:t>Custo unitário (montagem) = $ 3.258,00 / 160 h = $20,36/h</a:t>
            </a:r>
            <a:endParaRPr b="0" lang="en-US" sz="26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452160" y="4505400"/>
            <a:ext cx="844920" cy="1674360"/>
            <a:chOff x="452160" y="4505400"/>
            <a:chExt cx="844920" cy="1674360"/>
          </a:xfrm>
        </p:grpSpPr>
        <p:sp>
          <p:nvSpPr>
            <p:cNvPr id="1062" name=""/>
            <p:cNvSpPr/>
            <p:nvPr/>
          </p:nvSpPr>
          <p:spPr>
            <a:xfrm>
              <a:off x="475920" y="4505400"/>
              <a:ext cx="794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Pro-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52160" y="4894200"/>
              <a:ext cx="84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</a:rPr>
                <a:t>du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2200" y="536400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2200" y="5721480"/>
              <a:ext cx="55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980000" y="4495680"/>
            <a:ext cx="4511880" cy="458280"/>
            <a:chOff x="1980000" y="4495680"/>
            <a:chExt cx="4511880" cy="458280"/>
          </a:xfrm>
        </p:grpSpPr>
        <p:sp>
          <p:nvSpPr>
            <p:cNvPr id="1067" name=""/>
            <p:cNvSpPr/>
            <p:nvPr/>
          </p:nvSpPr>
          <p:spPr>
            <a:xfrm>
              <a:off x="1980000" y="4495680"/>
              <a:ext cx="155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Usin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66480" y="4495680"/>
              <a:ext cx="1625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Montagem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294920" y="4884840"/>
            <a:ext cx="1032480" cy="1277280"/>
            <a:chOff x="1294920" y="4884840"/>
            <a:chExt cx="1032480" cy="1277280"/>
          </a:xfrm>
        </p:grpSpPr>
        <p:sp>
          <p:nvSpPr>
            <p:cNvPr id="1070" name=""/>
            <p:cNvSpPr/>
            <p:nvPr/>
          </p:nvSpPr>
          <p:spPr>
            <a:xfrm>
              <a:off x="1294920" y="48848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95440" y="53546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9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95440" y="57038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1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160520" y="4884840"/>
            <a:ext cx="1032480" cy="1306080"/>
            <a:chOff x="4160520" y="4884840"/>
            <a:chExt cx="1032480" cy="1306080"/>
          </a:xfrm>
        </p:grpSpPr>
        <p:sp>
          <p:nvSpPr>
            <p:cNvPr id="1074" name=""/>
            <p:cNvSpPr/>
            <p:nvPr/>
          </p:nvSpPr>
          <p:spPr>
            <a:xfrm>
              <a:off x="4160520" y="48848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temp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357800" y="535608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0,1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57800" y="5732640"/>
              <a:ext cx="77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1,4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271960" y="4884840"/>
            <a:ext cx="947160" cy="1277280"/>
            <a:chOff x="2271960" y="4884840"/>
            <a:chExt cx="947160" cy="1277280"/>
          </a:xfrm>
        </p:grpSpPr>
        <p:sp>
          <p:nvSpPr>
            <p:cNvPr id="1078" name=""/>
            <p:cNvSpPr/>
            <p:nvPr/>
          </p:nvSpPr>
          <p:spPr>
            <a:xfrm>
              <a:off x="2455560" y="4884840"/>
              <a:ext cx="60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7196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7,5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27196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7,59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15160" y="4884840"/>
            <a:ext cx="948600" cy="1277280"/>
            <a:chOff x="3215160" y="4884840"/>
            <a:chExt cx="948600" cy="1277280"/>
          </a:xfrm>
        </p:grpSpPr>
        <p:sp>
          <p:nvSpPr>
            <p:cNvPr id="1082" name=""/>
            <p:cNvSpPr/>
            <p:nvPr/>
          </p:nvSpPr>
          <p:spPr>
            <a:xfrm>
              <a:off x="3246120" y="4884840"/>
              <a:ext cx="913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1660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4,83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15160" y="5703840"/>
              <a:ext cx="94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,7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150160" y="4884840"/>
            <a:ext cx="947160" cy="1277280"/>
            <a:chOff x="5150160" y="4884840"/>
            <a:chExt cx="947160" cy="1277280"/>
          </a:xfrm>
        </p:grpSpPr>
        <p:sp>
          <p:nvSpPr>
            <p:cNvPr id="1086" name=""/>
            <p:cNvSpPr/>
            <p:nvPr/>
          </p:nvSpPr>
          <p:spPr>
            <a:xfrm>
              <a:off x="5331960" y="4884840"/>
              <a:ext cx="608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/h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50160" y="53546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0,3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5016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e00"/>
                  </a:solidFill>
                  <a:latin typeface="Arial"/>
                </a:rPr>
                <a:t>20,36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134760" y="4884840"/>
            <a:ext cx="948600" cy="1277280"/>
            <a:chOff x="6134760" y="4884840"/>
            <a:chExt cx="948600" cy="1277280"/>
          </a:xfrm>
        </p:grpSpPr>
        <p:sp>
          <p:nvSpPr>
            <p:cNvPr id="1090" name=""/>
            <p:cNvSpPr/>
            <p:nvPr/>
          </p:nvSpPr>
          <p:spPr>
            <a:xfrm>
              <a:off x="6166800" y="4884840"/>
              <a:ext cx="913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34760" y="5354640"/>
              <a:ext cx="948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,04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35840" y="5703840"/>
              <a:ext cx="94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28,51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7313760" y="4495680"/>
            <a:ext cx="1398240" cy="1734840"/>
            <a:chOff x="7313760" y="4495680"/>
            <a:chExt cx="1398240" cy="1734840"/>
          </a:xfrm>
        </p:grpSpPr>
        <p:sp>
          <p:nvSpPr>
            <p:cNvPr id="1094" name=""/>
            <p:cNvSpPr/>
            <p:nvPr/>
          </p:nvSpPr>
          <p:spPr>
            <a:xfrm>
              <a:off x="7452720" y="4495680"/>
              <a:ext cx="11239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81d58"/>
                  </a:solidFill>
                  <a:latin typeface="Arial"/>
                </a:rPr>
                <a:t>Cust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313760" y="4884840"/>
              <a:ext cx="13982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81d58"/>
                  </a:solidFill>
                  <a:latin typeface="Arial"/>
                </a:rPr>
                <a:t>unitário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06720" y="5354640"/>
              <a:ext cx="10141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e00"/>
                  </a:solidFill>
                  <a:latin typeface="Arial"/>
                </a:rPr>
                <a:t>26,87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06720" y="5742000"/>
              <a:ext cx="10141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e00"/>
                  </a:solidFill>
                  <a:latin typeface="Arial"/>
                </a:rPr>
                <a:t>31,27</a:t>
              </a:r>
              <a:endParaRPr b="0" lang="en-US" sz="26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9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aracterística Principal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8080" y="2742840"/>
            <a:ext cx="8388360" cy="3962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Organização dividida em centros de custos, aos quais os custos são alocados atravé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s de distribuiçã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os centros, os custos são repassados aos produ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3000" y="1835280"/>
            <a:ext cx="5465520" cy="1739880"/>
            <a:chOff x="243000" y="1835280"/>
            <a:chExt cx="5465520" cy="1739880"/>
          </a:xfrm>
        </p:grpSpPr>
        <p:sp>
          <p:nvSpPr>
            <p:cNvPr id="49" name=""/>
            <p:cNvSpPr/>
            <p:nvPr/>
          </p:nvSpPr>
          <p:spPr>
            <a:xfrm>
              <a:off x="243000" y="1835280"/>
              <a:ext cx="546552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23840" y="202896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Empres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181160" y="2660760"/>
            <a:ext cx="3598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e00"/>
                </a:solidFill>
                <a:latin typeface="Arial"/>
              </a:rPr>
              <a:t>Custos = $ 1.0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53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846520" y="3889440"/>
            <a:ext cx="2415960" cy="687240"/>
            <a:chOff x="2846520" y="3889440"/>
            <a:chExt cx="2415960" cy="687240"/>
          </a:xfrm>
        </p:grpSpPr>
        <p:sp>
          <p:nvSpPr>
            <p:cNvPr id="60" name=""/>
            <p:cNvSpPr/>
            <p:nvPr/>
          </p:nvSpPr>
          <p:spPr>
            <a:xfrm>
              <a:off x="2846520" y="3889440"/>
              <a:ext cx="1440" cy="687240"/>
            </a:xfrm>
            <a:prstGeom prst="line">
              <a:avLst/>
            </a:prstGeom>
            <a:ln w="76320">
              <a:solidFill>
                <a:srgbClr val="3c002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89160" y="3956040"/>
              <a:ext cx="2173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3c0023"/>
                  </a:solidFill>
                  <a:latin typeface="Arial"/>
                </a:rPr>
                <a:t>Distribuição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8040" y="5784840"/>
            <a:ext cx="5388840" cy="545760"/>
            <a:chOff x="248040" y="5784840"/>
            <a:chExt cx="5388840" cy="545760"/>
          </a:xfrm>
        </p:grpSpPr>
        <p:sp>
          <p:nvSpPr>
            <p:cNvPr id="63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18960" y="1606680"/>
            <a:ext cx="5542200" cy="1739880"/>
            <a:chOff x="318960" y="1606680"/>
            <a:chExt cx="5542200" cy="1739880"/>
          </a:xfrm>
        </p:grpSpPr>
        <p:sp>
          <p:nvSpPr>
            <p:cNvPr id="67" name=""/>
            <p:cNvSpPr/>
            <p:nvPr/>
          </p:nvSpPr>
          <p:spPr>
            <a:xfrm>
              <a:off x="318960" y="1606680"/>
              <a:ext cx="554220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8296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16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71640" y="17240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76400" y="1724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263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81d58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2912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6e0043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360" y="2508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87720" y="161604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18960" y="5187960"/>
            <a:ext cx="5813640" cy="1359000"/>
            <a:chOff x="318960" y="5187960"/>
            <a:chExt cx="5813640" cy="1359000"/>
          </a:xfrm>
        </p:grpSpPr>
        <p:sp>
          <p:nvSpPr>
            <p:cNvPr id="77" name=""/>
            <p:cNvSpPr/>
            <p:nvPr/>
          </p:nvSpPr>
          <p:spPr>
            <a:xfrm>
              <a:off x="318960" y="5187960"/>
              <a:ext cx="247356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88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1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06920" y="5187960"/>
              <a:ext cx="2425680" cy="1359000"/>
            </a:xfrm>
            <a:prstGeom prst="roundRect">
              <a:avLst>
                <a:gd name="adj" fmla="val 12477"/>
              </a:avLst>
            </a:prstGeom>
            <a:solidFill>
              <a:srgbClr val="fcfeb9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0080" y="5327640"/>
              <a:ext cx="20865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Produto P2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520" y="1522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403236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82720" y="3264840"/>
            <a:ext cx="3938400" cy="1904040"/>
            <a:chOff x="882720" y="3264840"/>
            <a:chExt cx="3938400" cy="1904040"/>
          </a:xfrm>
        </p:grpSpPr>
        <p:sp>
          <p:nvSpPr>
            <p:cNvPr id="84" name=""/>
            <p:cNvSpPr/>
            <p:nvPr/>
          </p:nvSpPr>
          <p:spPr>
            <a:xfrm>
              <a:off x="1395360" y="3368520"/>
              <a:ext cx="3425760" cy="18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380000">
              <a:off x="1882800" y="34142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14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82720" y="3368520"/>
              <a:ext cx="689040" cy="1800360"/>
              <a:chOff x="882720" y="3368520"/>
              <a:chExt cx="689040" cy="1800360"/>
            </a:xfrm>
          </p:grpSpPr>
          <p:sp>
            <p:nvSpPr>
              <p:cNvPr id="87" name=""/>
              <p:cNvSpPr/>
              <p:nvPr/>
            </p:nvSpPr>
            <p:spPr>
              <a:xfrm>
                <a:off x="1312920" y="4206960"/>
                <a:ext cx="0" cy="9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12920" y="3368520"/>
                <a:ext cx="0" cy="35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82720" y="3795840"/>
                <a:ext cx="689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60</a:t>
                </a:r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1302840" y="3368520"/>
            <a:ext cx="3729240" cy="1800360"/>
            <a:chOff x="1302840" y="3368520"/>
            <a:chExt cx="3729240" cy="1800360"/>
          </a:xfrm>
        </p:grpSpPr>
        <p:sp>
          <p:nvSpPr>
            <p:cNvPr id="91" name=""/>
            <p:cNvSpPr/>
            <p:nvPr/>
          </p:nvSpPr>
          <p:spPr>
            <a:xfrm flipH="1">
              <a:off x="1302840" y="3368520"/>
              <a:ext cx="178308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89160" y="3368520"/>
              <a:ext cx="1800360" cy="180036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80000">
              <a:off x="1458000" y="410004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8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580000">
              <a:off x="4133880" y="43290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Arial"/>
                </a:rPr>
                <a:t>$12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9520" y="3265200"/>
            <a:ext cx="3960360" cy="1903680"/>
            <a:chOff x="1379520" y="3265200"/>
            <a:chExt cx="3960360" cy="1903680"/>
          </a:xfrm>
        </p:grpSpPr>
        <p:sp>
          <p:nvSpPr>
            <p:cNvPr id="96" name=""/>
            <p:cNvSpPr/>
            <p:nvPr/>
          </p:nvSpPr>
          <p:spPr>
            <a:xfrm>
              <a:off x="4978440" y="4282920"/>
              <a:ext cx="0" cy="885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379520" y="3368520"/>
              <a:ext cx="3611520" cy="18003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81640" y="38718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4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280000">
              <a:off x="3635640" y="3414600"/>
              <a:ext cx="85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</a:rPr>
                <a:t>$100</a:t>
              </a:r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978440" y="3265200"/>
              <a:ext cx="0" cy="55548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3320" y="5937120"/>
            <a:ext cx="5095080" cy="545760"/>
            <a:chOff x="643320" y="5937120"/>
            <a:chExt cx="5095080" cy="545760"/>
          </a:xfrm>
        </p:grpSpPr>
        <p:sp>
          <p:nvSpPr>
            <p:cNvPr id="102" name=""/>
            <p:cNvSpPr/>
            <p:nvPr/>
          </p:nvSpPr>
          <p:spPr>
            <a:xfrm>
              <a:off x="64332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4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75560" y="593712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66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Formação dos Centros 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8080" y="2819160"/>
            <a:ext cx="8388360" cy="3886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entros determinados por motivos de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organizaçã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localizaçã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responsabil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homogeneidade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De acordo com o relacionamento com os produtos, os centros de custos podem ser classificados em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Diret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6e0043"/>
                </a:solidFill>
                <a:latin typeface="Arial"/>
              </a:rPr>
              <a:t>Indiret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Homogene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2120" y="2895480"/>
            <a:ext cx="8616960" cy="38102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Um centro é homogêneo se o trabalho realizado nele independe do produto que o utiliza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o mais homogêneos forem os centros (seções), melhor será a qualidade da distribuição dos custos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da12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60" y="533520"/>
            <a:ext cx="563076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s de Seções Produtiva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3120" y="3319560"/>
            <a:ext cx="8764560" cy="3962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ção composta por tornos similar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Seção de tornos automáticos, revólver e universai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Teares do mesmo tipo, largura e velocidade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Teares de diferentes larguras, tipos e veloc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174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003e00"/>
                </a:solidFill>
                <a:latin typeface="Arial"/>
              </a:rPr>
              <a:t>Seção de prensas de mesmo tipo e tamanho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  <a:p>
            <a:pPr marL="318960" indent="-318960" algn="just">
              <a:lnSpc>
                <a:spcPct val="95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6e0043"/>
                </a:solidFill>
                <a:latin typeface="Arial"/>
              </a:rPr>
              <a:t>Prensas de várias capacidades.</a:t>
            </a:r>
            <a:endParaRPr b="0" lang="en-US" sz="28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200" y="2714760"/>
            <a:ext cx="758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ções homogêneas e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e0043"/>
                </a:solidFill>
                <a:latin typeface="Arial"/>
              </a:rPr>
              <a:t>não homogêneas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58680" rIns="5868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12" name=""/>
          <p:cNvSpPr/>
          <p:nvPr/>
        </p:nvSpPr>
        <p:spPr>
          <a:xfrm>
            <a:off x="243000" y="1835280"/>
            <a:ext cx="5465520" cy="1739880"/>
          </a:xfrm>
          <a:prstGeom prst="rect">
            <a:avLst/>
          </a:prstGeom>
          <a:solidFill>
            <a:srgbClr val="fcfeb9"/>
          </a:solidFill>
          <a:ln w="12600">
            <a:solidFill>
              <a:srgbClr val="3c0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23840" y="2028960"/>
            <a:ext cx="180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presa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1160" y="2660760"/>
            <a:ext cx="35982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e00"/>
                </a:solidFill>
                <a:latin typeface="Arial"/>
              </a:rPr>
              <a:t>Custos = $ 1.000,00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46520" y="3889440"/>
            <a:ext cx="1440" cy="687240"/>
          </a:xfrm>
          <a:prstGeom prst="line">
            <a:avLst/>
          </a:prstGeom>
          <a:ln w="76320">
            <a:solidFill>
              <a:srgbClr val="3c002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6680" y="4883040"/>
            <a:ext cx="5541840" cy="1739880"/>
            <a:chOff x="166680" y="4883040"/>
            <a:chExt cx="5541840" cy="1739880"/>
          </a:xfrm>
        </p:grpSpPr>
        <p:sp>
          <p:nvSpPr>
            <p:cNvPr id="117" name=""/>
            <p:cNvSpPr/>
            <p:nvPr/>
          </p:nvSpPr>
          <p:spPr>
            <a:xfrm>
              <a:off x="166680" y="4883040"/>
              <a:ext cx="5541840" cy="1739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032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488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9360" y="500076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4120" y="500076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4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5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68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3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040" y="5784840"/>
              <a:ext cx="1662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3e00"/>
                  </a:solidFill>
                  <a:latin typeface="Arial"/>
                </a:rPr>
                <a:t>$ 200,00</a:t>
              </a:r>
              <a:endParaRPr b="0" lang="en-US" sz="30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5440" y="4892760"/>
              <a:ext cx="0" cy="1724040"/>
            </a:xfrm>
            <a:prstGeom prst="line">
              <a:avLst/>
            </a:prstGeom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089160" y="3956040"/>
            <a:ext cx="2173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0023"/>
                </a:solidFill>
                <a:latin typeface="Arial"/>
              </a:rPr>
              <a:t>Distribuição</a:t>
            </a:r>
            <a:endParaRPr b="0" lang="en-US" sz="30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8T06:47:06Z</dcterms:created>
  <dc:creator>Adrian C. Ferreira</dc:creator>
  <dc:description/>
  <cp:keywords/>
  <dc:language>en-US</dc:language>
  <cp:lastModifiedBy>Rafael</cp:lastModifiedBy>
  <dcterms:modified xsi:type="dcterms:W3CDTF">2009-03-06T01:01:21Z</dcterms:modified>
  <cp:revision>18541</cp:revision>
  <dc:subject/>
  <dc:title>CUSTEIO BASEADO EM ATIVIDADES</dc:title>
</cp:coreProperties>
</file>