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LASER.WAV" ContentType="audio/x-wav"/>
  <Override PartName="/ppt/media/CAMERA.WAV" ContentType="audio/x-wav"/>
  <Override PartName="/ppt/media/image2.wmf" ContentType="image/x-wmf"/>
  <Override PartName="/ppt/media/image3.wmf" ContentType="image/x-wmf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A7E-A196-4252-82C6-07A782D7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A84-D471-4AD9-A24B-109CD406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4EB-D0C6-46CD-82F5-F5ED6430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EE4-4E7F-491B-9A2D-C7EDB87F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C81-02F3-4681-824B-ADC768B3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4C9-898C-4A78-815A-4072AFE8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C24-75AE-4880-B97B-D2F637FF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058-640A-4B3F-8AB6-909047D5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852-D023-4025-B944-CD65290E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B16-7354-4A81-BD48-963DCA23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58C-8079-4B6B-8143-2E68740D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F7C-7695-4CDF-BBCC-07A21871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B3B6-D288-4655-A85C-7AF43B1381A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59480" y="1440"/>
            <a:ext cx="177804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resentação baseada no livro “Análise gerencial de custos: aplicação em empresas modernas”, de Antonio Cezar B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t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2743200"/>
            <a:ext cx="9144000" cy="3733920"/>
            <a:chOff x="0" y="2743200"/>
            <a:chExt cx="9144000" cy="3733920"/>
          </a:xfrm>
        </p:grpSpPr>
        <p:sp>
          <p:nvSpPr>
            <p:cNvPr id="70" name=""/>
            <p:cNvSpPr/>
            <p:nvPr/>
          </p:nvSpPr>
          <p:spPr>
            <a:xfrm>
              <a:off x="999000" y="5533200"/>
              <a:ext cx="17125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Estoque de Matéria-Pr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67960" y="5533200"/>
              <a:ext cx="17125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Estoque de Produtos em Pro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79480" y="5533200"/>
              <a:ext cx="17125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Estoque de Produtos Acab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0" y="2743200"/>
              <a:ext cx="9144000" cy="2831400"/>
              <a:chOff x="0" y="2743200"/>
              <a:chExt cx="9144000" cy="2831400"/>
            </a:xfrm>
          </p:grpSpPr>
          <p:sp>
            <p:nvSpPr>
              <p:cNvPr id="74" name=""/>
              <p:cNvSpPr/>
              <p:nvPr/>
            </p:nvSpPr>
            <p:spPr>
              <a:xfrm>
                <a:off x="1284480" y="3282480"/>
                <a:ext cx="1284480" cy="215748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53440" y="3012840"/>
                <a:ext cx="1284480" cy="242712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64960" y="2743200"/>
                <a:ext cx="1284480" cy="26967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0" y="3147480"/>
                <a:ext cx="9144000" cy="2427120"/>
                <a:chOff x="0" y="3147480"/>
                <a:chExt cx="9144000" cy="2427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142560" y="5439600"/>
                  <a:ext cx="899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42560" y="5574600"/>
                  <a:ext cx="899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588760" y="5132520"/>
                  <a:ext cx="128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67440" y="5132520"/>
                  <a:ext cx="142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52280" y="5116680"/>
                  <a:ext cx="1141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859520" y="5132520"/>
                  <a:ext cx="128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41480" y="5115600"/>
                  <a:ext cx="1440" cy="45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9133560" y="5129640"/>
                  <a:ext cx="1800" cy="44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42560" y="3821400"/>
                  <a:ext cx="1141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137920" y="4226040"/>
                  <a:ext cx="142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849440" y="4226040"/>
                  <a:ext cx="1141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568960" y="3821400"/>
                  <a:ext cx="128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849440" y="3551760"/>
                  <a:ext cx="12844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Produtos Vendid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137920" y="3551760"/>
                  <a:ext cx="142704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Produtos Fabricad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0" y="3147480"/>
                  <a:ext cx="12844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Compras de M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854440" y="4428360"/>
                  <a:ext cx="114156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Outros Insum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568960" y="3147480"/>
                  <a:ext cx="1284480" cy="67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MP utiliz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427040" y="3956400"/>
                  <a:ext cx="7135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M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996000" y="3956400"/>
                  <a:ext cx="7135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P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707880" y="3956400"/>
                  <a:ext cx="7135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P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97000" y="4428360"/>
                  <a:ext cx="85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417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 dos produtos vend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91840" y="3470400"/>
            <a:ext cx="8138160" cy="2241720"/>
            <a:chOff x="591840" y="3470400"/>
            <a:chExt cx="8138160" cy="2241720"/>
          </a:xfrm>
        </p:grpSpPr>
        <p:sp>
          <p:nvSpPr>
            <p:cNvPr id="101" name=""/>
            <p:cNvSpPr/>
            <p:nvPr/>
          </p:nvSpPr>
          <p:spPr>
            <a:xfrm>
              <a:off x="591840" y="3470400"/>
              <a:ext cx="8138160" cy="2241720"/>
            </a:xfrm>
            <a:prstGeom prst="rect">
              <a:avLst/>
            </a:prstGeom>
            <a:noFill/>
            <a:ln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Inventário inicial de produtos acaba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( + )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790015"/>
                  </a:solidFill>
                  <a:latin typeface="Arial"/>
                </a:rPr>
                <a:t>Custos dos produtos fabrica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( - )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Inventario final de produtos acaba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99"/>
                </a:spcBef>
                <a:spcAft>
                  <a:spcPts val="15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( = )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usto dos produtos vendi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2280" y="5029200"/>
              <a:ext cx="7988040" cy="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s dos Produtos Fabri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9880" y="3470400"/>
            <a:ext cx="8703720" cy="2241720"/>
            <a:chOff x="209880" y="3470400"/>
            <a:chExt cx="8703720" cy="2241720"/>
          </a:xfrm>
        </p:grpSpPr>
        <p:sp>
          <p:nvSpPr>
            <p:cNvPr id="105" name=""/>
            <p:cNvSpPr/>
            <p:nvPr/>
          </p:nvSpPr>
          <p:spPr>
            <a:xfrm>
              <a:off x="209880" y="3470400"/>
              <a:ext cx="8703720" cy="2241720"/>
            </a:xfrm>
            <a:prstGeom prst="rect">
              <a:avLst/>
            </a:prstGeom>
            <a:noFill/>
            <a:ln w="1260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Inventário inicial de produtos em proces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( + )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790015"/>
                  </a:solidFill>
                  <a:latin typeface="Arial"/>
                </a:rPr>
                <a:t>Custos do perío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( - )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Inventario final de produtos em proces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99"/>
                </a:spcBef>
                <a:spcAft>
                  <a:spcPts val="15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( = )</a:t>
              </a:r>
              <a:r>
                <a:rPr b="0" lang="en-US" sz="3200" spc="-1" strike="noStrike">
                  <a:solidFill>
                    <a:srgbClr val="003e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ustos dos produtos fabricad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1040" y="5029200"/>
              <a:ext cx="8521920" cy="0"/>
            </a:xfrm>
            <a:prstGeom prst="line">
              <a:avLst/>
            </a:prstGeom>
            <a:ln w="12600">
              <a:solidFill>
                <a:srgbClr val="003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éria-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9240" y="3038400"/>
            <a:ext cx="8592840" cy="2401920"/>
            <a:chOff x="219240" y="3038400"/>
            <a:chExt cx="8592840" cy="2401920"/>
          </a:xfrm>
        </p:grpSpPr>
        <p:graphicFrame>
          <p:nvGraphicFramePr>
            <p:cNvPr id="109" name=""/>
            <p:cNvGraphicFramePr/>
            <p:nvPr/>
          </p:nvGraphicFramePr>
          <p:xfrm>
            <a:off x="219240" y="3038400"/>
            <a:ext cx="8592840" cy="2401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240" y="3038400"/>
                      <a:ext cx="8592840" cy="24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1073160" y="4800600"/>
              <a:ext cx="593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2133720"/>
            <a:ext cx="9144000" cy="5257800"/>
            <a:chOff x="0" y="2133720"/>
            <a:chExt cx="9144000" cy="5257800"/>
          </a:xfrm>
        </p:grpSpPr>
        <p:sp>
          <p:nvSpPr>
            <p:cNvPr id="113" name=""/>
            <p:cNvSpPr/>
            <p:nvPr/>
          </p:nvSpPr>
          <p:spPr>
            <a:xfrm>
              <a:off x="304920" y="5504040"/>
              <a:ext cx="1689120" cy="18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II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+ compras 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-  IF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= 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3720" y="3233880"/>
              <a:ext cx="963360" cy="1952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0800" y="2990880"/>
              <a:ext cx="961920" cy="2195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23000" y="2746440"/>
              <a:ext cx="965160" cy="24400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200" y="5186520"/>
              <a:ext cx="67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6200" y="5308560"/>
              <a:ext cx="67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4280" y="4908600"/>
              <a:ext cx="96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850080" y="4905360"/>
              <a:ext cx="144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6200" y="3722760"/>
              <a:ext cx="8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2720" y="4087800"/>
              <a:ext cx="107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88160" y="4087800"/>
              <a:ext cx="8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8880" y="3444840"/>
              <a:ext cx="96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8160" y="3478320"/>
              <a:ext cx="961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P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52720" y="3478320"/>
              <a:ext cx="1070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3112920"/>
              <a:ext cx="1219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mpr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5720" y="3589200"/>
              <a:ext cx="8557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M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2930400"/>
              <a:ext cx="9633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6680" y="2562120"/>
              <a:ext cx="7621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8120" y="2317680"/>
              <a:ext cx="761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2133720"/>
              <a:ext cx="7621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35240" y="403560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22640" y="458964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22480" y="4179960"/>
              <a:ext cx="85572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62920" y="3481560"/>
              <a:ext cx="1981080" cy="238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ece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- CP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= Lucro B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-  Despes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= Lucro Líqu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72400" y="2971800"/>
              <a:ext cx="838080" cy="40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D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0" y="5504040"/>
              <a:ext cx="2895480" cy="18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II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+custos (MP+MOD+CI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-  IF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= C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34120" y="5504040"/>
              <a:ext cx="1218960" cy="18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II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+ C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-  IF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= CP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400" y="2819520"/>
            <a:ext cx="8950320" cy="3303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valor dos insumos adquiridos pe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 algn="just">
              <a:spcBef>
                <a:spcPts val="2200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usto de Fabric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valor dos insumos usados na fabricação dos produtos d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3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3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400" y="2819520"/>
            <a:ext cx="8950320" cy="3303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espe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valor dos insumos consumidos para outras funções que não a fabric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 algn="just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usto Geren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valor dos insumos utilizados n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3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3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60" y="2819520"/>
            <a:ext cx="8950320" cy="3303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er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valor dos bens e serviços consumidos de forma anormal e involuntá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esperdício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 - valor dos insumos utilizados de forma não efi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usto ide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valor dos insumos usados  </a:t>
            </a:r>
            <a:r>
              <a:rPr b="1" lang="en-US" sz="3200" spc="-1" strike="noStrike">
                <a:solidFill>
                  <a:srgbClr val="3c0023"/>
                </a:solidFill>
                <a:latin typeface="Arial"/>
              </a:rPr>
              <a:t>eficientemente </a:t>
            </a:r>
            <a:r>
              <a:rPr b="0" lang="en-US" sz="3200" spc="-1" strike="noStrike">
                <a:solidFill>
                  <a:srgbClr val="3c0023"/>
                </a:solidFill>
                <a:latin typeface="Arial"/>
              </a:rPr>
              <a:t>pela empre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s de Fabr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en-US" sz="3100" spc="-1" strike="noStrike">
                <a:solidFill>
                  <a:srgbClr val="3c0023"/>
                </a:solidFill>
                <a:latin typeface="Arial"/>
              </a:rPr>
              <a:t>custos de fabricaçã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são a soma dos custos de </a:t>
            </a: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matéria-prim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MP), </a:t>
            </a: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mão-de-obra diret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MOD) e </a:t>
            </a: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s indiretos de fabricaçã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CIF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8640" y="5299200"/>
            <a:ext cx="5163480" cy="576360"/>
          </a:xfrm>
          <a:prstGeom prst="rect">
            <a:avLst/>
          </a:prstGeom>
          <a:noFill/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Book Antiqua"/>
              </a:rPr>
              <a:t>Custos = MP + MOD + C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éria-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00" y="2895120"/>
            <a:ext cx="8769240" cy="3883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laciona-se com os materiais integrantes do produto acabado que podem ser relacionados a ele de forma conveniente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guns materiais pouco relevantes em termos de custos, como parafusos, pregos, etc, podem ser considerados material de consum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8320" y="2133360"/>
            <a:ext cx="5935680" cy="133164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ust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4200" y="4229280"/>
            <a:ext cx="555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Book Antiqua"/>
              </a:rPr>
              <a:t>Conceitos Básic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424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ão-de-Obra Dir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4078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ustos (salários + encargos) do trabalho humano relacionado com a fabricação do produt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balhadores em atividades de suporte, como supervisores, são denominados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ão-de-obra indiret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20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s Indiret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 Fabr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73492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dos os outros custos de produção, com exceção da matéria-prima e da mão-de-obra direta, são denominados </a:t>
            </a:r>
            <a:r>
              <a:rPr b="1" lang="en-US" sz="3100" spc="-1" strike="noStrike">
                <a:solidFill>
                  <a:srgbClr val="00279f"/>
                </a:solidFill>
                <a:latin typeface="Arial"/>
              </a:rPr>
              <a:t>custos indiretos de fabricaçã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s de Transfor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s </a:t>
            </a:r>
            <a:r>
              <a:rPr b="1" lang="en-US" sz="3100" spc="-1" strike="noStrike">
                <a:solidFill>
                  <a:srgbClr val="3c0023"/>
                </a:solidFill>
                <a:latin typeface="Arial"/>
              </a:rPr>
              <a:t>custos de transformação</a:t>
            </a:r>
            <a:r>
              <a:rPr b="0" lang="en-US" sz="3100" spc="-1" strike="noStrike">
                <a:solidFill>
                  <a:srgbClr val="3c0023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CT) são a soma dos custos de </a:t>
            </a: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mão-de-obra diret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MOD) e </a:t>
            </a: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custos indiretos de fabricaçã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CIF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18840" y="4842000"/>
            <a:ext cx="3144240" cy="576360"/>
          </a:xfrm>
          <a:prstGeom prst="rect">
            <a:avLst/>
          </a:prstGeom>
          <a:noFill/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Book Antiqua"/>
              </a:rPr>
              <a:t>CT = MOD + C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9480" y="228240"/>
            <a:ext cx="56451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192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Cia Exemplar Ltda apresentou a seguinte informação em 200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Vendas do a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.000 un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200 / un. 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Estoques no começo do a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téria-prima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 4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dutos em proces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 8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dutos acab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 5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Estoques no fim do 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téria-prim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 5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dutos em processo     $ 4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dutos acab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 6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ompras de MP no a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36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Custos de M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16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CIF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002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15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743200"/>
            <a:ext cx="3276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00"/>
                </a:solidFill>
                <a:latin typeface="Arial"/>
              </a:rPr>
              <a:t>Despesas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00"/>
                </a:solidFill>
                <a:latin typeface="Arial"/>
              </a:rPr>
              <a:t>- $ 10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sente o lucro líquido da empresa, através de uma Demonstração de Resultados do Exercí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2857680"/>
            <a:ext cx="0" cy="3886200"/>
          </a:xfrm>
          <a:prstGeom prst="line">
            <a:avLst/>
          </a:prstGeom>
          <a:ln w="7632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0" dur="5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77680"/>
            <a:ext cx="8229600" cy="3775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>
              <a:spcBef>
                <a:spcPts val="799"/>
              </a:spcBef>
              <a:buClr>
                <a:srgbClr val="003e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Idade Moderna  - Produção artesa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Empresas comerci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 algn="just">
              <a:spcBef>
                <a:spcPts val="799"/>
              </a:spcBef>
              <a:buClr>
                <a:srgbClr val="003e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ontabilidade financeira usada pa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uração do lucro do período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799"/>
              </a:spcBef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ção do lu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8120" y="2565360"/>
            <a:ext cx="7013520" cy="4110120"/>
          </a:xfrm>
          <a:prstGeom prst="rect">
            <a:avLst/>
          </a:prstGeom>
          <a:noFill/>
          <a:ln w="1260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Rece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usto das mercadorias ven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=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ro Br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spesas administr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spesas comer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spesas financei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=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ro líqu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809880"/>
            <a:ext cx="6769080" cy="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172200"/>
            <a:ext cx="6769080" cy="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u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7652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ustos das mercadorias conhe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m dificulda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583240" y="3505320"/>
          <a:ext cx="34448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3240" y="3505320"/>
                    <a:ext cx="34448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800" y="2371680"/>
            <a:ext cx="5236920" cy="4108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3c0023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3c0023"/>
                </a:solidFill>
                <a:latin typeface="Arial"/>
              </a:rPr>
              <a:t>Revolução industri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74"/>
              </a:spcBef>
              <a:buClr>
                <a:srgbClr val="003e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Complexidade no levantamento dos custos dos produto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74"/>
              </a:spcBef>
              <a:buClr>
                <a:srgbClr val="003e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Contabilidade de custos -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valiação dos estoques</a:t>
            </a:r>
            <a:r>
              <a:rPr b="0" lang="en-US" sz="3100" spc="-1" strike="noStrike">
                <a:solidFill>
                  <a:srgbClr val="003e00"/>
                </a:solidFill>
                <a:latin typeface="Arial"/>
              </a:rPr>
              <a:t> para a determinação do lucr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480" y="2303640"/>
            <a:ext cx="4892400" cy="4109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rescimento das empres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umento da complexida-de do sistema produtiv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formações da contabi-lidade de custos usadas como </a:t>
            </a: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auxílio gerenci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094360" y="3352680"/>
          <a:ext cx="3975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4360" y="3352680"/>
                    <a:ext cx="3975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20" y="533520"/>
            <a:ext cx="5935680" cy="13716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s com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ílio ger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6160" y="2755440"/>
            <a:ext cx="4349520" cy="3962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28680" indent="-328680" algn="just">
              <a:spcBef>
                <a:spcPts val="774"/>
              </a:spcBef>
              <a:buClr>
                <a:srgbClr val="00279f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Apoio ao control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70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ção do cus-to ocorrido com pa-drões e orçamen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70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suração das perdas e desper-dícios do sistema produ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755800"/>
            <a:ext cx="4343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marL="328680" indent="-328680" algn="just">
              <a:lnSpc>
                <a:spcPct val="100000"/>
              </a:lnSpc>
              <a:spcBef>
                <a:spcPts val="1939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100" spc="-1" strike="noStrike">
                <a:solidFill>
                  <a:srgbClr val="00279f"/>
                </a:solidFill>
                <a:latin typeface="Arial"/>
              </a:rPr>
              <a:t>Apoio à tomada de decisões</a:t>
            </a:r>
            <a:r>
              <a:rPr b="0" lang="en-US" sz="3100" spc="-1" strike="noStrike">
                <a:solidFill>
                  <a:srgbClr val="003f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70000" algn="just">
              <a:lnSpc>
                <a:spcPct val="100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Lucratividade e renta-bilidade de produ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70000" algn="just">
              <a:lnSpc>
                <a:spcPct val="100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Ponto de equilíbr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70000" algn="just">
              <a:lnSpc>
                <a:spcPct val="100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Fabricar ou compr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70000" algn="just">
              <a:lnSpc>
                <a:spcPct val="100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Planejam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270000" algn="just">
              <a:lnSpc>
                <a:spcPct val="100000"/>
              </a:lnSpc>
              <a:spcBef>
                <a:spcPts val="700"/>
              </a:spcBef>
              <a:buClr>
                <a:srgbClr val="081d58"/>
              </a:buClr>
              <a:buSzPct val="75000"/>
              <a:buFont typeface="Monotype Sorts" charset="2"/>
              <a:buChar char="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800" spc="-1" strike="noStrike">
                <a:solidFill>
                  <a:srgbClr val="003f00"/>
                </a:solidFill>
                <a:latin typeface="Arial"/>
              </a:rPr>
              <a:t>Ações de melho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5d5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69840" rIns="69840" tIns="34920" bIns="3492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ção do lu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8840" y="2708280"/>
            <a:ext cx="6358320" cy="4110120"/>
          </a:xfrm>
          <a:prstGeom prst="rect">
            <a:avLst/>
          </a:prstGeom>
          <a:noFill/>
          <a:ln w="12600">
            <a:solidFill>
              <a:srgbClr val="438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Rece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Custo dos produtos vend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=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ro Br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spesas administr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spesas comer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- ) 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Despesas financei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( = )</a:t>
            </a:r>
            <a:r>
              <a:rPr b="0" lang="en-US" sz="32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cro líqu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3809880"/>
            <a:ext cx="6242040" cy="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6172200"/>
            <a:ext cx="6242040" cy="0"/>
          </a:xfrm>
          <a:prstGeom prst="line">
            <a:avLst/>
          </a:prstGeom>
          <a:ln w="1260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1T15:16:00Z</dcterms:created>
  <dc:creator>Adrian C. Ferreira</dc:creator>
  <dc:description/>
  <cp:keywords/>
  <dc:language>en-US</dc:language>
  <cp:lastModifiedBy>Rafael</cp:lastModifiedBy>
  <dcterms:modified xsi:type="dcterms:W3CDTF">2009-03-06T01:03:19Z</dcterms:modified>
  <cp:revision>25</cp:revision>
  <dc:subject/>
  <dc:title>CUSTEIO BASEADO EM ATIVIDADES</dc:title>
</cp:coreProperties>
</file>