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AED-52E7-4585-9495-D2DE8225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61F-123C-481C-8447-4A4A36CB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AC5-301C-4A14-9FF3-FDBEBDB8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EB8-7E5C-4908-9ACE-A4FDB664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AA5-37E3-4F36-8DD2-C02D7EBF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296-CC20-4F0F-A648-714145D9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B4F-329F-41F1-8230-522C3978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3D7-E0FA-40E4-955A-1FEE091B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945-7F11-4230-9A5C-98019D1C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89C-4ABF-40DF-B2F6-D86322E9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B33-15D8-4C93-BE38-C6064B16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ABF-1532-4F31-902C-F4BE5A27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6586-D2C3-498F-9056-34F0E8A826F8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80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0840" y="3499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resentação baseada no livro “Análise gerencial de custos: aplicação em empresas modernas”, de Antonio Cezar B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951200" y="2568240"/>
            <a:ext cx="7270920" cy="3544920"/>
            <a:chOff x="1951200" y="2568240"/>
            <a:chExt cx="7270920" cy="3544920"/>
          </a:xfrm>
        </p:grpSpPr>
        <p:sp>
          <p:nvSpPr>
            <p:cNvPr id="214" name=""/>
            <p:cNvSpPr/>
            <p:nvPr/>
          </p:nvSpPr>
          <p:spPr>
            <a:xfrm flipV="1">
              <a:off x="1951200" y="2568240"/>
              <a:ext cx="4690800" cy="3544920"/>
            </a:xfrm>
            <a:prstGeom prst="line">
              <a:avLst/>
            </a:prstGeom>
            <a:ln w="475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06800" y="2743200"/>
              <a:ext cx="2515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</a:rPr>
                <a:t>RECEITA = p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57240" y="1746360"/>
            <a:ext cx="5805360" cy="4904640"/>
            <a:chOff x="1857240" y="1746360"/>
            <a:chExt cx="5805360" cy="4904640"/>
          </a:xfrm>
        </p:grpSpPr>
        <p:sp>
          <p:nvSpPr>
            <p:cNvPr id="217" name=""/>
            <p:cNvSpPr/>
            <p:nvPr/>
          </p:nvSpPr>
          <p:spPr>
            <a:xfrm>
              <a:off x="1951200" y="2143080"/>
              <a:ext cx="5686200" cy="3970440"/>
            </a:xfrm>
            <a:custGeom>
              <a:avLst/>
              <a:gdLst/>
              <a:ahLst/>
              <a:rect l="l" t="t" r="r" b="b"/>
              <a:pathLst>
                <a:path w="3582" h="2501">
                  <a:moveTo>
                    <a:pt x="0" y="0"/>
                  </a:moveTo>
                  <a:lnTo>
                    <a:pt x="0" y="2501"/>
                  </a:lnTo>
                  <a:lnTo>
                    <a:pt x="3582" y="2501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67120" y="6284880"/>
              <a:ext cx="1995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UANT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57240" y="17463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372320" y="4800600"/>
            <a:ext cx="47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51200" y="3844440"/>
            <a:ext cx="7308000" cy="1135080"/>
            <a:chOff x="1951200" y="3844440"/>
            <a:chExt cx="7308000" cy="1135080"/>
          </a:xfrm>
        </p:grpSpPr>
        <p:sp>
          <p:nvSpPr>
            <p:cNvPr id="222" name=""/>
            <p:cNvSpPr/>
            <p:nvPr/>
          </p:nvSpPr>
          <p:spPr>
            <a:xfrm>
              <a:off x="5945400" y="4114800"/>
              <a:ext cx="3313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CUSTOS = CF + v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951200" y="3844440"/>
              <a:ext cx="4547880" cy="1135080"/>
            </a:xfrm>
            <a:prstGeom prst="line">
              <a:avLst/>
            </a:prstGeom>
            <a:ln w="47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043520" y="4411800"/>
            <a:ext cx="474840" cy="2203200"/>
            <a:chOff x="4043520" y="4411800"/>
            <a:chExt cx="474840" cy="2203200"/>
          </a:xfrm>
        </p:grpSpPr>
        <p:sp>
          <p:nvSpPr>
            <p:cNvPr id="225" name=""/>
            <p:cNvSpPr/>
            <p:nvPr/>
          </p:nvSpPr>
          <p:spPr>
            <a:xfrm>
              <a:off x="4224240" y="4411800"/>
              <a:ext cx="1800" cy="17017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43520" y="6188040"/>
              <a:ext cx="474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371960" y="4191120"/>
            <a:ext cx="2852280" cy="426960"/>
            <a:chOff x="1371960" y="4191120"/>
            <a:chExt cx="2852280" cy="426960"/>
          </a:xfrm>
        </p:grpSpPr>
        <p:sp>
          <p:nvSpPr>
            <p:cNvPr id="228" name=""/>
            <p:cNvSpPr/>
            <p:nvPr/>
          </p:nvSpPr>
          <p:spPr>
            <a:xfrm flipH="1">
              <a:off x="1951200" y="4411800"/>
              <a:ext cx="22730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71960" y="4191120"/>
              <a:ext cx="45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nos custos fix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340000" y="2590920"/>
            <a:ext cx="6653520" cy="3520800"/>
            <a:chOff x="2340000" y="2590920"/>
            <a:chExt cx="6653520" cy="3520800"/>
          </a:xfrm>
        </p:grpSpPr>
        <p:sp>
          <p:nvSpPr>
            <p:cNvPr id="233" name=""/>
            <p:cNvSpPr/>
            <p:nvPr/>
          </p:nvSpPr>
          <p:spPr>
            <a:xfrm flipV="1">
              <a:off x="2340000" y="3164040"/>
              <a:ext cx="3900600" cy="294768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8200" y="2590920"/>
              <a:ext cx="2515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</a:rPr>
                <a:t>RECEITA = p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209680" y="2362320"/>
            <a:ext cx="5754600" cy="4258440"/>
            <a:chOff x="2209680" y="2362320"/>
            <a:chExt cx="5754600" cy="4258440"/>
          </a:xfrm>
        </p:grpSpPr>
        <p:sp>
          <p:nvSpPr>
            <p:cNvPr id="236" name=""/>
            <p:cNvSpPr/>
            <p:nvPr/>
          </p:nvSpPr>
          <p:spPr>
            <a:xfrm>
              <a:off x="2340000" y="2809800"/>
              <a:ext cx="4727520" cy="3301920"/>
            </a:xfrm>
            <a:custGeom>
              <a:avLst/>
              <a:gdLst/>
              <a:ahLst/>
              <a:rect l="l" t="t" r="r" b="b"/>
              <a:pathLst>
                <a:path w="2978" h="2080">
                  <a:moveTo>
                    <a:pt x="0" y="0"/>
                  </a:moveTo>
                  <a:lnTo>
                    <a:pt x="0" y="2080"/>
                  </a:lnTo>
                  <a:lnTo>
                    <a:pt x="2978" y="20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68800" y="6254640"/>
              <a:ext cx="1995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UANT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09680" y="23623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752840" y="4191120"/>
            <a:ext cx="7734960" cy="2409480"/>
            <a:chOff x="1752840" y="4191120"/>
            <a:chExt cx="7734960" cy="2409480"/>
          </a:xfrm>
        </p:grpSpPr>
        <p:grpSp>
          <p:nvGrpSpPr>
            <p:cNvPr id="240" name=""/>
            <p:cNvGrpSpPr/>
            <p:nvPr/>
          </p:nvGrpSpPr>
          <p:grpSpPr>
            <a:xfrm>
              <a:off x="2340000" y="4191120"/>
              <a:ext cx="7147800" cy="977400"/>
              <a:chOff x="2340000" y="4191120"/>
              <a:chExt cx="7147800" cy="977400"/>
            </a:xfrm>
          </p:grpSpPr>
          <p:sp>
            <p:nvSpPr>
              <p:cNvPr id="241" name=""/>
              <p:cNvSpPr/>
              <p:nvPr/>
            </p:nvSpPr>
            <p:spPr>
              <a:xfrm>
                <a:off x="6174000" y="4191120"/>
                <a:ext cx="33138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00000"/>
                    </a:solidFill>
                    <a:latin typeface="Arial"/>
                  </a:rPr>
                  <a:t>CUSTOS = CF + v.Q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2340000" y="4225680"/>
                <a:ext cx="3782880" cy="94284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752840" y="4419720"/>
              <a:ext cx="2763720" cy="2180880"/>
              <a:chOff x="1752840" y="4419720"/>
              <a:chExt cx="2763720" cy="2180880"/>
            </a:xfrm>
          </p:grpSpPr>
          <p:sp>
            <p:nvSpPr>
              <p:cNvPr id="244" name=""/>
              <p:cNvSpPr/>
              <p:nvPr/>
            </p:nvSpPr>
            <p:spPr>
              <a:xfrm>
                <a:off x="4232160" y="4697280"/>
                <a:ext cx="1800" cy="1414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340000" y="4697280"/>
                <a:ext cx="1892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041720" y="6173640"/>
                <a:ext cx="4748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Q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52840" y="4419720"/>
                <a:ext cx="455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R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2340000" y="3352680"/>
            <a:ext cx="7283520" cy="1225800"/>
            <a:chOff x="2340000" y="3352680"/>
            <a:chExt cx="7283520" cy="1225800"/>
          </a:xfrm>
        </p:grpSpPr>
        <p:sp>
          <p:nvSpPr>
            <p:cNvPr id="249" name=""/>
            <p:cNvSpPr/>
            <p:nvPr/>
          </p:nvSpPr>
          <p:spPr>
            <a:xfrm>
              <a:off x="6175440" y="3352680"/>
              <a:ext cx="344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CUSTOS' = CF' + v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340000" y="3635280"/>
              <a:ext cx="3782880" cy="943200"/>
            </a:xfrm>
            <a:prstGeom prst="line">
              <a:avLst/>
            </a:prstGeom>
            <a:ln w="39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861160" y="380340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677240" y="3581280"/>
            <a:ext cx="4073400" cy="3019320"/>
            <a:chOff x="1677240" y="3581280"/>
            <a:chExt cx="4073400" cy="3019320"/>
          </a:xfrm>
        </p:grpSpPr>
        <p:sp>
          <p:nvSpPr>
            <p:cNvPr id="253" name=""/>
            <p:cNvSpPr/>
            <p:nvPr/>
          </p:nvSpPr>
          <p:spPr>
            <a:xfrm flipV="1">
              <a:off x="5413320" y="3797280"/>
              <a:ext cx="1800" cy="22255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08840" y="6173640"/>
              <a:ext cx="54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o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40000" y="3797280"/>
              <a:ext cx="301464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77240" y="3581280"/>
              <a:ext cx="522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o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0" y="6324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46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no preç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362320" y="2286000"/>
            <a:ext cx="5022720" cy="4258800"/>
            <a:chOff x="2362320" y="2286000"/>
            <a:chExt cx="5022720" cy="4258800"/>
          </a:xfrm>
        </p:grpSpPr>
        <p:sp>
          <p:nvSpPr>
            <p:cNvPr id="261" name=""/>
            <p:cNvSpPr/>
            <p:nvPr/>
          </p:nvSpPr>
          <p:spPr>
            <a:xfrm>
              <a:off x="2432160" y="2690640"/>
              <a:ext cx="4787640" cy="3345120"/>
            </a:xfrm>
            <a:custGeom>
              <a:avLst/>
              <a:gdLst/>
              <a:ahLst/>
              <a:rect l="l" t="t" r="r" b="b"/>
              <a:pathLst>
                <a:path w="3016" h="2107">
                  <a:moveTo>
                    <a:pt x="0" y="0"/>
                  </a:moveTo>
                  <a:lnTo>
                    <a:pt x="0" y="2107"/>
                  </a:lnTo>
                  <a:lnTo>
                    <a:pt x="3016" y="2107"/>
                  </a:lnTo>
                </a:path>
              </a:pathLst>
            </a:custGeom>
            <a:noFill/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9560" y="6178680"/>
              <a:ext cx="1995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UANT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2286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432160" y="4123800"/>
            <a:ext cx="6903360" cy="955800"/>
            <a:chOff x="2432160" y="4123800"/>
            <a:chExt cx="6903360" cy="955800"/>
          </a:xfrm>
        </p:grpSpPr>
        <p:sp>
          <p:nvSpPr>
            <p:cNvPr id="265" name=""/>
            <p:cNvSpPr/>
            <p:nvPr/>
          </p:nvSpPr>
          <p:spPr>
            <a:xfrm>
              <a:off x="6021720" y="4267080"/>
              <a:ext cx="3313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CUSTOS = CF + v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432160" y="4123800"/>
              <a:ext cx="3828960" cy="955800"/>
            </a:xfrm>
            <a:prstGeom prst="line">
              <a:avLst/>
            </a:prstGeom>
            <a:ln w="39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829160" y="2971800"/>
            <a:ext cx="7392960" cy="3552840"/>
            <a:chOff x="1829160" y="2971800"/>
            <a:chExt cx="7392960" cy="3552840"/>
          </a:xfrm>
        </p:grpSpPr>
        <p:sp>
          <p:nvSpPr>
            <p:cNvPr id="268" name=""/>
            <p:cNvSpPr/>
            <p:nvPr/>
          </p:nvSpPr>
          <p:spPr>
            <a:xfrm flipV="1">
              <a:off x="2432160" y="3049200"/>
              <a:ext cx="3949560" cy="298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06800" y="2971800"/>
              <a:ext cx="2515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</a:rPr>
                <a:t>RECEITA = p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6640" y="4602240"/>
              <a:ext cx="1440" cy="14335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432160" y="4602240"/>
              <a:ext cx="191448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56200" y="6097680"/>
              <a:ext cx="474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29160" y="4343400"/>
              <a:ext cx="45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432160" y="2438280"/>
            <a:ext cx="3648600" cy="3597120"/>
            <a:chOff x="2432160" y="2438280"/>
            <a:chExt cx="3648600" cy="3597120"/>
          </a:xfrm>
        </p:grpSpPr>
        <p:sp>
          <p:nvSpPr>
            <p:cNvPr id="275" name=""/>
            <p:cNvSpPr/>
            <p:nvPr/>
          </p:nvSpPr>
          <p:spPr>
            <a:xfrm flipV="1">
              <a:off x="2432160" y="3049200"/>
              <a:ext cx="2033640" cy="298620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31160" y="2438280"/>
              <a:ext cx="2649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</a:rPr>
                <a:t>RECEITA' = p'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533840" y="3429000"/>
              <a:ext cx="108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753560" y="4724280"/>
            <a:ext cx="2215080" cy="1785960"/>
            <a:chOff x="1753560" y="4724280"/>
            <a:chExt cx="2215080" cy="1785960"/>
          </a:xfrm>
        </p:grpSpPr>
        <p:sp>
          <p:nvSpPr>
            <p:cNvPr id="279" name=""/>
            <p:cNvSpPr/>
            <p:nvPr/>
          </p:nvSpPr>
          <p:spPr>
            <a:xfrm flipV="1">
              <a:off x="3209760" y="4930560"/>
              <a:ext cx="1800" cy="1104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57760" y="6083280"/>
              <a:ext cx="54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o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32160" y="4870440"/>
              <a:ext cx="7617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53560" y="4724280"/>
              <a:ext cx="522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o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581280" y="632448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463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nos custos variá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043000" y="2754360"/>
            <a:ext cx="5889960" cy="3357360"/>
            <a:chOff x="2043000" y="2754360"/>
            <a:chExt cx="5889960" cy="3357360"/>
          </a:xfrm>
        </p:grpSpPr>
        <p:sp>
          <p:nvSpPr>
            <p:cNvPr id="287" name=""/>
            <p:cNvSpPr/>
            <p:nvPr/>
          </p:nvSpPr>
          <p:spPr>
            <a:xfrm flipV="1">
              <a:off x="2043000" y="3164040"/>
              <a:ext cx="3899160" cy="2947680"/>
            </a:xfrm>
            <a:prstGeom prst="line">
              <a:avLst/>
            </a:prstGeom>
            <a:ln w="39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17640" y="2754360"/>
              <a:ext cx="2515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Arial"/>
                </a:rPr>
                <a:t>RECEITA = p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995480" y="2286000"/>
            <a:ext cx="5411520" cy="4328640"/>
            <a:chOff x="1995480" y="2286000"/>
            <a:chExt cx="5411520" cy="4328640"/>
          </a:xfrm>
        </p:grpSpPr>
        <p:sp>
          <p:nvSpPr>
            <p:cNvPr id="290" name=""/>
            <p:cNvSpPr/>
            <p:nvPr/>
          </p:nvSpPr>
          <p:spPr>
            <a:xfrm>
              <a:off x="2043000" y="2809800"/>
              <a:ext cx="4726080" cy="3301920"/>
            </a:xfrm>
            <a:custGeom>
              <a:avLst/>
              <a:gdLst/>
              <a:ahLst/>
              <a:rect l="l" t="t" r="r" b="b"/>
              <a:pathLst>
                <a:path w="2977" h="2080">
                  <a:moveTo>
                    <a:pt x="0" y="0"/>
                  </a:moveTo>
                  <a:lnTo>
                    <a:pt x="0" y="2080"/>
                  </a:lnTo>
                  <a:lnTo>
                    <a:pt x="2977" y="20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1520" y="6248520"/>
              <a:ext cx="1995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UANT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95480" y="2286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447920" y="4038480"/>
            <a:ext cx="7887600" cy="2562120"/>
            <a:chOff x="1447920" y="4038480"/>
            <a:chExt cx="7887600" cy="2562120"/>
          </a:xfrm>
        </p:grpSpPr>
        <p:sp>
          <p:nvSpPr>
            <p:cNvPr id="294" name=""/>
            <p:cNvSpPr/>
            <p:nvPr/>
          </p:nvSpPr>
          <p:spPr>
            <a:xfrm>
              <a:off x="3933720" y="4697280"/>
              <a:ext cx="1800" cy="1414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043000" y="4225680"/>
              <a:ext cx="3781440" cy="942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43000" y="4697280"/>
              <a:ext cx="18907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43280" y="6173640"/>
              <a:ext cx="474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47920" y="4495680"/>
              <a:ext cx="45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21720" y="4038480"/>
              <a:ext cx="3313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CUSTOS = CF + v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43000" y="3429000"/>
            <a:ext cx="7504200" cy="1739880"/>
            <a:chOff x="2043000" y="3429000"/>
            <a:chExt cx="7504200" cy="1739880"/>
          </a:xfrm>
        </p:grpSpPr>
        <p:sp>
          <p:nvSpPr>
            <p:cNvPr id="301" name=""/>
            <p:cNvSpPr/>
            <p:nvPr/>
          </p:nvSpPr>
          <p:spPr>
            <a:xfrm>
              <a:off x="6099120" y="3429000"/>
              <a:ext cx="344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CUSTOS' = CF + v'.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043000" y="3635280"/>
              <a:ext cx="3899160" cy="1533600"/>
            </a:xfrm>
            <a:prstGeom prst="line">
              <a:avLst/>
            </a:prstGeom>
            <a:ln w="39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778360" y="3803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372320" y="3886200"/>
            <a:ext cx="3606840" cy="2714400"/>
            <a:chOff x="1372320" y="3886200"/>
            <a:chExt cx="3606840" cy="2714400"/>
          </a:xfrm>
        </p:grpSpPr>
        <p:sp>
          <p:nvSpPr>
            <p:cNvPr id="305" name=""/>
            <p:cNvSpPr/>
            <p:nvPr/>
          </p:nvSpPr>
          <p:spPr>
            <a:xfrm flipV="1">
              <a:off x="4641840" y="4226040"/>
              <a:ext cx="1440" cy="1885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7360" y="6173640"/>
              <a:ext cx="54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Qo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57400" y="4137120"/>
              <a:ext cx="25560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72320" y="3886200"/>
              <a:ext cx="522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o'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33880" y="62485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95480" y="2819520"/>
            <a:ext cx="954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49480" y="28195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57400" y="2819520"/>
            <a:ext cx="2210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67440" y="28195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75360" y="2819520"/>
            <a:ext cx="2211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339720" y="2836800"/>
            <a:ext cx="4350960" cy="487800"/>
            <a:chOff x="3339720" y="2836800"/>
            <a:chExt cx="4350960" cy="487800"/>
          </a:xfrm>
        </p:grpSpPr>
        <p:sp>
          <p:nvSpPr>
            <p:cNvPr id="317" name=""/>
            <p:cNvSpPr/>
            <p:nvPr/>
          </p:nvSpPr>
          <p:spPr>
            <a:xfrm>
              <a:off x="3339720" y="2836800"/>
              <a:ext cx="21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67040" y="2836800"/>
              <a:ext cx="21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mpresa 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995480" y="3287880"/>
            <a:ext cx="954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49480" y="32878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57400" y="3287880"/>
            <a:ext cx="2210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67440" y="32878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75360" y="3287880"/>
            <a:ext cx="2211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209320" y="3429000"/>
            <a:ext cx="4819320" cy="487800"/>
            <a:chOff x="2209320" y="3429000"/>
            <a:chExt cx="4819320" cy="487800"/>
          </a:xfrm>
        </p:grpSpPr>
        <p:sp>
          <p:nvSpPr>
            <p:cNvPr id="325" name=""/>
            <p:cNvSpPr/>
            <p:nvPr/>
          </p:nvSpPr>
          <p:spPr>
            <a:xfrm>
              <a:off x="2209320" y="342900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93680" y="3429000"/>
              <a:ext cx="1015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13080" y="3429000"/>
              <a:ext cx="1015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2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208240" y="3886200"/>
            <a:ext cx="4802760" cy="487800"/>
            <a:chOff x="2208240" y="3886200"/>
            <a:chExt cx="4802760" cy="487800"/>
          </a:xfrm>
        </p:grpSpPr>
        <p:sp>
          <p:nvSpPr>
            <p:cNvPr id="329" name=""/>
            <p:cNvSpPr/>
            <p:nvPr/>
          </p:nvSpPr>
          <p:spPr>
            <a:xfrm>
              <a:off x="2208240" y="38862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69560" y="3886200"/>
              <a:ext cx="101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6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95440" y="3886200"/>
              <a:ext cx="1015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16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208960" y="4419720"/>
            <a:ext cx="5068800" cy="487800"/>
            <a:chOff x="2208960" y="4419720"/>
            <a:chExt cx="5068800" cy="487800"/>
          </a:xfrm>
        </p:grpSpPr>
        <p:sp>
          <p:nvSpPr>
            <p:cNvPr id="333" name=""/>
            <p:cNvSpPr/>
            <p:nvPr/>
          </p:nvSpPr>
          <p:spPr>
            <a:xfrm>
              <a:off x="2208960" y="4419720"/>
              <a:ext cx="543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91720" y="4419720"/>
              <a:ext cx="14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300.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11120" y="4419720"/>
              <a:ext cx="1466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300.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209680" y="4952880"/>
            <a:ext cx="4649040" cy="487800"/>
            <a:chOff x="2209680" y="4952880"/>
            <a:chExt cx="4649040" cy="487800"/>
          </a:xfrm>
        </p:grpSpPr>
        <p:sp>
          <p:nvSpPr>
            <p:cNvPr id="337" name=""/>
            <p:cNvSpPr/>
            <p:nvPr/>
          </p:nvSpPr>
          <p:spPr>
            <a:xfrm>
              <a:off x="2209680" y="4952880"/>
              <a:ext cx="587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50920" y="4952880"/>
              <a:ext cx="79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4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68520" y="4952880"/>
              <a:ext cx="79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4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208960" y="5486400"/>
            <a:ext cx="4723920" cy="487800"/>
            <a:chOff x="2208960" y="5486400"/>
            <a:chExt cx="4723920" cy="487800"/>
          </a:xfrm>
        </p:grpSpPr>
        <p:sp>
          <p:nvSpPr>
            <p:cNvPr id="341" name=""/>
            <p:cNvSpPr/>
            <p:nvPr/>
          </p:nvSpPr>
          <p:spPr>
            <a:xfrm>
              <a:off x="2208960" y="5486400"/>
              <a:ext cx="633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(%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89000" y="54864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4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6960" y="54864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2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995480" y="6037200"/>
            <a:ext cx="9540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49480" y="6037200"/>
            <a:ext cx="7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57400" y="6037200"/>
            <a:ext cx="2210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67440" y="6037200"/>
            <a:ext cx="7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75360" y="6037200"/>
            <a:ext cx="2211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208600" y="6095880"/>
            <a:ext cx="4944960" cy="560880"/>
            <a:chOff x="2208600" y="6095880"/>
            <a:chExt cx="4944960" cy="560880"/>
          </a:xfrm>
        </p:grpSpPr>
        <p:sp>
          <p:nvSpPr>
            <p:cNvPr id="350" name=""/>
            <p:cNvSpPr/>
            <p:nvPr/>
          </p:nvSpPr>
          <p:spPr>
            <a:xfrm>
              <a:off x="2208600" y="609588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46920" y="616896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94680" y="60958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75.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12280" y="60958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75.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1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5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224080" y="2286000"/>
            <a:ext cx="7459560" cy="4328640"/>
            <a:chOff x="2224080" y="2286000"/>
            <a:chExt cx="7459560" cy="4328640"/>
          </a:xfrm>
        </p:grpSpPr>
        <p:sp>
          <p:nvSpPr>
            <p:cNvPr id="356" name=""/>
            <p:cNvSpPr/>
            <p:nvPr/>
          </p:nvSpPr>
          <p:spPr>
            <a:xfrm>
              <a:off x="7383600" y="3532320"/>
              <a:ext cx="2300040" cy="17128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2224080" y="2286000"/>
              <a:ext cx="5411520" cy="4328640"/>
              <a:chOff x="2224080" y="2286000"/>
              <a:chExt cx="5411520" cy="4328640"/>
            </a:xfrm>
          </p:grpSpPr>
          <p:sp>
            <p:nvSpPr>
              <p:cNvPr id="358" name=""/>
              <p:cNvSpPr/>
              <p:nvPr/>
            </p:nvSpPr>
            <p:spPr>
              <a:xfrm>
                <a:off x="2271600" y="2809800"/>
                <a:ext cx="4726080" cy="3301920"/>
              </a:xfrm>
              <a:custGeom>
                <a:avLst/>
                <a:gdLst/>
                <a:ahLst/>
                <a:rect l="l" t="t" r="r" b="b"/>
                <a:pathLst>
                  <a:path w="2977" h="2080">
                    <a:moveTo>
                      <a:pt x="0" y="0"/>
                    </a:moveTo>
                    <a:lnTo>
                      <a:pt x="0" y="2080"/>
                    </a:lnTo>
                    <a:lnTo>
                      <a:pt x="2977" y="20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40120" y="6248520"/>
                <a:ext cx="1995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QUANTIDA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24080" y="228600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4472640" y="3352680"/>
            <a:ext cx="932040" cy="3187080"/>
            <a:chOff x="4472640" y="3352680"/>
            <a:chExt cx="932040" cy="3187080"/>
          </a:xfrm>
        </p:grpSpPr>
        <p:sp>
          <p:nvSpPr>
            <p:cNvPr id="362" name=""/>
            <p:cNvSpPr/>
            <p:nvPr/>
          </p:nvSpPr>
          <p:spPr>
            <a:xfrm flipV="1">
              <a:off x="4870440" y="3352680"/>
              <a:ext cx="6480" cy="27590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72640" y="61736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5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286000" y="3581280"/>
            <a:ext cx="7149960" cy="1981080"/>
            <a:chOff x="2286000" y="3581280"/>
            <a:chExt cx="7149960" cy="1981080"/>
          </a:xfrm>
        </p:grpSpPr>
        <p:sp>
          <p:nvSpPr>
            <p:cNvPr id="365" name=""/>
            <p:cNvSpPr/>
            <p:nvPr/>
          </p:nvSpPr>
          <p:spPr>
            <a:xfrm>
              <a:off x="7718400" y="3753000"/>
              <a:ext cx="324000" cy="144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150400" y="3581280"/>
              <a:ext cx="1285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808080"/>
                  </a:solidFill>
                  <a:latin typeface="Arial"/>
                </a:rPr>
                <a:t>Custos 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286000" y="4266720"/>
              <a:ext cx="4495680" cy="1295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271600" y="3809880"/>
            <a:ext cx="7220520" cy="2301840"/>
            <a:chOff x="2271600" y="3809880"/>
            <a:chExt cx="7220520" cy="2301840"/>
          </a:xfrm>
        </p:grpSpPr>
        <p:sp>
          <p:nvSpPr>
            <p:cNvPr id="369" name=""/>
            <p:cNvSpPr/>
            <p:nvPr/>
          </p:nvSpPr>
          <p:spPr>
            <a:xfrm>
              <a:off x="8156520" y="4406760"/>
              <a:ext cx="1335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99"/>
                  </a:solidFill>
                  <a:latin typeface="Arial"/>
                </a:rPr>
                <a:t>Receita 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271600" y="3809880"/>
              <a:ext cx="4662720" cy="2301840"/>
            </a:xfrm>
            <a:prstGeom prst="line">
              <a:avLst/>
            </a:prstGeom>
            <a:ln w="39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02560" y="4559400"/>
              <a:ext cx="380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286000" y="1676520"/>
            <a:ext cx="7206120" cy="4419360"/>
            <a:chOff x="2286000" y="1676520"/>
            <a:chExt cx="7206120" cy="4419360"/>
          </a:xfrm>
        </p:grpSpPr>
        <p:sp>
          <p:nvSpPr>
            <p:cNvPr id="373" name=""/>
            <p:cNvSpPr/>
            <p:nvPr/>
          </p:nvSpPr>
          <p:spPr>
            <a:xfrm>
              <a:off x="8156520" y="4863960"/>
              <a:ext cx="1335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6600"/>
                  </a:solidFill>
                  <a:latin typeface="Arial"/>
                </a:rPr>
                <a:t>Receita 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2286000" y="1676520"/>
              <a:ext cx="4191120" cy="441936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702560" y="5016600"/>
              <a:ext cx="38088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286000" y="2133360"/>
            <a:ext cx="7149960" cy="3429000"/>
            <a:chOff x="2286000" y="2133360"/>
            <a:chExt cx="7149960" cy="3429000"/>
          </a:xfrm>
        </p:grpSpPr>
        <p:sp>
          <p:nvSpPr>
            <p:cNvPr id="377" name=""/>
            <p:cNvSpPr/>
            <p:nvPr/>
          </p:nvSpPr>
          <p:spPr>
            <a:xfrm>
              <a:off x="7718400" y="4176720"/>
              <a:ext cx="324000" cy="1440"/>
            </a:xfrm>
            <a:prstGeom prst="line">
              <a:avLst/>
            </a:prstGeom>
            <a:ln w="39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0400" y="4005360"/>
              <a:ext cx="1285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6633"/>
                  </a:solidFill>
                  <a:latin typeface="Arial"/>
                </a:rPr>
                <a:t>Custos B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286000" y="2133360"/>
              <a:ext cx="4114800" cy="342900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136160" y="4572000"/>
            <a:ext cx="3705840" cy="366120"/>
            <a:chOff x="1136160" y="4572000"/>
            <a:chExt cx="3705840" cy="366120"/>
          </a:xfrm>
        </p:grpSpPr>
        <p:sp>
          <p:nvSpPr>
            <p:cNvPr id="381" name=""/>
            <p:cNvSpPr/>
            <p:nvPr/>
          </p:nvSpPr>
          <p:spPr>
            <a:xfrm>
              <a:off x="2286000" y="4800600"/>
              <a:ext cx="25560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36160" y="4572000"/>
              <a:ext cx="1100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5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915120" y="3124080"/>
            <a:ext cx="3907800" cy="366120"/>
            <a:chOff x="915120" y="3124080"/>
            <a:chExt cx="3907800" cy="366120"/>
          </a:xfrm>
        </p:grpSpPr>
        <p:sp>
          <p:nvSpPr>
            <p:cNvPr id="384" name=""/>
            <p:cNvSpPr/>
            <p:nvPr/>
          </p:nvSpPr>
          <p:spPr>
            <a:xfrm>
              <a:off x="2266920" y="3352680"/>
              <a:ext cx="25560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15120" y="3124080"/>
              <a:ext cx="135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50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76360" y="2895480"/>
            <a:ext cx="954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30720" y="28954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38640" y="2895480"/>
            <a:ext cx="2209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48320" y="28954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56240" y="2895480"/>
            <a:ext cx="2211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786480" y="2913120"/>
            <a:ext cx="4237920" cy="457200"/>
            <a:chOff x="3786480" y="2913120"/>
            <a:chExt cx="4237920" cy="457200"/>
          </a:xfrm>
        </p:grpSpPr>
        <p:sp>
          <p:nvSpPr>
            <p:cNvPr id="393" name=""/>
            <p:cNvSpPr/>
            <p:nvPr/>
          </p:nvSpPr>
          <p:spPr>
            <a:xfrm>
              <a:off x="3786480" y="2913120"/>
              <a:ext cx="19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mpresa 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92200" y="2913120"/>
              <a:ext cx="203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mpresa 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2376360" y="3363840"/>
            <a:ext cx="954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30720" y="33638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38640" y="3363840"/>
            <a:ext cx="2209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8320" y="33638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56240" y="3363840"/>
            <a:ext cx="2211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577960" y="3382920"/>
            <a:ext cx="4781160" cy="457200"/>
            <a:chOff x="2577960" y="3382920"/>
            <a:chExt cx="4781160" cy="457200"/>
          </a:xfrm>
        </p:grpSpPr>
        <p:sp>
          <p:nvSpPr>
            <p:cNvPr id="401" name=""/>
            <p:cNvSpPr/>
            <p:nvPr/>
          </p:nvSpPr>
          <p:spPr>
            <a:xfrm>
              <a:off x="2577960" y="3382920"/>
              <a:ext cx="21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86800" y="33829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05840" y="33829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601360" y="3840120"/>
            <a:ext cx="4748760" cy="457200"/>
            <a:chOff x="2601360" y="3840120"/>
            <a:chExt cx="4748760" cy="457200"/>
          </a:xfrm>
        </p:grpSpPr>
        <p:sp>
          <p:nvSpPr>
            <p:cNvPr id="405" name=""/>
            <p:cNvSpPr/>
            <p:nvPr/>
          </p:nvSpPr>
          <p:spPr>
            <a:xfrm>
              <a:off x="2601360" y="384012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81040" y="3840120"/>
              <a:ext cx="95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2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98640" y="3840120"/>
              <a:ext cx="95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6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613600" y="4297320"/>
            <a:ext cx="4871880" cy="457200"/>
            <a:chOff x="2613600" y="4297320"/>
            <a:chExt cx="4871880" cy="457200"/>
          </a:xfrm>
        </p:grpSpPr>
        <p:sp>
          <p:nvSpPr>
            <p:cNvPr id="409" name=""/>
            <p:cNvSpPr/>
            <p:nvPr/>
          </p:nvSpPr>
          <p:spPr>
            <a:xfrm>
              <a:off x="2613600" y="4297320"/>
              <a:ext cx="509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02920" y="4297320"/>
              <a:ext cx="116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70.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20520" y="4297320"/>
              <a:ext cx="116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623320" y="4753080"/>
            <a:ext cx="4674240" cy="914400"/>
            <a:chOff x="2623320" y="4753080"/>
            <a:chExt cx="4674240" cy="914400"/>
          </a:xfrm>
        </p:grpSpPr>
        <p:grpSp>
          <p:nvGrpSpPr>
            <p:cNvPr id="413" name=""/>
            <p:cNvGrpSpPr/>
            <p:nvPr/>
          </p:nvGrpSpPr>
          <p:grpSpPr>
            <a:xfrm>
              <a:off x="2625480" y="4753080"/>
              <a:ext cx="4605480" cy="457200"/>
              <a:chOff x="2625480" y="4753080"/>
              <a:chExt cx="4605480" cy="457200"/>
            </a:xfrm>
          </p:grpSpPr>
          <p:sp>
            <p:nvSpPr>
              <p:cNvPr id="414" name=""/>
              <p:cNvSpPr/>
              <p:nvPr/>
            </p:nvSpPr>
            <p:spPr>
              <a:xfrm>
                <a:off x="2625480" y="4753080"/>
                <a:ext cx="550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72120" y="4753080"/>
                <a:ext cx="741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8,0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89720" y="4753080"/>
                <a:ext cx="741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4,0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2623320" y="5210280"/>
              <a:ext cx="592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(%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11640" y="5210280"/>
              <a:ext cx="86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80 %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29600" y="5210280"/>
              <a:ext cx="867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40 %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376360" y="6113520"/>
            <a:ext cx="954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30720" y="6113520"/>
            <a:ext cx="7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38640" y="6113520"/>
            <a:ext cx="2209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48320" y="6113520"/>
            <a:ext cx="7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56240" y="6113520"/>
            <a:ext cx="2211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597400" y="5667480"/>
            <a:ext cx="4769640" cy="457200"/>
            <a:chOff x="2597400" y="5667480"/>
            <a:chExt cx="4769640" cy="457200"/>
          </a:xfrm>
        </p:grpSpPr>
        <p:sp>
          <p:nvSpPr>
            <p:cNvPr id="426" name=""/>
            <p:cNvSpPr/>
            <p:nvPr/>
          </p:nvSpPr>
          <p:spPr>
            <a:xfrm>
              <a:off x="2597400" y="5667480"/>
              <a:ext cx="29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2853000" y="5667480"/>
              <a:ext cx="4514040" cy="457200"/>
              <a:chOff x="2853000" y="5667480"/>
              <a:chExt cx="4514040" cy="457200"/>
            </a:xfrm>
          </p:grpSpPr>
          <p:sp>
            <p:nvSpPr>
              <p:cNvPr id="428" name=""/>
              <p:cNvSpPr/>
              <p:nvPr/>
            </p:nvSpPr>
            <p:spPr>
              <a:xfrm>
                <a:off x="2853000" y="5740560"/>
                <a:ext cx="19440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194720" y="5667480"/>
                <a:ext cx="953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8.75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13760" y="5667480"/>
                <a:ext cx="953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7.50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9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066680" y="1752480"/>
          <a:ext cx="8534520" cy="54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853452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4920" y="3200040"/>
            <a:ext cx="670572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 contábil, financeiro e econô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19320" y="4571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erença fundamental entre os três são os custos fixos conside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3880" y="1295280"/>
            <a:ext cx="5370480" cy="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32040" bIns="320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to Equil. contábil, financ. e econô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erença fundamental entre os três são os custos fixos conside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táb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ustos contábe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ôm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ão adicionados os custos de oportunidades e outros de gê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nancei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nsideram-se apenas os custos desembols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álise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usto-volume-luc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 de venda: $ 8 / un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variáveis = $ 6 / un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fixos = $ 14.000 / 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ciação = $ 4.000 / 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mônio líquido = $ 5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ma = 10% ao 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137680" y="5943600"/>
            <a:ext cx="5530680" cy="576360"/>
          </a:xfrm>
          <a:prstGeom prst="rect">
            <a:avLst/>
          </a:prstGeom>
          <a:solidFill>
            <a:srgbClr val="ffff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= 8 - 6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$ 2,00 / un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4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2" dur="2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9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19040" y="4572000"/>
            <a:ext cx="19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Contáb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293480" y="4419720"/>
            <a:ext cx="6098040" cy="1079280"/>
            <a:chOff x="1293480" y="4419720"/>
            <a:chExt cx="6098040" cy="1079280"/>
          </a:xfrm>
        </p:grpSpPr>
        <p:sp>
          <p:nvSpPr>
            <p:cNvPr id="444" name=""/>
            <p:cNvSpPr/>
            <p:nvPr/>
          </p:nvSpPr>
          <p:spPr>
            <a:xfrm>
              <a:off x="1295280" y="4435560"/>
              <a:ext cx="6096240" cy="977760"/>
            </a:xfrm>
            <a:prstGeom prst="roundRect">
              <a:avLst>
                <a:gd name="adj" fmla="val 12495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1293480" y="4419720"/>
              <a:ext cx="5975640" cy="1079280"/>
              <a:chOff x="1293480" y="4419720"/>
              <a:chExt cx="5975640" cy="1079280"/>
            </a:xfrm>
          </p:grpSpPr>
          <p:sp>
            <p:nvSpPr>
              <p:cNvPr id="446" name=""/>
              <p:cNvSpPr/>
              <p:nvPr/>
            </p:nvSpPr>
            <p:spPr>
              <a:xfrm>
                <a:off x="1293480" y="4694040"/>
                <a:ext cx="5975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 =                 = 7.000 un. / an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465280" y="4951080"/>
                <a:ext cx="15555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615400" y="4419720"/>
                <a:ext cx="1422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14.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28320" y="492264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770960" y="3645000"/>
            <a:ext cx="1779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Econô-m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09480" y="3505320"/>
            <a:ext cx="6969960" cy="1109520"/>
            <a:chOff x="609480" y="3505320"/>
            <a:chExt cx="6969960" cy="1109520"/>
          </a:xfrm>
        </p:grpSpPr>
        <p:sp>
          <p:nvSpPr>
            <p:cNvPr id="453" name=""/>
            <p:cNvSpPr/>
            <p:nvPr/>
          </p:nvSpPr>
          <p:spPr>
            <a:xfrm>
              <a:off x="609480" y="3533760"/>
              <a:ext cx="6921360" cy="977400"/>
            </a:xfrm>
            <a:prstGeom prst="roundRect">
              <a:avLst>
                <a:gd name="adj" fmla="val 12495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683280" y="3505320"/>
              <a:ext cx="6896160" cy="1109520"/>
              <a:chOff x="683280" y="3505320"/>
              <a:chExt cx="6896160" cy="1109520"/>
            </a:xfrm>
          </p:grpSpPr>
          <p:sp>
            <p:nvSpPr>
              <p:cNvPr id="455" name=""/>
              <p:cNvSpPr/>
              <p:nvPr/>
            </p:nvSpPr>
            <p:spPr>
              <a:xfrm>
                <a:off x="683280" y="3809880"/>
                <a:ext cx="6896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 =               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   = 9.500 un/an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54000" y="4066920"/>
                <a:ext cx="282240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38880" y="3505320"/>
                <a:ext cx="2900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14.000 + 5.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77280" y="403848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462800" y="3776760"/>
            <a:ext cx="246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Financei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08400" y="3505320"/>
            <a:ext cx="6658560" cy="1081440"/>
            <a:chOff x="608400" y="3505320"/>
            <a:chExt cx="6658560" cy="1081440"/>
          </a:xfrm>
        </p:grpSpPr>
        <p:sp>
          <p:nvSpPr>
            <p:cNvPr id="462" name=""/>
            <p:cNvSpPr/>
            <p:nvPr/>
          </p:nvSpPr>
          <p:spPr>
            <a:xfrm>
              <a:off x="652320" y="3511800"/>
              <a:ext cx="6591600" cy="977760"/>
            </a:xfrm>
            <a:prstGeom prst="roundRect">
              <a:avLst>
                <a:gd name="adj" fmla="val 12495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8400" y="3781800"/>
              <a:ext cx="6658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 =              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         =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5.000 un/a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1681560" y="3505320"/>
              <a:ext cx="2572560" cy="1081440"/>
              <a:chOff x="1681560" y="3505320"/>
              <a:chExt cx="2572560" cy="1081440"/>
            </a:xfrm>
          </p:grpSpPr>
          <p:sp>
            <p:nvSpPr>
              <p:cNvPr id="465" name=""/>
              <p:cNvSpPr/>
              <p:nvPr/>
            </p:nvSpPr>
            <p:spPr>
              <a:xfrm>
                <a:off x="1697040" y="4038840"/>
                <a:ext cx="240984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81560" y="3505320"/>
                <a:ext cx="2572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14000 - 4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920680" y="401040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95000" y="2410920"/>
            <a:ext cx="8915400" cy="37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onto de fechamento é o nível de produção abaixo do qual é vantajoso para a empresa o encerramento temporário de suas ativ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fech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95000" y="3719520"/>
            <a:ext cx="8915400" cy="202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nto de fechamento (unidades fís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 = margem de contribuição uni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ustos fixos elimin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fech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743200" y="2286000"/>
            <a:ext cx="3289320" cy="1282680"/>
            <a:chOff x="2743200" y="2286000"/>
            <a:chExt cx="3289320" cy="1282680"/>
          </a:xfrm>
        </p:grpSpPr>
        <p:sp>
          <p:nvSpPr>
            <p:cNvPr id="473" name=""/>
            <p:cNvSpPr/>
            <p:nvPr/>
          </p:nvSpPr>
          <p:spPr>
            <a:xfrm>
              <a:off x="2743200" y="2286000"/>
              <a:ext cx="3289320" cy="128268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10160" y="2631960"/>
              <a:ext cx="934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07840" y="2327400"/>
              <a:ext cx="11538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eli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26720" y="2936880"/>
              <a:ext cx="7239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46480" y="288936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4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4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3" dur="2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6471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= $ 2 / un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fixos = $ 14.000 / 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 elimináveis =  $ 6.000 / 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 não elimináveis = $ 8.000 / 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806120" y="5445000"/>
            <a:ext cx="6112440" cy="1122480"/>
            <a:chOff x="1806120" y="5445000"/>
            <a:chExt cx="6112440" cy="1122480"/>
          </a:xfrm>
        </p:grpSpPr>
        <p:sp>
          <p:nvSpPr>
            <p:cNvPr id="481" name=""/>
            <p:cNvSpPr/>
            <p:nvPr/>
          </p:nvSpPr>
          <p:spPr>
            <a:xfrm>
              <a:off x="1828800" y="5492880"/>
              <a:ext cx="6089760" cy="977760"/>
            </a:xfrm>
            <a:prstGeom prst="roundRect">
              <a:avLst>
                <a:gd name="adj" fmla="val 12495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806120" y="5445000"/>
              <a:ext cx="6021360" cy="1122480"/>
              <a:chOff x="1806120" y="5445000"/>
              <a:chExt cx="6021360" cy="1122480"/>
            </a:xfrm>
          </p:grpSpPr>
          <p:sp>
            <p:nvSpPr>
              <p:cNvPr id="483" name=""/>
              <p:cNvSpPr/>
              <p:nvPr/>
            </p:nvSpPr>
            <p:spPr>
              <a:xfrm>
                <a:off x="1806120" y="5762520"/>
                <a:ext cx="6021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 =                  =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Arial"/>
                  </a:rPr>
                  <a:t>3.000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 un. / an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978280" y="6019920"/>
                <a:ext cx="15555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28760" y="5445000"/>
                <a:ext cx="11962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6.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41320" y="599112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1827000" y="4267080"/>
            <a:ext cx="6097680" cy="1079280"/>
            <a:chOff x="1827000" y="4267080"/>
            <a:chExt cx="6097680" cy="1079280"/>
          </a:xfrm>
        </p:grpSpPr>
        <p:sp>
          <p:nvSpPr>
            <p:cNvPr id="488" name=""/>
            <p:cNvSpPr/>
            <p:nvPr/>
          </p:nvSpPr>
          <p:spPr>
            <a:xfrm>
              <a:off x="1828800" y="4282920"/>
              <a:ext cx="6095880" cy="977760"/>
            </a:xfrm>
            <a:prstGeom prst="roundRect">
              <a:avLst>
                <a:gd name="adj" fmla="val 12495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1827000" y="4267080"/>
              <a:ext cx="5975640" cy="1079280"/>
              <a:chOff x="1827000" y="4267080"/>
              <a:chExt cx="5975640" cy="1079280"/>
            </a:xfrm>
          </p:grpSpPr>
          <p:sp>
            <p:nvSpPr>
              <p:cNvPr id="490" name=""/>
              <p:cNvSpPr/>
              <p:nvPr/>
            </p:nvSpPr>
            <p:spPr>
              <a:xfrm>
                <a:off x="1827000" y="4541400"/>
                <a:ext cx="5975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 =                 = 7.000 un. / an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998800" y="4798440"/>
                <a:ext cx="15555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148920" y="4267080"/>
                <a:ext cx="1422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14.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561840" y="477000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11200" y="209520"/>
            <a:ext cx="5370480" cy="123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resas multiprodut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5000" y="2359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há sentido no rateio de custos indiretos fixos aos produtos para a obtenção do ponto de equilíbr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produto deve cobrir seus custos diretos e a margem de contribuição que sobra propicia a cobertura dos custos indiretos fixos e a geração do luc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0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2" dur="1" fill="hold"/>
                                  <p:tgtEl>
                                    <p:spTgt spid="4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0040" y="380520"/>
            <a:ext cx="537048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sar a rentabilidade dos prod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94040" y="36003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51480" y="36003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016840" y="36003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94040" y="3606840"/>
            <a:ext cx="7920" cy="46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31840" y="4075200"/>
            <a:ext cx="1762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94040" y="40752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01960" y="4075200"/>
            <a:ext cx="127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73480" y="40752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81400" y="4075200"/>
            <a:ext cx="1270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51480" y="40752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59400" y="4075200"/>
            <a:ext cx="1278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37400" y="40752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745320" y="4075200"/>
            <a:ext cx="127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016840" y="407520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24760" y="4075200"/>
            <a:ext cx="1278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383120" y="4095720"/>
            <a:ext cx="8020440" cy="472680"/>
            <a:chOff x="1383120" y="4095720"/>
            <a:chExt cx="8020440" cy="472680"/>
          </a:xfrm>
        </p:grpSpPr>
        <p:sp>
          <p:nvSpPr>
            <p:cNvPr id="514" name=""/>
            <p:cNvSpPr/>
            <p:nvPr/>
          </p:nvSpPr>
          <p:spPr>
            <a:xfrm>
              <a:off x="1383120" y="4095720"/>
              <a:ext cx="11786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receita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78520" y="409572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1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57960" y="409572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4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35960" y="409572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4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21880" y="409572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1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13120" y="4095720"/>
              <a:ext cx="1090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10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370880" y="4556160"/>
            <a:ext cx="7980480" cy="472680"/>
            <a:chOff x="1370880" y="4556160"/>
            <a:chExt cx="7980480" cy="472680"/>
          </a:xfrm>
        </p:grpSpPr>
        <p:sp>
          <p:nvSpPr>
            <p:cNvPr id="521" name=""/>
            <p:cNvSpPr/>
            <p:nvPr/>
          </p:nvSpPr>
          <p:spPr>
            <a:xfrm>
              <a:off x="1370880" y="4556160"/>
              <a:ext cx="831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(%)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14880" y="4556160"/>
              <a:ext cx="785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94320" y="4556160"/>
              <a:ext cx="785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72320" y="4556160"/>
              <a:ext cx="785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58240" y="4556160"/>
              <a:ext cx="785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47680" y="4556160"/>
              <a:ext cx="10036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343160" y="5016600"/>
            <a:ext cx="7930440" cy="472680"/>
            <a:chOff x="1343160" y="5016600"/>
            <a:chExt cx="7930440" cy="472680"/>
          </a:xfrm>
        </p:grpSpPr>
        <p:sp>
          <p:nvSpPr>
            <p:cNvPr id="528" name=""/>
            <p:cNvSpPr/>
            <p:nvPr/>
          </p:nvSpPr>
          <p:spPr>
            <a:xfrm>
              <a:off x="1343160" y="5016600"/>
              <a:ext cx="546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CV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68520" y="5016600"/>
              <a:ext cx="654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7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57960" y="501660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28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35960" y="501660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36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11880" y="5016600"/>
              <a:ext cx="654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9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401320" y="501660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100" spc="-1" strike="noStrike">
                  <a:solidFill>
                    <a:srgbClr val="000099"/>
                  </a:solidFill>
                  <a:latin typeface="Arial"/>
                </a:rPr>
                <a:t>8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352880" y="5477040"/>
            <a:ext cx="7928640" cy="472680"/>
            <a:chOff x="1352880" y="5477040"/>
            <a:chExt cx="7928640" cy="472680"/>
          </a:xfrm>
        </p:grpSpPr>
        <p:sp>
          <p:nvSpPr>
            <p:cNvPr id="535" name=""/>
            <p:cNvSpPr/>
            <p:nvPr/>
          </p:nvSpPr>
          <p:spPr>
            <a:xfrm>
              <a:off x="1352880" y="5477040"/>
              <a:ext cx="612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99"/>
                  </a:solidFill>
                  <a:latin typeface="Arial"/>
                </a:rPr>
                <a:t>MC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76440" y="5477040"/>
              <a:ext cx="654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565880" y="547704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99"/>
                  </a:solidFill>
                  <a:latin typeface="Arial"/>
                </a:rPr>
                <a:t>12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33880" y="5477040"/>
              <a:ext cx="654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19800" y="5477040"/>
              <a:ext cx="654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409240" y="5477040"/>
              <a:ext cx="872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99"/>
                  </a:solidFill>
                  <a:latin typeface="Arial"/>
                </a:rPr>
                <a:t>200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1131840" y="6397560"/>
            <a:ext cx="1762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4040" y="63975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901960" y="6397560"/>
            <a:ext cx="127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73480" y="63975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81400" y="6397560"/>
            <a:ext cx="1270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51480" y="63975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59400" y="6397560"/>
            <a:ext cx="1278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37400" y="63975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45320" y="6397560"/>
            <a:ext cx="127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131840" y="3600360"/>
            <a:ext cx="8188920" cy="2797200"/>
            <a:chOff x="1131840" y="3600360"/>
            <a:chExt cx="8188920" cy="2797200"/>
          </a:xfrm>
        </p:grpSpPr>
        <p:sp>
          <p:nvSpPr>
            <p:cNvPr id="551" name=""/>
            <p:cNvSpPr/>
            <p:nvPr/>
          </p:nvSpPr>
          <p:spPr>
            <a:xfrm>
              <a:off x="1131840" y="3600360"/>
              <a:ext cx="17622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901960" y="3600360"/>
              <a:ext cx="1271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73480" y="360036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81400" y="3600360"/>
              <a:ext cx="1270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59400" y="3600360"/>
              <a:ext cx="1278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37400" y="360036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45320" y="3600360"/>
              <a:ext cx="1271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24760" y="3600360"/>
              <a:ext cx="1278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16840" y="3606840"/>
              <a:ext cx="792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13000" y="3621240"/>
              <a:ext cx="1509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</a:rPr>
                <a:t>Produto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30520" y="3621240"/>
              <a:ext cx="284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05280" y="3621240"/>
              <a:ext cx="284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83280" y="3621240"/>
              <a:ext cx="284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9200" y="3621240"/>
              <a:ext cx="284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79720" y="3621240"/>
              <a:ext cx="941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94040" y="4081320"/>
              <a:ext cx="79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16840" y="4081320"/>
              <a:ext cx="79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94040" y="4541760"/>
              <a:ext cx="79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16840" y="4541760"/>
              <a:ext cx="79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94040" y="5002200"/>
              <a:ext cx="79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16840" y="5002200"/>
              <a:ext cx="79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94040" y="5462640"/>
              <a:ext cx="792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16840" y="5462640"/>
              <a:ext cx="7920" cy="46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94040" y="5931000"/>
              <a:ext cx="7920" cy="4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16840" y="5931000"/>
              <a:ext cx="7920" cy="4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8016840" y="63975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024760" y="6397560"/>
            <a:ext cx="1278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345680" y="5943600"/>
            <a:ext cx="7952040" cy="472680"/>
            <a:chOff x="1345680" y="5943600"/>
            <a:chExt cx="7952040" cy="472680"/>
          </a:xfrm>
        </p:grpSpPr>
        <p:sp>
          <p:nvSpPr>
            <p:cNvPr id="579" name=""/>
            <p:cNvSpPr/>
            <p:nvPr/>
          </p:nvSpPr>
          <p:spPr>
            <a:xfrm>
              <a:off x="1345680" y="5943600"/>
              <a:ext cx="612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Arial"/>
                </a:rPr>
                <a:t>(%)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279600" y="5943600"/>
              <a:ext cx="895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Arial"/>
                </a:rPr>
                <a:t>30 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559040" y="5943600"/>
              <a:ext cx="895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Arial"/>
                </a:rPr>
                <a:t>30 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37040" y="5943600"/>
              <a:ext cx="895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Arial"/>
                </a:rPr>
                <a:t>10 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22960" y="5943600"/>
              <a:ext cx="895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Arial"/>
                </a:rPr>
                <a:t>10 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02400" y="5943600"/>
              <a:ext cx="895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Arial"/>
                </a:rPr>
                <a:t>20 %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4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4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394000" y="2216160"/>
            <a:ext cx="4946760" cy="3422520"/>
            <a:chOff x="2394000" y="2216160"/>
            <a:chExt cx="4946760" cy="3422520"/>
          </a:xfrm>
        </p:grpSpPr>
        <p:sp>
          <p:nvSpPr>
            <p:cNvPr id="587" name=""/>
            <p:cNvSpPr/>
            <p:nvPr/>
          </p:nvSpPr>
          <p:spPr>
            <a:xfrm>
              <a:off x="2394000" y="2216160"/>
              <a:ext cx="0" cy="341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00480" y="5638680"/>
              <a:ext cx="494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475640" y="1860480"/>
            <a:ext cx="183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ic. Ve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705840" y="6127920"/>
            <a:ext cx="173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nt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559880" y="3537000"/>
            <a:ext cx="5698080" cy="393840"/>
            <a:chOff x="1559880" y="3537000"/>
            <a:chExt cx="5698080" cy="393840"/>
          </a:xfrm>
        </p:grpSpPr>
        <p:sp>
          <p:nvSpPr>
            <p:cNvPr id="592" name=""/>
            <p:cNvSpPr/>
            <p:nvPr/>
          </p:nvSpPr>
          <p:spPr>
            <a:xfrm>
              <a:off x="2317680" y="3733920"/>
              <a:ext cx="4940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9880" y="3537000"/>
              <a:ext cx="690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531680" y="2279160"/>
            <a:ext cx="690480" cy="3861360"/>
            <a:chOff x="4531680" y="2279160"/>
            <a:chExt cx="690480" cy="3861360"/>
          </a:xfrm>
        </p:grpSpPr>
        <p:sp>
          <p:nvSpPr>
            <p:cNvPr id="595" name=""/>
            <p:cNvSpPr/>
            <p:nvPr/>
          </p:nvSpPr>
          <p:spPr>
            <a:xfrm flipV="1">
              <a:off x="4870440" y="2279160"/>
              <a:ext cx="0" cy="3441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31680" y="5746680"/>
              <a:ext cx="690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3581280" y="4481640"/>
            <a:ext cx="683280" cy="576360"/>
            <a:chOff x="3581280" y="4481640"/>
            <a:chExt cx="683280" cy="576360"/>
          </a:xfrm>
        </p:grpSpPr>
        <p:sp>
          <p:nvSpPr>
            <p:cNvPr id="598" name=""/>
            <p:cNvSpPr/>
            <p:nvPr/>
          </p:nvSpPr>
          <p:spPr>
            <a:xfrm>
              <a:off x="3581280" y="4724280"/>
              <a:ext cx="133560" cy="146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89000" y="448164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019920" y="4481640"/>
            <a:ext cx="698760" cy="576360"/>
            <a:chOff x="6019920" y="4481640"/>
            <a:chExt cx="698760" cy="576360"/>
          </a:xfrm>
        </p:grpSpPr>
        <p:sp>
          <p:nvSpPr>
            <p:cNvPr id="601" name=""/>
            <p:cNvSpPr/>
            <p:nvPr/>
          </p:nvSpPr>
          <p:spPr>
            <a:xfrm>
              <a:off x="6019920" y="4724280"/>
              <a:ext cx="133200" cy="146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65800" y="44816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114960" y="2195640"/>
            <a:ext cx="603720" cy="576360"/>
            <a:chOff x="6114960" y="2195640"/>
            <a:chExt cx="603720" cy="576360"/>
          </a:xfrm>
        </p:grpSpPr>
        <p:sp>
          <p:nvSpPr>
            <p:cNvPr id="604" name=""/>
            <p:cNvSpPr/>
            <p:nvPr/>
          </p:nvSpPr>
          <p:spPr>
            <a:xfrm>
              <a:off x="6114960" y="2521080"/>
              <a:ext cx="133560" cy="14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265800" y="219564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633400" y="2378160"/>
            <a:ext cx="4941000" cy="3060720"/>
            <a:chOff x="2633400" y="2378160"/>
            <a:chExt cx="4941000" cy="3060720"/>
          </a:xfrm>
        </p:grpSpPr>
        <p:sp>
          <p:nvSpPr>
            <p:cNvPr id="607" name=""/>
            <p:cNvSpPr/>
            <p:nvPr/>
          </p:nvSpPr>
          <p:spPr>
            <a:xfrm>
              <a:off x="7091280" y="2378160"/>
              <a:ext cx="2941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33400" y="242424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33400" y="4862520"/>
              <a:ext cx="51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08840" y="4862520"/>
              <a:ext cx="56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581280" y="2195640"/>
            <a:ext cx="683280" cy="576360"/>
            <a:chOff x="3581280" y="2195640"/>
            <a:chExt cx="683280" cy="576360"/>
          </a:xfrm>
        </p:grpSpPr>
        <p:sp>
          <p:nvSpPr>
            <p:cNvPr id="612" name=""/>
            <p:cNvSpPr/>
            <p:nvPr/>
          </p:nvSpPr>
          <p:spPr>
            <a:xfrm>
              <a:off x="3789000" y="219564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581280" y="2514600"/>
              <a:ext cx="133560" cy="146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3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4267080"/>
            <a:ext cx="2463840" cy="59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81240" y="24400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rgem de contribuição unitária é o preço de venda do produto menos seus custos variáve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c = p - 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 a parcela do preço que está disponível para a cobertura dos custos fixos e para a geração do luc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gem de contribu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11200" y="209520"/>
            <a:ext cx="537048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resas multiproduto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925720" y="3130560"/>
            <a:ext cx="4084560" cy="2430720"/>
            <a:chOff x="2925720" y="3130560"/>
            <a:chExt cx="4084560" cy="2430720"/>
          </a:xfrm>
        </p:grpSpPr>
        <p:sp>
          <p:nvSpPr>
            <p:cNvPr id="616" name=""/>
            <p:cNvSpPr/>
            <p:nvPr/>
          </p:nvSpPr>
          <p:spPr>
            <a:xfrm rot="16200000">
              <a:off x="2204280" y="3895200"/>
              <a:ext cx="1836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artic. Ven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3487680" y="3130560"/>
              <a:ext cx="3522600" cy="2430720"/>
              <a:chOff x="3487680" y="3130560"/>
              <a:chExt cx="3522600" cy="2430720"/>
            </a:xfrm>
          </p:grpSpPr>
          <p:sp>
            <p:nvSpPr>
              <p:cNvPr id="618" name=""/>
              <p:cNvSpPr/>
              <p:nvPr/>
            </p:nvSpPr>
            <p:spPr>
              <a:xfrm>
                <a:off x="3540240" y="3130560"/>
                <a:ext cx="0" cy="19256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546360" y="5062680"/>
                <a:ext cx="34639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433040" y="5167440"/>
                <a:ext cx="1738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Rentabilida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87680" y="3986280"/>
                <a:ext cx="34639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278320" y="3160440"/>
                <a:ext cx="0" cy="19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35320" y="3292560"/>
                <a:ext cx="280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118760" y="3292560"/>
                <a:ext cx="379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I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118400" y="4282920"/>
                <a:ext cx="478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II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935320" y="4282920"/>
                <a:ext cx="5166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IV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1645200" y="1768320"/>
            <a:ext cx="3127320" cy="1590480"/>
            <a:chOff x="1645200" y="1768320"/>
            <a:chExt cx="3127320" cy="1590480"/>
          </a:xfrm>
        </p:grpSpPr>
        <p:sp>
          <p:nvSpPr>
            <p:cNvPr id="628" name=""/>
            <p:cNvSpPr/>
            <p:nvPr/>
          </p:nvSpPr>
          <p:spPr>
            <a:xfrm flipH="1" flipV="1">
              <a:off x="3130560" y="2736360"/>
              <a:ext cx="920880" cy="622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645200" y="1768320"/>
              <a:ext cx="31273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umentar marg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de contribuiçã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527880" y="4654440"/>
            <a:ext cx="2678400" cy="1789920"/>
            <a:chOff x="6527880" y="4654440"/>
            <a:chExt cx="2678400" cy="1789920"/>
          </a:xfrm>
        </p:grpSpPr>
        <p:sp>
          <p:nvSpPr>
            <p:cNvPr id="631" name=""/>
            <p:cNvSpPr/>
            <p:nvPr/>
          </p:nvSpPr>
          <p:spPr>
            <a:xfrm>
              <a:off x="6527880" y="4654440"/>
              <a:ext cx="1720800" cy="825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82600" y="5502240"/>
              <a:ext cx="1723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ument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venda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362640" y="2355840"/>
            <a:ext cx="2557440" cy="1073160"/>
            <a:chOff x="6362640" y="2355840"/>
            <a:chExt cx="2557440" cy="1073160"/>
          </a:xfrm>
        </p:grpSpPr>
        <p:sp>
          <p:nvSpPr>
            <p:cNvPr id="634" name=""/>
            <p:cNvSpPr/>
            <p:nvPr/>
          </p:nvSpPr>
          <p:spPr>
            <a:xfrm flipV="1">
              <a:off x="6362640" y="2965320"/>
              <a:ext cx="1028880" cy="4636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5" name=""/>
            <p:cNvGraphicFramePr/>
            <p:nvPr/>
          </p:nvGraphicFramePr>
          <p:xfrm>
            <a:off x="7543800" y="2355840"/>
            <a:ext cx="1376280" cy="100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43800" y="2355840"/>
                      <a:ext cx="13762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7" name=""/>
          <p:cNvGrpSpPr/>
          <p:nvPr/>
        </p:nvGrpSpPr>
        <p:grpSpPr>
          <a:xfrm>
            <a:off x="1052640" y="4654440"/>
            <a:ext cx="2998440" cy="2003400"/>
            <a:chOff x="1052640" y="4654440"/>
            <a:chExt cx="2998440" cy="2003400"/>
          </a:xfrm>
        </p:grpSpPr>
        <p:sp>
          <p:nvSpPr>
            <p:cNvPr id="638" name=""/>
            <p:cNvSpPr/>
            <p:nvPr/>
          </p:nvSpPr>
          <p:spPr>
            <a:xfrm flipH="1">
              <a:off x="2800080" y="4654440"/>
              <a:ext cx="1251000" cy="749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9" name=""/>
            <p:cNvGraphicFramePr/>
            <p:nvPr/>
          </p:nvGraphicFramePr>
          <p:xfrm>
            <a:off x="1052640" y="5410080"/>
            <a:ext cx="1571400" cy="1247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52640" y="5410080"/>
                      <a:ext cx="1571400" cy="12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144520" y="4448160"/>
            <a:ext cx="4924800" cy="457200"/>
            <a:chOff x="2144520" y="4448160"/>
            <a:chExt cx="4924800" cy="457200"/>
          </a:xfrm>
        </p:grpSpPr>
        <p:sp>
          <p:nvSpPr>
            <p:cNvPr id="48" name=""/>
            <p:cNvSpPr/>
            <p:nvPr/>
          </p:nvSpPr>
          <p:spPr>
            <a:xfrm>
              <a:off x="2144520" y="444816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87280" y="4448160"/>
              <a:ext cx="951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6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116040" y="444816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144160" y="4903920"/>
            <a:ext cx="4935600" cy="457200"/>
            <a:chOff x="2144160" y="4903920"/>
            <a:chExt cx="4935600" cy="457200"/>
          </a:xfrm>
        </p:grpSpPr>
        <p:sp>
          <p:nvSpPr>
            <p:cNvPr id="52" name=""/>
            <p:cNvSpPr/>
            <p:nvPr/>
          </p:nvSpPr>
          <p:spPr>
            <a:xfrm>
              <a:off x="2144160" y="4903920"/>
              <a:ext cx="550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81240" y="4903920"/>
              <a:ext cx="74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4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26480" y="49039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84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73200" y="236808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ual é o melhor produ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71800" y="3505320"/>
            <a:ext cx="954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25800" y="35053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33720" y="3505320"/>
            <a:ext cx="2209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43400" y="350532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1320" y="3505320"/>
            <a:ext cx="2211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25800" y="39736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43400" y="397368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071800" y="3522600"/>
            <a:ext cx="5391000" cy="457200"/>
            <a:chOff x="2071800" y="3522600"/>
            <a:chExt cx="5391000" cy="457200"/>
          </a:xfrm>
        </p:grpSpPr>
        <p:sp>
          <p:nvSpPr>
            <p:cNvPr id="65" name=""/>
            <p:cNvSpPr/>
            <p:nvPr/>
          </p:nvSpPr>
          <p:spPr>
            <a:xfrm>
              <a:off x="3220920" y="3522600"/>
              <a:ext cx="18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roduto 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38880" y="3522600"/>
              <a:ext cx="18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Produto B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071800" y="3973680"/>
              <a:ext cx="5391000" cy="6120"/>
              <a:chOff x="2071800" y="3973680"/>
              <a:chExt cx="5391000" cy="6120"/>
            </a:xfrm>
          </p:grpSpPr>
          <p:sp>
            <p:nvSpPr>
              <p:cNvPr id="68" name=""/>
              <p:cNvSpPr/>
              <p:nvPr/>
            </p:nvSpPr>
            <p:spPr>
              <a:xfrm>
                <a:off x="2071800" y="3973680"/>
                <a:ext cx="9540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33720" y="3973680"/>
                <a:ext cx="22096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51320" y="3973680"/>
                <a:ext cx="2211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276640" y="3990960"/>
            <a:ext cx="4792680" cy="457200"/>
            <a:chOff x="2276640" y="3990960"/>
            <a:chExt cx="4792680" cy="457200"/>
          </a:xfrm>
        </p:grpSpPr>
        <p:sp>
          <p:nvSpPr>
            <p:cNvPr id="72" name=""/>
            <p:cNvSpPr/>
            <p:nvPr/>
          </p:nvSpPr>
          <p:spPr>
            <a:xfrm>
              <a:off x="2276640" y="3990960"/>
              <a:ext cx="21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97000" y="399096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16040" y="399096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2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071800" y="5805360"/>
            <a:ext cx="9540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25800" y="5805360"/>
            <a:ext cx="79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33720" y="5805360"/>
            <a:ext cx="2209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43400" y="5805360"/>
            <a:ext cx="79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1320" y="5805360"/>
            <a:ext cx="2211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057400" y="5361120"/>
            <a:ext cx="5334120" cy="582480"/>
            <a:chOff x="2057400" y="5361120"/>
            <a:chExt cx="5334120" cy="582480"/>
          </a:xfrm>
        </p:grpSpPr>
        <p:grpSp>
          <p:nvGrpSpPr>
            <p:cNvPr id="81" name=""/>
            <p:cNvGrpSpPr/>
            <p:nvPr/>
          </p:nvGrpSpPr>
          <p:grpSpPr>
            <a:xfrm>
              <a:off x="2340000" y="5361120"/>
              <a:ext cx="4682160" cy="457200"/>
              <a:chOff x="2340000" y="5361120"/>
              <a:chExt cx="4682160" cy="457200"/>
            </a:xfrm>
          </p:grpSpPr>
          <p:sp>
            <p:nvSpPr>
              <p:cNvPr id="82" name=""/>
              <p:cNvSpPr/>
              <p:nvPr/>
            </p:nvSpPr>
            <p:spPr>
              <a:xfrm>
                <a:off x="2340000" y="5361120"/>
                <a:ext cx="592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(%)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936240" y="5361120"/>
                <a:ext cx="867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40 %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54200" y="5361120"/>
                <a:ext cx="867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Arial"/>
                  </a:rPr>
                  <a:t>50 %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2057400" y="5943600"/>
              <a:ext cx="533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84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38160" y="1794960"/>
            <a:ext cx="55627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tilização diferenciada da estrutura de produ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76560" y="3208320"/>
            <a:ext cx="2631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8520" y="3208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5000" y="3208320"/>
            <a:ext cx="2060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75640" y="32083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83560" y="3208320"/>
            <a:ext cx="2052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76560" y="3646440"/>
            <a:ext cx="2631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8520" y="3646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15000" y="3646440"/>
            <a:ext cx="2060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75640" y="36464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83560" y="3646440"/>
            <a:ext cx="2052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44560" y="3287880"/>
            <a:ext cx="6711480" cy="2128680"/>
            <a:chOff x="1744560" y="3287880"/>
            <a:chExt cx="6711480" cy="2128680"/>
          </a:xfrm>
        </p:grpSpPr>
        <p:sp>
          <p:nvSpPr>
            <p:cNvPr id="99" name=""/>
            <p:cNvSpPr/>
            <p:nvPr/>
          </p:nvSpPr>
          <p:spPr>
            <a:xfrm>
              <a:off x="4677120" y="3287880"/>
              <a:ext cx="1715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to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40640" y="3287880"/>
              <a:ext cx="1715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to 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44560" y="37274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02200" y="372744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1400" y="372744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2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66160" y="414828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1480" y="4148280"/>
              <a:ext cx="892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6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61400" y="414828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73360" y="4568760"/>
              <a:ext cx="474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78520" y="4568760"/>
              <a:ext cx="694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4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61400" y="456876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84520" y="4989600"/>
              <a:ext cx="554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(%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33880" y="4989600"/>
              <a:ext cx="811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40 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94520" y="4989600"/>
              <a:ext cx="811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50 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025360" y="5410080"/>
            <a:ext cx="5894280" cy="426960"/>
            <a:chOff x="2025360" y="5410080"/>
            <a:chExt cx="5894280" cy="426960"/>
          </a:xfrm>
        </p:grpSpPr>
        <p:sp>
          <p:nvSpPr>
            <p:cNvPr id="114" name=""/>
            <p:cNvSpPr/>
            <p:nvPr/>
          </p:nvSpPr>
          <p:spPr>
            <a:xfrm>
              <a:off x="2025360" y="5410080"/>
              <a:ext cx="2486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produção/ho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410080"/>
              <a:ext cx="829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3 u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9840" y="5410080"/>
              <a:ext cx="829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1 u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176560" y="6215040"/>
            <a:ext cx="2631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8520" y="62150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15000" y="6215040"/>
            <a:ext cx="2060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5640" y="62150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83560" y="6215040"/>
            <a:ext cx="2052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64800" y="5830920"/>
            <a:ext cx="6145560" cy="457200"/>
            <a:chOff x="1864800" y="5830920"/>
            <a:chExt cx="6145560" cy="457200"/>
          </a:xfrm>
        </p:grpSpPr>
        <p:sp>
          <p:nvSpPr>
            <p:cNvPr id="123" name=""/>
            <p:cNvSpPr/>
            <p:nvPr/>
          </p:nvSpPr>
          <p:spPr>
            <a:xfrm>
              <a:off x="1864800" y="5830920"/>
              <a:ext cx="109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mc / h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96440" y="58309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12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57080" y="5830920"/>
              <a:ext cx="95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5240160" y="2664000"/>
            <a:ext cx="2665440" cy="2574720"/>
            <a:chOff x="5240160" y="2664000"/>
            <a:chExt cx="2665440" cy="2574720"/>
          </a:xfrm>
        </p:grpSpPr>
        <p:sp>
          <p:nvSpPr>
            <p:cNvPr id="127" name=""/>
            <p:cNvSpPr/>
            <p:nvPr/>
          </p:nvSpPr>
          <p:spPr>
            <a:xfrm>
              <a:off x="7243560" y="4821120"/>
              <a:ext cx="6620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43560" y="3294000"/>
              <a:ext cx="6620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5000" y="4226040"/>
              <a:ext cx="1520640" cy="101268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93800" y="419904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40160" y="4773600"/>
              <a:ext cx="5018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40160" y="3243240"/>
              <a:ext cx="5018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2690640"/>
              <a:ext cx="1520640" cy="101304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93800" y="266400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208320" y="2670120"/>
            <a:ext cx="1994040" cy="2567160"/>
            <a:chOff x="3208320" y="2670120"/>
            <a:chExt cx="1994040" cy="2567160"/>
          </a:xfrm>
        </p:grpSpPr>
        <p:sp>
          <p:nvSpPr>
            <p:cNvPr id="136" name=""/>
            <p:cNvSpPr/>
            <p:nvPr/>
          </p:nvSpPr>
          <p:spPr>
            <a:xfrm>
              <a:off x="3208320" y="3243240"/>
              <a:ext cx="5018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8320" y="4767120"/>
              <a:ext cx="5018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83160" y="4213080"/>
              <a:ext cx="1519200" cy="102420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72040" y="41911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83160" y="2693880"/>
              <a:ext cx="1519200" cy="10209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0240" y="26701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657440" y="2670120"/>
            <a:ext cx="1517400" cy="2567160"/>
            <a:chOff x="1657440" y="2670120"/>
            <a:chExt cx="1517400" cy="2567160"/>
          </a:xfrm>
        </p:grpSpPr>
        <p:sp>
          <p:nvSpPr>
            <p:cNvPr id="143" name=""/>
            <p:cNvSpPr/>
            <p:nvPr/>
          </p:nvSpPr>
          <p:spPr>
            <a:xfrm>
              <a:off x="1657440" y="2693880"/>
              <a:ext cx="1517400" cy="102096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3360" y="267012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57440" y="4213080"/>
              <a:ext cx="1517400" cy="102420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3360" y="4191120"/>
              <a:ext cx="475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877160" y="2382840"/>
            <a:ext cx="1857240" cy="1584360"/>
            <a:chOff x="7877160" y="2382840"/>
            <a:chExt cx="1857240" cy="1584360"/>
          </a:xfrm>
        </p:grpSpPr>
        <p:sp>
          <p:nvSpPr>
            <p:cNvPr id="148" name=""/>
            <p:cNvSpPr/>
            <p:nvPr/>
          </p:nvSpPr>
          <p:spPr>
            <a:xfrm>
              <a:off x="7877160" y="2382840"/>
              <a:ext cx="1857240" cy="1584360"/>
            </a:xfrm>
            <a:prstGeom prst="roundRect">
              <a:avLst>
                <a:gd name="adj" fmla="val 18310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98160" y="2452680"/>
              <a:ext cx="62172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stem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Syste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877160" y="4133880"/>
            <a:ext cx="1857240" cy="1498680"/>
            <a:chOff x="7877160" y="4133880"/>
            <a:chExt cx="1857240" cy="1498680"/>
          </a:xfrm>
        </p:grpSpPr>
        <p:sp>
          <p:nvSpPr>
            <p:cNvPr id="151" name=""/>
            <p:cNvSpPr/>
            <p:nvPr/>
          </p:nvSpPr>
          <p:spPr>
            <a:xfrm>
              <a:off x="7877160" y="4133880"/>
              <a:ext cx="1857240" cy="1498680"/>
            </a:xfrm>
            <a:prstGeom prst="roundRect">
              <a:avLst>
                <a:gd name="adj" fmla="val 18310"/>
              </a:avLst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600040" y="4173480"/>
              <a:ext cx="64476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stem"/>
                </a:rPr>
                <a:t>P2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2320" y="3048120"/>
            <a:ext cx="1970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$750 /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$300 /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52320" y="4800600"/>
            <a:ext cx="1970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$600 /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$300 /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29760" y="4772160"/>
            <a:ext cx="151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in/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97760" y="3243240"/>
            <a:ext cx="151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in/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97760" y="4761000"/>
            <a:ext cx="151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in/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24920" y="4761000"/>
            <a:ext cx="151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in/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24920" y="3243240"/>
            <a:ext cx="1519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in/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15080" y="323676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in/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79560" y="1752480"/>
            <a:ext cx="5486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al é o melhor produt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80240" y="5486400"/>
            <a:ext cx="59104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= 750 - 300 = $ 450 / unida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= 600 - 300 = $ 300 / unida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ção do sistema: Operaçã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03600" y="33526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70720" y="33526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0200" y="3106800"/>
            <a:ext cx="4636440" cy="505080"/>
            <a:chOff x="4570200" y="3106800"/>
            <a:chExt cx="4636440" cy="505080"/>
          </a:xfrm>
        </p:grpSpPr>
        <p:sp>
          <p:nvSpPr>
            <p:cNvPr id="169" name=""/>
            <p:cNvSpPr/>
            <p:nvPr/>
          </p:nvSpPr>
          <p:spPr>
            <a:xfrm>
              <a:off x="4570200" y="312408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Produto P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37280" y="3106800"/>
              <a:ext cx="216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Produto P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871640" y="3664080"/>
            <a:ext cx="2631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03600" y="37908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0080" y="3664080"/>
            <a:ext cx="2060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70720" y="37908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78640" y="3664080"/>
            <a:ext cx="2052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752120" y="3657600"/>
            <a:ext cx="6965280" cy="487800"/>
            <a:chOff x="1752120" y="3657600"/>
            <a:chExt cx="6965280" cy="487800"/>
          </a:xfrm>
        </p:grpSpPr>
        <p:sp>
          <p:nvSpPr>
            <p:cNvPr id="177" name=""/>
            <p:cNvSpPr/>
            <p:nvPr/>
          </p:nvSpPr>
          <p:spPr>
            <a:xfrm>
              <a:off x="1752120" y="365760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67920" y="365760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75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76120" y="365760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6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51040" y="4191120"/>
            <a:ext cx="6957000" cy="487800"/>
            <a:chOff x="1751040" y="4191120"/>
            <a:chExt cx="6957000" cy="487800"/>
          </a:xfrm>
        </p:grpSpPr>
        <p:sp>
          <p:nvSpPr>
            <p:cNvPr id="181" name=""/>
            <p:cNvSpPr/>
            <p:nvPr/>
          </p:nvSpPr>
          <p:spPr>
            <a:xfrm>
              <a:off x="1751040" y="419112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8560" y="419112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3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6760" y="419112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3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751400" y="4724280"/>
            <a:ext cx="6958080" cy="487800"/>
            <a:chOff x="1751400" y="4724280"/>
            <a:chExt cx="6958080" cy="487800"/>
          </a:xfrm>
        </p:grpSpPr>
        <p:sp>
          <p:nvSpPr>
            <p:cNvPr id="185" name=""/>
            <p:cNvSpPr/>
            <p:nvPr/>
          </p:nvSpPr>
          <p:spPr>
            <a:xfrm>
              <a:off x="1751400" y="4724280"/>
              <a:ext cx="543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60000" y="47242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45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68200" y="4724280"/>
              <a:ext cx="1241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30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751760" y="5257800"/>
            <a:ext cx="6789240" cy="490680"/>
            <a:chOff x="1751760" y="5257800"/>
            <a:chExt cx="6789240" cy="490680"/>
          </a:xfrm>
        </p:grpSpPr>
        <p:sp>
          <p:nvSpPr>
            <p:cNvPr id="189" name=""/>
            <p:cNvSpPr/>
            <p:nvPr/>
          </p:nvSpPr>
          <p:spPr>
            <a:xfrm>
              <a:off x="1751760" y="5260680"/>
              <a:ext cx="633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(%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83120" y="526068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6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15080" y="5257800"/>
              <a:ext cx="925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50 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445400" y="5715000"/>
            <a:ext cx="7268760" cy="557640"/>
            <a:chOff x="1445400" y="5715000"/>
            <a:chExt cx="7268760" cy="557640"/>
          </a:xfrm>
        </p:grpSpPr>
        <p:sp>
          <p:nvSpPr>
            <p:cNvPr id="193" name=""/>
            <p:cNvSpPr/>
            <p:nvPr/>
          </p:nvSpPr>
          <p:spPr>
            <a:xfrm>
              <a:off x="1445400" y="5784840"/>
              <a:ext cx="2800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tempo gargal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18960" y="5715000"/>
              <a:ext cx="128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50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27160" y="5715000"/>
              <a:ext cx="128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30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03600" y="63579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70720" y="6357960"/>
            <a:ext cx="7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28800" y="6172200"/>
            <a:ext cx="6725520" cy="487800"/>
            <a:chOff x="1828800" y="6172200"/>
            <a:chExt cx="6725520" cy="487800"/>
          </a:xfrm>
        </p:grpSpPr>
        <p:sp>
          <p:nvSpPr>
            <p:cNvPr id="199" name=""/>
            <p:cNvSpPr/>
            <p:nvPr/>
          </p:nvSpPr>
          <p:spPr>
            <a:xfrm>
              <a:off x="1828800" y="6172200"/>
              <a:ext cx="1648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mc / m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17680" y="6172200"/>
              <a:ext cx="79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9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38760" y="6172200"/>
              <a:ext cx="1015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10,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73200" y="2897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onto de equilíbrio é o nível de produção onde o lucro é n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19320" y="4343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nto de equilíbrio (unidades fís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 = margem de contribuição uni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 = custos fi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371600" y="456840"/>
            <a:ext cx="537048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o de equilíb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743200" y="2209680"/>
            <a:ext cx="2876400" cy="1282680"/>
            <a:chOff x="2743200" y="2209680"/>
            <a:chExt cx="2876400" cy="1282680"/>
          </a:xfrm>
        </p:grpSpPr>
        <p:sp>
          <p:nvSpPr>
            <p:cNvPr id="207" name=""/>
            <p:cNvSpPr/>
            <p:nvPr/>
          </p:nvSpPr>
          <p:spPr>
            <a:xfrm>
              <a:off x="2743200" y="2209680"/>
              <a:ext cx="2876400" cy="1282680"/>
            </a:xfrm>
            <a:prstGeom prst="rect">
              <a:avLst/>
            </a:prstGeom>
            <a:solidFill>
              <a:srgbClr val="ffff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10880" y="2555640"/>
              <a:ext cx="1018440" cy="576360"/>
            </a:xfrm>
            <a:prstGeom prst="rect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78680" y="2251080"/>
              <a:ext cx="723960" cy="576360"/>
            </a:xfrm>
            <a:prstGeom prst="rect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78680" y="2860560"/>
              <a:ext cx="723960" cy="576360"/>
            </a:xfrm>
            <a:prstGeom prst="rect">
              <a:avLst/>
            </a:prstGeom>
            <a:solidFill>
              <a:srgbClr val="fff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6480" y="2813040"/>
              <a:ext cx="122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9T22:00:00Z</dcterms:created>
  <dc:creator>Adrian C. Ferreira</dc:creator>
  <dc:description/>
  <dc:language>en-US</dc:language>
  <cp:lastModifiedBy>Cezar</cp:lastModifiedBy>
  <dcterms:modified xsi:type="dcterms:W3CDTF">2009-04-08T11:27:28Z</dcterms:modified>
  <cp:revision>30</cp:revision>
  <dc:subject/>
  <dc:title>Princípios de Custeio</dc:title>
</cp:coreProperties>
</file>