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BD6-24C8-4423-B2EA-737D8C4B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D58-0A35-4FCE-91D3-EEFE3458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8CB-4BA8-44D8-A741-23FA2935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995-8437-4F7C-939F-18924ACE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504-2F89-4D45-930B-BFDCBD78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B6B-5CD7-44A6-A520-70775181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B0C-9095-4F4B-A403-550AB167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F72-D2EE-42FB-84D6-C8F2BC25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D0F-025A-47BB-8385-341F1384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125-1CAE-47BD-BFA4-9996DC76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C83-69A7-4D3C-BF40-EF03B6E6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1DE-0707-4A35-91A2-92BADC04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1B31-AA78-41C1-84D6-33DDF439422A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80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0840" y="3715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resentação baseada no livro “Análise gerencial de custos: aplicação em empresas modernas”, de Antonio Cezar B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Variável (Dire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123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custos fix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ão alocados aos prod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 gerencial. Apoio a tomadas de decisões de curto pra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920" y="115560"/>
            <a:ext cx="6421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custeio variá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1756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: 80.000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s fixos: $1.0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s variáveis: $ 4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$ 5,00 / un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.000.000            do perí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5562720"/>
            <a:ext cx="106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3733920"/>
            <a:ext cx="1886040" cy="1124640"/>
            <a:chOff x="2971800" y="3733920"/>
            <a:chExt cx="1886040" cy="1124640"/>
          </a:xfrm>
        </p:grpSpPr>
        <p:sp>
          <p:nvSpPr>
            <p:cNvPr id="89" name=""/>
            <p:cNvSpPr/>
            <p:nvPr/>
          </p:nvSpPr>
          <p:spPr>
            <a:xfrm>
              <a:off x="2971800" y="4257360"/>
              <a:ext cx="18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33720" y="3733920"/>
              <a:ext cx="1568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400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98960" y="4343040"/>
              <a:ext cx="127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80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10840" y="228240"/>
            <a:ext cx="663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p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çã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3200" y="278100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s os custos são alocados aos produtos de acordo com sua utilização eficiente. Os custos mal utilizados (desperdícios) são do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 gerencial. Apoio ao controle e ao processo de melhoria contínua d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11200" y="209520"/>
            <a:ext cx="537048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custei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absorçã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4448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dade: 100.000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: 80.000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s fixos: $1.0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s variáveis: $ 5 / un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 =                   + 5 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$ 15,00 / un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200.000,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erdí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282840" y="4464000"/>
            <a:ext cx="1886040" cy="1125000"/>
            <a:chOff x="3282840" y="4464000"/>
            <a:chExt cx="1886040" cy="1125000"/>
          </a:xfrm>
        </p:grpSpPr>
        <p:sp>
          <p:nvSpPr>
            <p:cNvPr id="97" name=""/>
            <p:cNvSpPr/>
            <p:nvPr/>
          </p:nvSpPr>
          <p:spPr>
            <a:xfrm>
              <a:off x="3282840" y="4987800"/>
              <a:ext cx="18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44760" y="4464000"/>
              <a:ext cx="1766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.000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10360" y="5073480"/>
              <a:ext cx="1469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00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232160" y="6237360"/>
            <a:ext cx="205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14400" y="228240"/>
            <a:ext cx="537048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de Cu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640" y="2438280"/>
            <a:ext cx="5849280" cy="5763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Sistema = Princípio + Mé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7120" y="228240"/>
            <a:ext cx="537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incípios e Mé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504800" y="2971800"/>
            <a:ext cx="7772400" cy="1235160"/>
            <a:chOff x="1504800" y="2971800"/>
            <a:chExt cx="7772400" cy="1235160"/>
          </a:xfrm>
        </p:grpSpPr>
        <p:sp>
          <p:nvSpPr>
            <p:cNvPr id="47" name=""/>
            <p:cNvSpPr/>
            <p:nvPr/>
          </p:nvSpPr>
          <p:spPr>
            <a:xfrm>
              <a:off x="4419720" y="2971800"/>
              <a:ext cx="1942920" cy="123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Times New Roman"/>
                </a:rPr>
                <a:t>Proces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Times New Roman"/>
                </a:rPr>
                <a:t>Produtiv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362640" y="3589200"/>
              <a:ext cx="291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04800" y="3589200"/>
              <a:ext cx="291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2760" y="2971800"/>
              <a:ext cx="194328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Times New Roman"/>
                </a:rPr>
                <a:t>insum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2760" y="3589200"/>
              <a:ext cx="194328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Times New Roman"/>
                </a:rPr>
                <a:t>(custo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40600" y="2971800"/>
              <a:ext cx="194292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Times New Roman"/>
                </a:rPr>
                <a:t>produ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66680" y="4800600"/>
            <a:ext cx="3276720" cy="1371600"/>
          </a:xfrm>
          <a:prstGeom prst="cloudCallout">
            <a:avLst>
              <a:gd name="adj1" fmla="val 11240"/>
              <a:gd name="adj2" fmla="val -100231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is cus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4648320"/>
            <a:ext cx="3429000" cy="1371600"/>
          </a:xfrm>
          <a:prstGeom prst="cloudCallout">
            <a:avLst>
              <a:gd name="adj1" fmla="val 10648"/>
              <a:gd name="adj2" fmla="val -113888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o distribu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9880" y="60958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ncí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15000" y="603576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de Cu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9760" y="2438280"/>
            <a:ext cx="5849280" cy="576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Sistema = Princípio + Mé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3048120"/>
            <a:ext cx="8991720" cy="3662280"/>
            <a:chOff x="914400" y="3048120"/>
            <a:chExt cx="8991720" cy="3662280"/>
          </a:xfrm>
        </p:grpSpPr>
        <p:sp>
          <p:nvSpPr>
            <p:cNvPr id="60" name=""/>
            <p:cNvSpPr/>
            <p:nvPr/>
          </p:nvSpPr>
          <p:spPr>
            <a:xfrm flipH="1">
              <a:off x="2895480" y="3048120"/>
              <a:ext cx="1371600" cy="99036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29400" y="3048120"/>
              <a:ext cx="228600" cy="76176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14400" y="4114800"/>
              <a:ext cx="4114800" cy="25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Quais informaçõe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49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Quais custos?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fixos-variáve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e00"/>
                  </a:solidFill>
                  <a:latin typeface="Arial"/>
                </a:rPr>
                <a:t>ideais-desperdíc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49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Objetivos do sistem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43640" y="3809880"/>
              <a:ext cx="4362480" cy="26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Operacionalizaçã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Como obter a informação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Cálculo do custo (custos indireto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de Cu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6960" y="2971800"/>
            <a:ext cx="5849280" cy="576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Sistema = Princípio + Mé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3565440"/>
            <a:ext cx="9231480" cy="3063960"/>
            <a:chOff x="380880" y="3565440"/>
            <a:chExt cx="9231480" cy="3063960"/>
          </a:xfrm>
        </p:grpSpPr>
        <p:sp>
          <p:nvSpPr>
            <p:cNvPr id="67" name=""/>
            <p:cNvSpPr/>
            <p:nvPr/>
          </p:nvSpPr>
          <p:spPr>
            <a:xfrm flipH="1">
              <a:off x="2361960" y="3565440"/>
              <a:ext cx="2251080" cy="108288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10280" y="3581280"/>
              <a:ext cx="228600" cy="30492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4724280"/>
              <a:ext cx="5832720" cy="15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Custeio variáv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Custeio por absorção integr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Custeio por absorção ide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3962520"/>
              <a:ext cx="336384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Custo padr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RK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UE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Monotype Sorts" charset="2"/>
                <a:buChar char="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et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s de Cu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65240" y="2286000"/>
          <a:ext cx="7991280" cy="43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2286000"/>
                    <a:ext cx="79912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ípios de Custe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eio por absorçã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l (Tot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01920" y="2819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s os custos são alocados aos prod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 contábil: fornecer informações a usuári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26840" y="414000"/>
            <a:ext cx="6421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 - custeio integ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73200" y="2895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ção: 80.000 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s totais: $1.4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 =                  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$ 17,50 / un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211560" y="4267080"/>
            <a:ext cx="1886040" cy="1125360"/>
            <a:chOff x="3211560" y="4267080"/>
            <a:chExt cx="1886040" cy="1125360"/>
          </a:xfrm>
        </p:grpSpPr>
        <p:sp>
          <p:nvSpPr>
            <p:cNvPr id="80" name=""/>
            <p:cNvSpPr/>
            <p:nvPr/>
          </p:nvSpPr>
          <p:spPr>
            <a:xfrm>
              <a:off x="3211560" y="4791240"/>
              <a:ext cx="18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73480" y="4267080"/>
              <a:ext cx="1766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1.400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38720" y="4876920"/>
              <a:ext cx="127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80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9T22:00:00Z</dcterms:created>
  <dc:creator>Adrian C. Ferreira</dc:creator>
  <dc:description/>
  <cp:keywords/>
  <dc:language>en-US</dc:language>
  <cp:lastModifiedBy>Rafael</cp:lastModifiedBy>
  <dcterms:modified xsi:type="dcterms:W3CDTF">2009-03-06T01:09:02Z</dcterms:modified>
  <cp:revision>29</cp:revision>
  <dc:subject/>
  <dc:title>Princípios de Custeio</dc:title>
</cp:coreProperties>
</file>